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Connie%20Francis%20-%20La%20Bamba%20-%20wAV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97A-9745-46BE-8B11-FCB752C4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C66-486D-4C53-8F4F-8ADE78DC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267-8767-4372-8FCC-DB68D0F7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918-71AE-440A-BC1B-FC99A840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5E6-1ACF-4813-B341-ED7E78E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D90-6B60-4DBB-AF1C-1E6BE4BC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B87-D4DE-488E-BF89-46FC56F6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94E-C341-4B59-BF0E-5BA9C231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999-61DD-4186-8F68-D8032EFC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C9F-6694-4895-8FB8-A3F01C1C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C38-2E4B-4082-AE8F-9CCB123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5E9-8C71-4533-9DF0-2F975A3D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DCFD-10FF-450E-9E89-C616BC6A64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onnie%20Francis%20-%20La%20Bamba%20-%20wAV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2079720"/>
            <a:ext cx="648180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st of 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6</a:t>
            </a:r>
            <a:endParaRPr b="0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horz"/>
    <p:sndAc>
      <p:stSnd>
        <p:snd r:embed="rId5" name="Connie%20Francis%20-%20La%20Bamba%20-%20wAV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528480"/>
            <a:ext cx="7632720" cy="5694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7752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600120"/>
            <a:ext cx="7848360" cy="5605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542880"/>
            <a:ext cx="7058160" cy="5772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657360"/>
            <a:ext cx="7848360" cy="5492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606600"/>
            <a:ext cx="7920000" cy="5543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81120"/>
            <a:ext cx="7705800" cy="534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557280"/>
            <a:ext cx="7991280" cy="5592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638280"/>
            <a:ext cx="8280360" cy="5532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695160"/>
            <a:ext cx="835164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458640"/>
            <a:ext cx="7705800" cy="577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684360"/>
            <a:ext cx="7129440" cy="5545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79640" y="602136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458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322200"/>
            <a:ext cx="7632720" cy="6213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19280" y="508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2b110"/>
                </a:solidFill>
                <a:latin typeface="Times New Roman"/>
              </a:rPr>
              <a:t>Beer?@#&amp;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498600"/>
            <a:ext cx="7777080" cy="5754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51264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94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56664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5:45:44Z</dcterms:created>
  <dc:creator/>
  <dc:description/>
  <dc:language>en-US</dc:language>
  <cp:lastModifiedBy>Smets</cp:lastModifiedBy>
  <dcterms:modified xsi:type="dcterms:W3CDTF">2008-10-30T18:40:11Z</dcterms:modified>
  <cp:revision>37</cp:revision>
  <dc:subject/>
  <dc:title>Diapositivo 1</dc:title>
</cp:coreProperties>
</file>