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Connie%20Francis%20-%20La%20Bamba%20-%20wAV.wav" ContentType="audio/x-wav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.jpeg" ContentType="image/jpeg"/>
  <Override PartName="/ppt/media/image4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3.gif" ContentType="image/gif"/>
  <Override PartName="/ppt/media/image14.jpeg" ContentType="image/jpeg"/>
  <Override PartName="/ppt/media/image13.jpeg" ContentType="image/jpe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5997-EA45-4436-8AA9-2871564A4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2EB9-8653-4B62-8DA0-1A161B8B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8945-F5E7-4DD2-8530-EA7CB9A96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66C1-F24A-47B3-A901-C8F633547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F2BA-710A-4AF0-896B-4256095E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6968-A477-4BD3-A5EF-889C3612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DFD0-D74E-4910-A863-01519A46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5A12-A905-4B35-984E-98F1DC3AE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E697-AA40-4EF6-8130-D94104E0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BFA1-DDE1-4B01-AC43-B2777A2E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5DEC-E856-4EE8-B02C-CF1BD47E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31F1-53EF-4EDC-A4D5-FE5B2D92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0FC2-A85F-4F16-A54B-21BBA0AB045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Connie%20Francis%20-%20La%20Bamba%20-%20wAV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58920" y="2079720"/>
            <a:ext cx="6481800" cy="27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est of </a:t>
            </a:r>
            <a:endParaRPr b="0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006</a:t>
            </a:r>
            <a:endParaRPr b="0" lang="en-US" sz="4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omb dir="horz"/>
    <p:sndAc>
      <p:stSnd>
        <p:snd r:embed="rId5" name="Connie%20Francis%20-%20La%20Bamba%20-%20wAV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26920" y="528480"/>
            <a:ext cx="7632720" cy="56944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4360" y="512640"/>
            <a:ext cx="7775280" cy="5832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4360" y="600120"/>
            <a:ext cx="7848360" cy="56055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42920" y="542880"/>
            <a:ext cx="7058160" cy="57722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490160" cy="5616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4360" y="657360"/>
            <a:ext cx="7848360" cy="54925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4360" y="606600"/>
            <a:ext cx="7920000" cy="55432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6920" y="681120"/>
            <a:ext cx="7705800" cy="5346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4360" y="557280"/>
            <a:ext cx="7991280" cy="55926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8360" y="638280"/>
            <a:ext cx="8280360" cy="55324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695160"/>
            <a:ext cx="8351640" cy="5562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26920" y="458640"/>
            <a:ext cx="7705800" cy="5778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490160" cy="5616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42920" y="684360"/>
            <a:ext cx="7129440" cy="5545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979640" y="602136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slow">
    <p:comb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" dur="500" fill="hold"/>
                                        <p:tgtEl>
                                          <p:spTgt spid="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55640" y="458640"/>
            <a:ext cx="7777080" cy="5832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55640" y="322200"/>
            <a:ext cx="7632720" cy="6213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619280" y="5084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2b110"/>
                </a:solidFill>
                <a:latin typeface="Times New Roman"/>
              </a:rPr>
              <a:t>Beer?@#&amp;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5640" y="498600"/>
            <a:ext cx="7777080" cy="57546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11280" y="512640"/>
            <a:ext cx="7848360" cy="5886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5944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00000" y="566640"/>
            <a:ext cx="7488360" cy="5616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26920" y="566640"/>
            <a:ext cx="7561440" cy="5670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9T15:45:44Z</dcterms:created>
  <dc:creator/>
  <dc:description/>
  <dc:language>en-US</dc:language>
  <cp:lastModifiedBy>Smets</cp:lastModifiedBy>
  <dcterms:modified xsi:type="dcterms:W3CDTF">2008-10-30T18:40:11Z</dcterms:modified>
  <cp:revision>37</cp:revision>
  <dc:subject/>
  <dc:title>Diapositivo 1</dc:title>
</cp:coreProperties>
</file>