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299-22B0-4CBA-B440-8EC7675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CA2-100B-4B41-9479-919AB45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BF5-10DA-4DB4-A365-A927F13C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166-11E7-4C44-ABD9-C510697C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000-4045-44F6-B769-2F1D499C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CC7-3499-4A0B-B0F1-A39F09B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277-2CA3-4FCC-984F-3A30F53F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912-DB61-4B51-8003-B12A5BF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070-4217-48C1-B5C3-76A5DBDF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E12-99D2-4C2C-898B-C61ECFA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956-C4DE-4599-911B-5D3313E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C47-9C06-4468-9DCB-FCDC5B8B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15B-9C8B-4080-AB7A-0FBAAF90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YOU TRAVEL THROUGH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327672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travel through life, there are always times when decisions have to be made and when the choices are hard and the solutions seem sca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situations where all you can do is simply let go and move on. Gather your courage and choose a direction that carries you toward a new d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41907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pack up your troubles and take a step forward. The process of change can be tough, but think about all the excitement a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2971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ight be adventures you never imagined waiting around the next bend and wishes and dreams just about to come true, in ways you can’t yet compreh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95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go places you  never expected and see things that you’ve never seen, or travel to fabulous, faraway worlds and wonderful spots in betwe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38095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find warmth and affection and caring and somebody special who’s there to help you stay centered and listen with interest to stories and feelings you sh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7800" y="9140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find comfort in knowing your friends are supportive of all that you do and believe that whatever decisions you make, they’ll be the right choice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05160" y="3733920"/>
            <a:ext cx="3733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keep putting one foot in front of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your life day by day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a brighter tomorrow that’s just down the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look ba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not going that 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76520" y="6248520"/>
            <a:ext cx="538776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8:06:56Z</dcterms:created>
  <dc:creator>www.funnybytes.net</dc:creator>
  <dc:description/>
  <dc:language>en-US</dc:language>
  <cp:lastModifiedBy>Smets</cp:lastModifiedBy>
  <dcterms:modified xsi:type="dcterms:W3CDTF">2008-08-25T20:00:30Z</dcterms:modified>
  <cp:revision>25</cp:revision>
  <dc:subject>LIFE</dc:subject>
  <dc:title>AS YOU TRAVEL THROUGH LIFE</dc:title>
</cp:coreProperties>
</file>