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5BE-4495-4E8E-BBE8-346C63DE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F23-E9D4-408D-82BB-2A85B029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9D5-D09A-4578-A16F-AA86C31F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DD5-FEC3-42BD-90DA-AC5FB3B9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D839-BC75-4795-8630-5DE9F383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8FA-D717-4606-B8B8-28E1C68C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100-9668-4BEF-957B-C69590CC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B2A-CC80-48AC-BF9E-12F33C51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542-8FEA-443E-9091-CF967202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7725-EF26-46BB-86C8-73F5B91E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195-8BE0-4C89-A502-7842CA47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AFE-A0DD-4E5C-B7E5-EC9C0D5D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7EC-070A-46F5-BF3A-3B674EC2E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YOU TRAVEL THROUGH LI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0080" y="327672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you travel through life, there are always times when decisions have to be made and when the choices are hard and the solutions seem scar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some situations where all you can do is simply let go and move on. Gather your courage and choose a direction that carries you toward a new daw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28600" y="4190760"/>
            <a:ext cx="3657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pack up your troubles and take a step forward. The process of change can be tough, but think about all the excitement ahe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880" y="297144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ight be adventures you never imagined waiting around the next bend and wishes and dreams just about to come true, in ways you can’t yet comprehe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6954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83808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go places you  never expected and see things that you’ve never seen, or travel to fabulous, faraway worlds and wonderful spots in betwe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240" y="3809520"/>
            <a:ext cx="441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find warmth and affection and caring and somebody special who’s there to help you stay centered and listen with interest to stories and feelings you sh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57800" y="91404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, you’ll find comfort in knowing your friends are supportive of all that you do and believe that whatever decisions you make, they’ll be the right choices for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105160" y="3733920"/>
            <a:ext cx="3733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keep putting one foot in front of the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your life day by day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’s a brighter tomorrow that’s just down the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look bac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not going that 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05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676520" y="6248520"/>
            <a:ext cx="538776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08:06:56Z</dcterms:created>
  <dc:creator>www.funnybytes.net</dc:creator>
  <dc:description/>
  <dc:language>en-US</dc:language>
  <cp:lastModifiedBy>Smets</cp:lastModifiedBy>
  <dcterms:modified xsi:type="dcterms:W3CDTF">2008-08-25T20:00:30Z</dcterms:modified>
  <cp:revision>25</cp:revision>
  <dc:subject>LIFE</dc:subject>
  <dc:title>AS YOU TRAVEL THROUGH LIFE</dc:title>
</cp:coreProperties>
</file>