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96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76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1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37.jpeg" ContentType="image/jpeg"/>
  <Override PartName="/ppt/media/image1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397-6DBB-4589-B16E-F60AF468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CEC-7D00-4153-886D-38E138DF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C1E-6C8E-4C9F-BD5C-F2C7E52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A1F-7CF3-4C66-B8FC-1E3A382B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605-3286-498E-8D75-A169B10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4ED-EABC-4BF2-B2D0-1AE0A4A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68A-EC96-4A55-9450-B507251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C42-97F4-49B2-9F69-5FD4A8C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BF8-CCB1-4BE6-BF8F-CFF8C227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B3E-F545-4064-92B8-2DB80A35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CD0-700B-4C14-9F39-BF1962D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F78-5E0C-4363-B132-B961821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98FE-76DD-49CC-8DCC-DEC10885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1/Becky/gallery.html?photo=5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bc.go.com/primetime/extrememakeover/images/gallery/ep301/Becky/gallery.html?photo=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8/Mary/gallery.html?photo=2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abc.go.com/primetime/extrememakeover/images/gallery/ep308/Mary/gallery.html?photo=3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8/Valerie/gallery.html?photo=2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abc.go.com/primetime/extrememakeover/images/gallery/ep308/Valerie/gallery.html?photo=3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9/Kim/gallery.html?photo=2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abc.go.com/primetime/extrememakeover/images/gallery/ep309/Kim/gallery.html?photo=3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0/Tess/gallery.html?photo=2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abc.go.com/primetime/extrememakeover/images/gallery/ep310/Tess/gallery.html?photo=3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1/Aimee/gallery.html?photo=2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abc.go.com/primetime/extrememakeover/images/gallery/ep311/Aimee/gallery.html?photo=3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2/Tricia/gallery.html?photo=2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abc.go.com/primetime/extrememakeover/images/gallery/ep312/Tricia/gallery.html?photo=3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12/Kari/gallery.html?photo=2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abc.go.com/primetime/extrememakeover/images/gallery/ep312/Kari/gallery.html?photo=3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abc.go.com/primetime/extrememakeover/images/gallery/ep312/Kari/gallery.html?photo=4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1/Stacy/gallery.html?photo=2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bc.go.com/primetime/extrememakeover/images/gallery/ep301/Stacy/gallery.html?photo=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2/Amy/gallery.html?photo=2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bc.go.com/primetime/extrememakeover/images/gallery/ep302/Amy/gallery.html?photo=4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abc.go.com/primetime/extrememakeover/images/gallery/ep302/Amy/gallery.html?photo=5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3/Jeanene/gallery.html?photo=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abc.go.com/primetime/extrememakeover/images/gallery/ep303/Jeanene/gallery.html?photo=3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abc.go.com/primetime/extrememakeover/images/gallery/ep303/Jeanene/gallery.html?photo=4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19/kacie/gallery.html?photo=3" TargetMode="External"/><Relationship Id="rId2" Type="http://schemas.openxmlformats.org/officeDocument/2006/relationships/image" Target="../media/image99.jpeg"/><Relationship Id="rId3" Type="http://schemas.openxmlformats.org/officeDocument/2006/relationships/hyperlink" Target="http://abc.go.com/primetime/extrememakeover/images/gallery/ep219/kacie/gallery.html?photo=2" TargetMode="External"/><Relationship Id="rId4" Type="http://schemas.openxmlformats.org/officeDocument/2006/relationships/image" Target="../media/image100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0/kristina/gallery.html?photo=2" TargetMode="External"/><Relationship Id="rId2" Type="http://schemas.openxmlformats.org/officeDocument/2006/relationships/image" Target="../media/image101.jpeg"/><Relationship Id="rId3" Type="http://schemas.openxmlformats.org/officeDocument/2006/relationships/hyperlink" Target="http://abc.go.com/primetime/extrememakeover/images/gallery/ep220/kristina/gallery.html?photo=3" TargetMode="External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1/monika/gallery.html?photo=2" TargetMode="External"/><Relationship Id="rId2" Type="http://schemas.openxmlformats.org/officeDocument/2006/relationships/image" Target="../media/image103.jpeg"/><Relationship Id="rId3" Type="http://schemas.openxmlformats.org/officeDocument/2006/relationships/hyperlink" Target="http://abc.go.com/primetime/extrememakeover/images/gallery/ep221/monika/gallery.html?photo=3" TargetMode="External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1/marilynda/gallery.html?photo=2" TargetMode="External"/><Relationship Id="rId2" Type="http://schemas.openxmlformats.org/officeDocument/2006/relationships/image" Target="../media/image105.jpeg"/><Relationship Id="rId3" Type="http://schemas.openxmlformats.org/officeDocument/2006/relationships/hyperlink" Target="http://abc.go.com/primetime/extrememakeover/images/gallery/ep221/marilynda/gallery.html?photo=3" TargetMode="External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222/frances/gallery.html?photo=2" TargetMode="External"/><Relationship Id="rId2" Type="http://schemas.openxmlformats.org/officeDocument/2006/relationships/image" Target="../media/image107.jpeg"/><Relationship Id="rId3" Type="http://schemas.openxmlformats.org/officeDocument/2006/relationships/hyperlink" Target="http://abc.go.com/primetime/extrememakeover/images/gallery/ep222/frances/gallery.html?photo=3" TargetMode="External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gif"/><Relationship Id="rId4" Type="http://schemas.openxmlformats.org/officeDocument/2006/relationships/image" Target="../media/image113.gif"/><Relationship Id="rId5" Type="http://schemas.openxmlformats.org/officeDocument/2006/relationships/image" Target="../media/image114.gif"/><Relationship Id="rId6" Type="http://schemas.openxmlformats.org/officeDocument/2006/relationships/image" Target="../media/image11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3/Lina/gallery.html?photo=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abc.go.com/primetime/extrememakeover/images/gallery/ep303/Lina/gallery.html?photo=4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4/Heather/gallery.html?photo=2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bc.go.com/primetime/extrememakeover/images/gallery/ep304/Heather/gallery.html?photo=3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abc.go.com/primetime/extrememakeover/images/gallery/ep304/Heather/gallery.html?photo=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4/Kristi/gallery.html?photo=2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abc.go.com/primetime/extrememakeover/images/gallery/ep304/Kristi/gallery.html?photo=3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abc.go.com/primetime/extrememakeover/images/gallery/ep304/Kristi/gallery.html?photo=4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5/Elisa/gallery.html?photo=2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abc.go.com/primetime/extrememakeover/images/gallery/ep305/Elisa/gallery.html?photo=3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bc.go.com/primetime/extrememakeover/images/gallery/ep306/Geri/gallery.html?photo=2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abc.go.com/primetime/extrememakeover/images/gallery/ep306/Geri/gallery.html?photo=4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981000"/>
            <a:ext cx="3406680" cy="511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44370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4608360" cy="30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38960" y="549360"/>
            <a:ext cx="3119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4211640" cy="28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773360"/>
            <a:ext cx="4149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907920"/>
            <a:ext cx="3456000" cy="518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86360" y="907920"/>
            <a:ext cx="345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57640" y="98100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89000"/>
            <a:ext cx="4679640" cy="312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9200" y="981000"/>
            <a:ext cx="3071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07920"/>
            <a:ext cx="350388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8680" y="90792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53040" y="765000"/>
            <a:ext cx="33606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299736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73640" y="476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29280" y="404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0920" y="2421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49920" y="1197000"/>
            <a:ext cx="3216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268280"/>
            <a:ext cx="33609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0960" cy="504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33880" y="836640"/>
            <a:ext cx="3408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69040" y="62064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1012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56000" cy="518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9760" y="836640"/>
            <a:ext cx="350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4574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26000" y="907920"/>
            <a:ext cx="345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408480" cy="511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70360" y="1125360"/>
            <a:ext cx="3456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268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3168720" cy="475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3280" y="98100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264120" cy="489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33880" y="1125360"/>
            <a:ext cx="3264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360960" cy="504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92680" y="98100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96880"/>
            <a:ext cx="3787560" cy="2525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429000"/>
            <a:ext cx="371628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907920"/>
            <a:ext cx="34387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254448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6480" y="692280"/>
            <a:ext cx="3071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62600" y="765000"/>
            <a:ext cx="35510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22840" y="836640"/>
            <a:ext cx="3647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20720" y="2421000"/>
            <a:ext cx="2832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60800" y="620640"/>
            <a:ext cx="3697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2766960" cy="414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634000" y="549360"/>
            <a:ext cx="3024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647880" cy="547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46600" y="765000"/>
            <a:ext cx="3695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42000" y="1052640"/>
            <a:ext cx="3456000" cy="518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3503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842000" y="836640"/>
            <a:ext cx="374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42000" y="1052640"/>
            <a:ext cx="360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792240" cy="568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10120" y="765000"/>
            <a:ext cx="37926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645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1125360"/>
            <a:ext cx="3024360" cy="453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676440"/>
            <a:ext cx="41036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9760" y="836640"/>
            <a:ext cx="3648240" cy="54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3648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503880" cy="52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62600" y="1125360"/>
            <a:ext cx="3408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695400" cy="554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00440" y="907920"/>
            <a:ext cx="36975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9760" y="907920"/>
            <a:ext cx="3648240" cy="547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90792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8900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7040" y="907920"/>
            <a:ext cx="3649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9280" y="907920"/>
            <a:ext cx="360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392360" cy="292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692280"/>
            <a:ext cx="3648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464000" cy="2976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83664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535280" cy="3024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5989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89520" y="907920"/>
            <a:ext cx="355284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836640"/>
            <a:ext cx="3408120" cy="511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73640" y="83664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72120" y="692280"/>
            <a:ext cx="3360600" cy="504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270828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436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10120" y="620640"/>
            <a:ext cx="3648240" cy="547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2349360"/>
            <a:ext cx="2687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9228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18240" y="692280"/>
            <a:ext cx="35524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89000"/>
            <a:ext cx="4464000" cy="297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765000"/>
            <a:ext cx="3408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8:58:43Z</dcterms:created>
  <dc:creator>Maria Tencerova</dc:creator>
  <dc:description/>
  <dc:language>en-US</dc:language>
  <cp:lastModifiedBy>Smets</cp:lastModifiedBy>
  <dcterms:modified xsi:type="dcterms:W3CDTF">2009-11-14T07:18:28Z</dcterms:modified>
  <cp:revision>10</cp:revision>
  <dc:subject/>
  <dc:title>Slide 1</dc:title>
</cp:coreProperties>
</file>