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96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76.jpeg" ContentType="image/jpe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7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1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37.jpeg" ContentType="image/jpeg"/>
  <Override PartName="/ppt/media/image1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38F-C9B0-4F7F-9BB2-7A1D802C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815-8EBD-45F0-86F2-80002618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409-424D-4DA7-B3E4-FB7189D2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476-0967-449E-B3BD-23F500B1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311-5C65-4460-8E4D-7D35C68F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05A-26FC-4E4C-906A-35A1EF3F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F18-C1C9-4978-B9D9-D2E80C61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EF1-3CC4-4040-B173-0DBB3619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384-FED0-4048-A9A6-A39A4AD9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75A-BCE9-41FC-8955-8AD3F857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929-518A-46B1-8DD1-EB8656D0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BBD-71A1-43BE-94B4-811ACFA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23BF-ACB2-4A2C-8E4D-57F74DCDE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1/Becky/gallery.html?photo=5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bc.go.com/primetime/extrememakeover/images/gallery/ep301/Becky/gallery.html?photo=2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8/Mary/gallery.html?photo=2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abc.go.com/primetime/extrememakeover/images/gallery/ep308/Mary/gallery.html?photo=3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8/Valerie/gallery.html?photo=2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abc.go.com/primetime/extrememakeover/images/gallery/ep308/Valerie/gallery.html?photo=3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9/Kim/gallery.html?photo=2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abc.go.com/primetime/extrememakeover/images/gallery/ep309/Kim/gallery.html?photo=3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10/Tess/gallery.html?photo=2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abc.go.com/primetime/extrememakeover/images/gallery/ep310/Tess/gallery.html?photo=3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11/Aimee/gallery.html?photo=2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abc.go.com/primetime/extrememakeover/images/gallery/ep311/Aimee/gallery.html?photo=3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12/Tricia/gallery.html?photo=2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abc.go.com/primetime/extrememakeover/images/gallery/ep312/Tricia/gallery.html?photo=3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12/Kari/gallery.html?photo=2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abc.go.com/primetime/extrememakeover/images/gallery/ep312/Kari/gallery.html?photo=3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abc.go.com/primetime/extrememakeover/images/gallery/ep312/Kari/gallery.html?photo=4" TargetMode="External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1/Stacy/gallery.html?photo=2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abc.go.com/primetime/extrememakeover/images/gallery/ep301/Stacy/gallery.html?photo=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2/Amy/gallery.html?photo=2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abc.go.com/primetime/extrememakeover/images/gallery/ep302/Amy/gallery.html?photo=4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abc.go.com/primetime/extrememakeover/images/gallery/ep302/Amy/gallery.html?photo=5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3/Jeanene/gallery.html?photo=2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abc.go.com/primetime/extrememakeover/images/gallery/ep303/Jeanene/gallery.html?photo=3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abc.go.com/primetime/extrememakeover/images/gallery/ep303/Jeanene/gallery.html?photo=4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19/kacie/gallery.html?photo=3" TargetMode="External"/><Relationship Id="rId2" Type="http://schemas.openxmlformats.org/officeDocument/2006/relationships/image" Target="../media/image99.jpeg"/><Relationship Id="rId3" Type="http://schemas.openxmlformats.org/officeDocument/2006/relationships/hyperlink" Target="http://abc.go.com/primetime/extrememakeover/images/gallery/ep219/kacie/gallery.html?photo=2" TargetMode="External"/><Relationship Id="rId4" Type="http://schemas.openxmlformats.org/officeDocument/2006/relationships/image" Target="../media/image100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20/kristina/gallery.html?photo=2" TargetMode="External"/><Relationship Id="rId2" Type="http://schemas.openxmlformats.org/officeDocument/2006/relationships/image" Target="../media/image101.jpeg"/><Relationship Id="rId3" Type="http://schemas.openxmlformats.org/officeDocument/2006/relationships/hyperlink" Target="http://abc.go.com/primetime/extrememakeover/images/gallery/ep220/kristina/gallery.html?photo=3" TargetMode="External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21/monika/gallery.html?photo=2" TargetMode="External"/><Relationship Id="rId2" Type="http://schemas.openxmlformats.org/officeDocument/2006/relationships/image" Target="../media/image103.jpeg"/><Relationship Id="rId3" Type="http://schemas.openxmlformats.org/officeDocument/2006/relationships/hyperlink" Target="http://abc.go.com/primetime/extrememakeover/images/gallery/ep221/monika/gallery.html?photo=3" TargetMode="External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21/marilynda/gallery.html?photo=2" TargetMode="External"/><Relationship Id="rId2" Type="http://schemas.openxmlformats.org/officeDocument/2006/relationships/image" Target="../media/image105.jpeg"/><Relationship Id="rId3" Type="http://schemas.openxmlformats.org/officeDocument/2006/relationships/hyperlink" Target="http://abc.go.com/primetime/extrememakeover/images/gallery/ep221/marilynda/gallery.html?photo=3" TargetMode="External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22/frances/gallery.html?photo=2" TargetMode="External"/><Relationship Id="rId2" Type="http://schemas.openxmlformats.org/officeDocument/2006/relationships/image" Target="../media/image107.jpeg"/><Relationship Id="rId3" Type="http://schemas.openxmlformats.org/officeDocument/2006/relationships/hyperlink" Target="http://abc.go.com/primetime/extrememakeover/images/gallery/ep222/frances/gallery.html?photo=3" TargetMode="External"/><Relationship Id="rId4" Type="http://schemas.openxmlformats.org/officeDocument/2006/relationships/image" Target="../media/image108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gif"/><Relationship Id="rId4" Type="http://schemas.openxmlformats.org/officeDocument/2006/relationships/image" Target="../media/image113.gif"/><Relationship Id="rId5" Type="http://schemas.openxmlformats.org/officeDocument/2006/relationships/image" Target="../media/image114.gif"/><Relationship Id="rId6" Type="http://schemas.openxmlformats.org/officeDocument/2006/relationships/image" Target="../media/image11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3/Lina/gallery.html?photo=2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abc.go.com/primetime/extrememakeover/images/gallery/ep303/Lina/gallery.html?photo=4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4/Heather/gallery.html?photo=2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abc.go.com/primetime/extrememakeover/images/gallery/ep304/Heather/gallery.html?photo=3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abc.go.com/primetime/extrememakeover/images/gallery/ep304/Heather/gallery.html?photo=4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4/Kristi/gallery.html?photo=2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abc.go.com/primetime/extrememakeover/images/gallery/ep304/Kristi/gallery.html?photo=3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abc.go.com/primetime/extrememakeover/images/gallery/ep304/Kristi/gallery.html?photo=4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5/Elisa/gallery.html?photo=2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abc.go.com/primetime/extrememakeover/images/gallery/ep305/Elisa/gallery.html?photo=3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6/Geri/gallery.html?photo=2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abc.go.com/primetime/extrememakeover/images/gallery/ep306/Geri/gallery.html?photo=4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981000"/>
            <a:ext cx="3406680" cy="511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44370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4608360" cy="3071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38960" y="549360"/>
            <a:ext cx="3119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73360"/>
            <a:ext cx="4211640" cy="280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773360"/>
            <a:ext cx="4149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907920"/>
            <a:ext cx="3456000" cy="518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86360" y="907920"/>
            <a:ext cx="3456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052640"/>
            <a:ext cx="3168720" cy="475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57640" y="98100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4679640" cy="312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9200" y="981000"/>
            <a:ext cx="3071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907920"/>
            <a:ext cx="3503880" cy="525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8680" y="90792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53040" y="765000"/>
            <a:ext cx="336060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299736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273640" y="47628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29280" y="40464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050920" y="242100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573280" cy="3861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749920" y="1197000"/>
            <a:ext cx="3216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268280"/>
            <a:ext cx="33609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0960" cy="5042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33880" y="836640"/>
            <a:ext cx="34084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69040" y="62064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360960" cy="504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10120" y="98100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456000" cy="518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9760" y="836640"/>
            <a:ext cx="3503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34574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26000" y="907920"/>
            <a:ext cx="3456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408480" cy="5111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70360" y="1125360"/>
            <a:ext cx="3456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336096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2680" y="98100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3168720" cy="475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13280" y="98100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264120" cy="489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33880" y="1125360"/>
            <a:ext cx="3264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3360960" cy="504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92680" y="98100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596880"/>
            <a:ext cx="3787560" cy="2525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429000"/>
            <a:ext cx="3716280" cy="2478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907920"/>
            <a:ext cx="343872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2544480" cy="381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6480" y="692280"/>
            <a:ext cx="3071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962600" y="765000"/>
            <a:ext cx="35510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22840" y="836640"/>
            <a:ext cx="3647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20720" y="2421000"/>
            <a:ext cx="2832120" cy="424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60800" y="620640"/>
            <a:ext cx="36975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2766960" cy="414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634000" y="549360"/>
            <a:ext cx="3024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647880" cy="547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46600" y="765000"/>
            <a:ext cx="3695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42000" y="1052640"/>
            <a:ext cx="3456000" cy="518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35038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0920" y="2492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842000" y="836640"/>
            <a:ext cx="374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42000" y="1052640"/>
            <a:ext cx="360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792240" cy="568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10120" y="765000"/>
            <a:ext cx="37926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64500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1125360"/>
            <a:ext cx="3024360" cy="453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676440"/>
            <a:ext cx="410364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9760" y="836640"/>
            <a:ext cx="3648240" cy="547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36482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503880" cy="525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62600" y="1125360"/>
            <a:ext cx="34081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695400" cy="554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00440" y="907920"/>
            <a:ext cx="36975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9760" y="907920"/>
            <a:ext cx="3648240" cy="547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907920"/>
            <a:ext cx="36496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89000"/>
            <a:ext cx="4248000" cy="2832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7040" y="907920"/>
            <a:ext cx="36496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29280" y="907920"/>
            <a:ext cx="360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392360" cy="292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692280"/>
            <a:ext cx="36482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4464000" cy="2976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83664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535280" cy="3024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5989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3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89520" y="907920"/>
            <a:ext cx="3552840" cy="532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836640"/>
            <a:ext cx="3408120" cy="5113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73640" y="83664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72120" y="692280"/>
            <a:ext cx="3360600" cy="5041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27082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436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10120" y="620640"/>
            <a:ext cx="3648240" cy="547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19280" y="2349360"/>
            <a:ext cx="2687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69228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18240" y="692280"/>
            <a:ext cx="35524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89000"/>
            <a:ext cx="4464000" cy="297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765000"/>
            <a:ext cx="34081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8:58:43Z</dcterms:created>
  <dc:creator>Maria Tencerova</dc:creator>
  <dc:description/>
  <dc:language>en-US</dc:language>
  <cp:lastModifiedBy>Smets</cp:lastModifiedBy>
  <dcterms:modified xsi:type="dcterms:W3CDTF">2009-11-14T07:18:28Z</dcterms:modified>
  <cp:revision>10</cp:revision>
  <dc:subject/>
  <dc:title>Slide 1</dc:title>
</cp:coreProperties>
</file>