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BONAfullesmortesCharlesTrenet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51A-CF1B-4548-8173-C74B57F7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E3F-1FC2-4721-B74C-060D27A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29C-8C78-4955-89E6-9F5010F1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439-B293-4525-91E6-5D7D6A25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31B-1E45-4E47-BC14-2CF6946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92D-FF3C-4558-AFFC-B4F9F2A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F37-907D-4C3F-A567-2748099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4A4-E047-4BCD-9020-B23C327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AC3-2B61-4D95-9375-F0009B3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ACA-7746-454D-8696-2B5C483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AF0-D71A-4DBD-A0FA-49529486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26F-30E2-4E1C-8200-80FFD74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A6F5-8AAF-4FF8-B3AA-13FF66D3AE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NAfullesmortesCharlesTren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at/regina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4 Grupo"/>
          <p:cNvGrpSpPr/>
          <p:nvPr/>
        </p:nvGrpSpPr>
        <p:grpSpPr>
          <a:xfrm>
            <a:off x="142920" y="1071720"/>
            <a:ext cx="4929120" cy="1214280"/>
            <a:chOff x="142920" y="1071720"/>
            <a:chExt cx="4929120" cy="1214280"/>
          </a:xfrm>
        </p:grpSpPr>
        <p:sp>
          <p:nvSpPr>
            <p:cNvPr id="42" name="12 Rectángulo"/>
            <p:cNvSpPr/>
            <p:nvPr/>
          </p:nvSpPr>
          <p:spPr>
            <a:xfrm>
              <a:off x="142920" y="1071720"/>
              <a:ext cx="4929120" cy="1214280"/>
            </a:xfrm>
            <a:prstGeom prst="rect">
              <a:avLst/>
            </a:prstGeom>
            <a:solidFill>
              <a:srgbClr val="ffffff">
                <a:alpha val="6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WordArt 6"/>
            <p:cNvSpPr txBox="1"/>
            <p:nvPr/>
          </p:nvSpPr>
          <p:spPr>
            <a:xfrm>
              <a:off x="214200" y="1143000"/>
              <a:ext cx="4786560" cy="10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460000"/>
                      </a:gs>
                      <a:gs pos="100000">
                        <a:srgbClr val="cc3300"/>
                      </a:gs>
                    </a:gsLst>
                    <a:lin ang="5400000"/>
                  </a:gradFill>
                  <a:latin typeface="Arial Black"/>
                </a:rPr>
                <a:t>DOMINGO 32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60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4" name="13 CuadroTexto"/>
          <p:cNvSpPr/>
          <p:nvPr/>
        </p:nvSpPr>
        <p:spPr>
          <a:xfrm>
            <a:off x="285840" y="142920"/>
            <a:ext cx="4070160" cy="429120"/>
          </a:xfrm>
          <a:prstGeom prst="rect">
            <a:avLst/>
          </a:prstGeom>
          <a:solidFill>
            <a:srgbClr val="ffe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Times New Roman"/>
              </a:rPr>
              <a:t>Ciclo A evangelio de San Mat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0 Imagen" descr="16195104_10976927w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43680" y="0"/>
            <a:ext cx="38574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85840" y="2857680"/>
            <a:ext cx="4572000" cy="1800360"/>
          </a:xfrm>
          <a:prstGeom prst="rect">
            <a:avLst/>
          </a:prstGeom>
          <a:solidFill>
            <a:srgbClr val="e9c3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La melodía de “Las hojas muertas” de Charles Trenet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oca la VIGILIA, en el otoño de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ONAfullesmortesCharlesTren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8 Imagen" descr="Imagen131w.jpg"/>
          <p:cNvPicPr/>
          <p:nvPr/>
        </p:nvPicPr>
        <p:blipFill>
          <a:blip r:embed="rId1"/>
          <a:srcRect l="0" t="0" r="0" b="4521"/>
          <a:stretch/>
        </p:blipFill>
        <p:spPr>
          <a:xfrm>
            <a:off x="0" y="35712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785960" y="0"/>
            <a:ext cx="735804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Un día Dios nos llamará por el nombre, como nunca nadie nos ha llam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1280" y="4127400"/>
            <a:ext cx="757260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ntonces le reconoceremos a Él, y nos reconoceremos en Él, todos am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643880" y="4035600"/>
            <a:ext cx="1428840" cy="14346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La Madre de Dios dorm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214200" y="771480"/>
            <a:ext cx="8715600" cy="3933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s necias dijeron a las sensatas: "Dadnos un poco de vuestro aceite, que se nos apagan las lámparas." Pero las sensatas contestaron: "Por si acaso no hay bastante para vosotras y nosotras, mejor es que vayáis a la tienda y os lo compréis." Mientras iban a comprarlo, llegó el esposo, y las que estaban preparadas entraron con él al banquete de bodas, y se cerró la pue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4 Imagen" descr="resized_P1110724Aw.jpg"/>
          <p:cNvPicPr/>
          <p:nvPr/>
        </p:nvPicPr>
        <p:blipFill>
          <a:blip r:embed="rId1"/>
          <a:stretch/>
        </p:blipFill>
        <p:spPr>
          <a:xfrm>
            <a:off x="2143080" y="0"/>
            <a:ext cx="692964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3205080"/>
            <a:ext cx="3419640" cy="19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Silenciosamente, se encontraron en la fiesta de la otra oril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714240"/>
            <a:ext cx="3419640" cy="23781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Las que estaban preparadas”, silenciosamente,  atravesa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l 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076720" y="4713120"/>
            <a:ext cx="406728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Fragmento del mosaico cent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539640" y="403200"/>
            <a:ext cx="8136000" cy="4360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ás tarde llegaron también las otras doncellas, diciendo: "Señor, señor, ábrenos." Pero él respondió: "Os lo aseguro: no os conozco." Por tanto, velad, porque no sabéis el día ni la hora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8 Imagen" descr="resized_2009_0411DORMITIOw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40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0" y="44280"/>
            <a:ext cx="9144000" cy="4899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o sabemos el día ni la hora, pero sabemos que vendr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4071960"/>
            <a:ext cx="89647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La vigilia es alegre, porque creemos firmemente que al final viviremos una Fiesta de Bo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641760"/>
            <a:ext cx="607212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Relieve del  Cordero y las vírgenes</a:t>
            </a: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(basílic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Rectángulo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42920" y="357120"/>
            <a:ext cx="7243920" cy="43578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928880" y="1214280"/>
            <a:ext cx="559440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 Jesús, haz que al despertar, podamos contemplarte hasta saciarnos </a:t>
            </a: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(Salmo 16,1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4 Grupo"/>
          <p:cNvGrpSpPr/>
          <p:nvPr/>
        </p:nvGrpSpPr>
        <p:grpSpPr>
          <a:xfrm>
            <a:off x="1714680" y="4008600"/>
            <a:ext cx="7429320" cy="1135080"/>
            <a:chOff x="1714680" y="4008600"/>
            <a:chExt cx="7429320" cy="1135080"/>
          </a:xfrm>
        </p:grpSpPr>
        <p:sp>
          <p:nvSpPr>
            <p:cNvPr id="95" name="Rectangle 5"/>
            <p:cNvSpPr/>
            <p:nvPr/>
          </p:nvSpPr>
          <p:spPr>
            <a:xfrm>
              <a:off x="1714680" y="4008600"/>
              <a:ext cx="7429320" cy="113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2"/>
            <p:cNvSpPr/>
            <p:nvPr/>
          </p:nvSpPr>
          <p:spPr>
            <a:xfrm>
              <a:off x="1858680" y="4138560"/>
              <a:ext cx="7213680" cy="85572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5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s-ES_tradnl" sz="25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2500" spc="-1" strike="noStrike">
                  <a:solidFill>
                    <a:srgbClr val="ffffff"/>
                  </a:solidFill>
                  <a:latin typeface="Arial"/>
                </a:rPr>
                <a:t>onges  de  St. Benet de Montserrat</a:t>
              </a:r>
              <a:br>
                <a:rPr sz="2500"/>
              </a:br>
              <a:r>
                <a:rPr b="0" lang="es-ES" sz="25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monestirsantbenetmontserrat.cat/regin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7" descr="C:\Documents and Settings\st benet\Mis documentos\Fotos\SBw.jpg"/>
            <p:cNvPicPr/>
            <p:nvPr/>
          </p:nvPicPr>
          <p:blipFill>
            <a:blip r:embed="rId2"/>
            <a:stretch/>
          </p:blipFill>
          <p:spPr>
            <a:xfrm>
              <a:off x="2121480" y="4241880"/>
              <a:ext cx="705600" cy="2772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71280" y="642960"/>
            <a:ext cx="9072720" cy="247176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ef642d"/>
                </a:solidFill>
                <a:latin typeface="Arial Unicode MS"/>
              </a:rPr>
              <a:t>     </a:t>
            </a:r>
            <a:r>
              <a:rPr b="1" lang="ca-ES" sz="2800" spc="-1" strike="noStrike">
                <a:solidFill>
                  <a:srgbClr val="cc9900"/>
                </a:solidFill>
                <a:latin typeface="Arial Unicode MS"/>
              </a:rPr>
              <a:t>FINAL del evangelio de San Mate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Como las 10 vírgenes, hay que tener siempre el aceite (amor) a punto </a:t>
            </a:r>
            <a:r>
              <a:rPr b="1" lang="es-ES" sz="2000" spc="-1" strike="noStrike">
                <a:solidFill>
                  <a:srgbClr val="ff0000"/>
                </a:solidFill>
                <a:latin typeface="Arial Unicode MS"/>
              </a:rPr>
              <a:t>(HO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- Haciendo trabajar los dones que hemos recibido (Domingo 3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- FIESTA de CRISTO REY: Lo que hacemos a los demás, se lo hacemos a Dios (Domingo 3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4251240"/>
            <a:ext cx="8244000" cy="12819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9c38b"/>
                </a:solidFill>
                <a:latin typeface="Arial Unicode MS"/>
              </a:rPr>
              <a:t>Lugar donde se cree que murió la Virgen, la 1ª virgen sensata ( "Abadía de la Dormición". Jerusalé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500040" y="500040"/>
            <a:ext cx="8207280" cy="39344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5,1-13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aquel tiempo, dijo Jesús a sus discípulos esta parábola: "Se parecerá el reino de los cielos a diez doncellas que tomaron sus lámparas y salieron a esperar al espo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24360" y="4713120"/>
            <a:ext cx="521964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d89430"/>
                </a:solidFill>
                <a:latin typeface="Arial Unicode MS"/>
              </a:rPr>
              <a:t>Imágenes de la Basílica de la Dorm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pic>
        <p:nvPicPr>
          <p:cNvPr id="52" name="5 Imagen" descr="Imagen128w.jpg"/>
          <p:cNvPicPr/>
          <p:nvPr/>
        </p:nvPicPr>
        <p:blipFill>
          <a:blip r:embed="rId2"/>
          <a:stretch/>
        </p:blipFill>
        <p:spPr>
          <a:xfrm>
            <a:off x="2071800" y="0"/>
            <a:ext cx="700092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0" y="642960"/>
            <a:ext cx="2124000" cy="37486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bemos tener siempre encendida la antorcha de nuestra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4572000"/>
            <a:ext cx="7786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adie nos puede suplir en esta t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00040" y="658800"/>
            <a:ext cx="8136000" cy="2837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nco de ellas eran necias y cinco eran sensat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pic>
        <p:nvPicPr>
          <p:cNvPr id="57" name="6 Imagen" descr="Imagen8.jpg"/>
          <p:cNvPicPr/>
          <p:nvPr/>
        </p:nvPicPr>
        <p:blipFill>
          <a:blip r:embed="rId2"/>
          <a:stretch/>
        </p:blipFill>
        <p:spPr>
          <a:xfrm>
            <a:off x="1012680" y="142920"/>
            <a:ext cx="8131320" cy="5000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000920" y="571680"/>
            <a:ext cx="21430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Buscar siempre evadirse, provoca el vací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500040"/>
            <a:ext cx="1643040" cy="47862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Baldaquino de la cripta. Cristo en medio, y 6 mujeres bíblicas prudentes: Eva, Miriam (Éxodo), Jael, Rut, Judit, y E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 Imagen" descr="Virgin-Mary-Statuew.jpg"/>
          <p:cNvPicPr/>
          <p:nvPr/>
        </p:nvPicPr>
        <p:blipFill>
          <a:blip r:embed="rId3"/>
          <a:stretch/>
        </p:blipFill>
        <p:spPr>
          <a:xfrm>
            <a:off x="6429240" y="3357720"/>
            <a:ext cx="2687760" cy="17859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Text Box 2"/>
          <p:cNvSpPr/>
          <p:nvPr/>
        </p:nvSpPr>
        <p:spPr>
          <a:xfrm>
            <a:off x="571680" y="0"/>
            <a:ext cx="8572320" cy="550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Viviendo atentos, seremos personas sensat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CuadroTexto"/>
          <p:cNvSpPr/>
          <p:nvPr/>
        </p:nvSpPr>
        <p:spPr>
          <a:xfrm>
            <a:off x="6286680" y="3000240"/>
            <a:ext cx="292860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ef642d"/>
                </a:solidFill>
                <a:latin typeface="Arial Unicode MS"/>
              </a:rPr>
              <a:t>Detalle de la Crip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0"/>
          <p:cNvSpPr/>
          <p:nvPr/>
        </p:nvSpPr>
        <p:spPr>
          <a:xfrm>
            <a:off x="733320" y="700200"/>
            <a:ext cx="7677360" cy="420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s necias, al tomar las lámparas, se dejaron el aceite; en cambio, las sensatas se llevaron alcuzas de aceite con las lámpar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515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57160" y="4127400"/>
            <a:ext cx="828684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La vida insensata, en cambio, es tan efímera como un instante, sin dejar ni rast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8400" y="55440"/>
            <a:ext cx="4860720" cy="1007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aceite es el coraje interior que nunca mu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11 Imagen" descr="esterw.jpg"/>
          <p:cNvPicPr/>
          <p:nvPr/>
        </p:nvPicPr>
        <p:blipFill>
          <a:blip r:embed="rId2"/>
          <a:stretch/>
        </p:blipFill>
        <p:spPr>
          <a:xfrm>
            <a:off x="6202440" y="1143000"/>
            <a:ext cx="294156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12 Imagen" descr="miriamw.jpg"/>
          <p:cNvPicPr/>
          <p:nvPr/>
        </p:nvPicPr>
        <p:blipFill>
          <a:blip r:embed="rId3"/>
          <a:stretch/>
        </p:blipFill>
        <p:spPr>
          <a:xfrm>
            <a:off x="0" y="1143000"/>
            <a:ext cx="2857680" cy="2500200"/>
          </a:xfrm>
          <a:prstGeom prst="rect">
            <a:avLst/>
          </a:prstGeom>
          <a:ln w="0">
            <a:noFill/>
          </a:ln>
        </p:spPr>
      </p:pic>
      <p:pic>
        <p:nvPicPr>
          <p:cNvPr id="69" name="16 Imagen" descr="rutw.jpg"/>
          <p:cNvPicPr/>
          <p:nvPr/>
        </p:nvPicPr>
        <p:blipFill>
          <a:blip r:embed="rId4"/>
          <a:stretch/>
        </p:blipFill>
        <p:spPr>
          <a:xfrm>
            <a:off x="3000240" y="1143000"/>
            <a:ext cx="3071880" cy="2500200"/>
          </a:xfrm>
          <a:prstGeom prst="rect">
            <a:avLst/>
          </a:prstGeom>
          <a:ln w="0">
            <a:noFill/>
          </a:ln>
        </p:spPr>
      </p:pic>
      <p:sp>
        <p:nvSpPr>
          <p:cNvPr id="70" name="17 Rectángulo"/>
          <p:cNvSpPr/>
          <p:nvPr/>
        </p:nvSpPr>
        <p:spPr>
          <a:xfrm>
            <a:off x="0" y="3714840"/>
            <a:ext cx="9144000" cy="357120"/>
          </a:xfrm>
          <a:prstGeom prst="rect">
            <a:avLst/>
          </a:prstGeom>
          <a:solidFill>
            <a:srgbClr val="fedd1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8 CuadroTexto"/>
          <p:cNvSpPr/>
          <p:nvPr/>
        </p:nvSpPr>
        <p:spPr>
          <a:xfrm>
            <a:off x="428760" y="3701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María (Éx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9 CuadroTexto"/>
          <p:cNvSpPr/>
          <p:nvPr/>
        </p:nvSpPr>
        <p:spPr>
          <a:xfrm>
            <a:off x="7215120" y="371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071960" y="3714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R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215040" y="142920"/>
            <a:ext cx="2928960" cy="76428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f642d"/>
                </a:solidFill>
                <a:latin typeface="Arial Unicode MS"/>
              </a:rPr>
              <a:t>3 Mujeres sensatas del baldaquí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108000" y="627120"/>
            <a:ext cx="8928000" cy="42544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esposo tardaba, les entró sueño a todas y se durmieron. A medianoche se oyó una voz: "¡Que llega el esposo, salid a recibirlo!" Entonces se despertaron todas aquellas doncellas y se pusieron a preparar sus lámparas.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10-28T17:08:46Z</dcterms:modified>
  <cp:revision>734</cp:revision>
  <dc:subject/>
  <dc:title>evangeli</dc:title>
</cp:coreProperties>
</file>