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5AE-B896-4D1A-A374-051A9649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1A8-7A80-48E3-A533-40F06169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59C-FE93-429D-9507-D14DFD79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82A-9D08-4308-9A23-4D445C25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8F1-E252-4D60-87EA-A14A9738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565-FA91-4DED-9BC6-D0A3E15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777-9CCA-4796-806B-70003CF0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71C-E51F-4AB4-B9F8-68377139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65C-0CB0-4471-B19F-CD8754E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C08-AA61-456C-A0D6-7C92982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FFF-4246-46D8-BF82-D99D9A68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9F0-1174-4C81-9F01-89CE4734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ECE1F-867F-4B34-ACBB-5C35652940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4D5B2-204E-4203-90BC-74DB343BA454}" type="slidenum"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51:13Z</dcterms:created>
  <dc:creator>최봉수</dc:creator>
  <dc:description/>
  <dc:language>en-US</dc:language>
  <cp:lastModifiedBy>맛있다 군만두</cp:lastModifiedBy>
  <dcterms:modified xsi:type="dcterms:W3CDTF">2023-07-13T11:12:58Z</dcterms:modified>
  <cp:revision>3</cp:revision>
  <dc:subject/>
  <dc:title>슬라이드 1</dc:title>
</cp:coreProperties>
</file>