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701-768F-42FF-BBB8-FD0390F8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B1B-7612-4A13-A29A-1652B405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4FD-F2B1-442D-90AD-61584F4F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0D9-EC22-4C08-9D27-2FA66FB8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656-F5D1-4EEA-B267-04EA1A3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F37-10FC-4F1C-9386-256A1746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E1A-AD09-4F12-8855-BFF36041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BAD-9A68-406C-86AD-414E6210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EF1-1342-4B63-A71F-5772ED24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437-42F3-4FE2-8EFE-B9681F50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1D1-77D7-473F-A8A6-3ACE17D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49B-9C0D-4FBA-910F-A610AE1F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898A8-56CD-47EE-B8B9-CD74AE7B8B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5E20E-1FE1-455E-9577-4236DC968536}" type="slidenum">
              <a:rPr b="1" lang="en-US" sz="2000" spc="-1" strike="noStrike">
                <a:solidFill>
                  <a:srgbClr val="ffff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6:51:13Z</dcterms:created>
  <dc:creator>최봉수</dc:creator>
  <dc:description/>
  <dc:language>en-US</dc:language>
  <cp:lastModifiedBy>맛있다 군만두</cp:lastModifiedBy>
  <dcterms:modified xsi:type="dcterms:W3CDTF">2023-07-13T11:12:58Z</dcterms:modified>
  <cp:revision>3</cp:revision>
  <dc:subject/>
  <dc:title>슬라이드 1</dc:title>
</cp:coreProperties>
</file>