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DFDB-3F40-4C78-A2E2-7B80BEE59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77B6-FFC2-4E51-AE14-BBD54909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4544-3393-49C6-96E6-B32AF075D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40CF-3A46-4C65-A538-784DEAEDD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B880-D1FE-45DC-8EE5-15F326E26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BC1C-C959-4987-A9F0-2140BCD7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281A-A972-4B9F-8329-5DC76CBA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2294-1B91-419D-A55A-6E93A687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E34B-27E2-4CAB-A266-01EE36BA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FF4C-850C-43E2-B74C-89457D6F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0AE6E-7059-4446-AEEC-DBB9CE3E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FA33-5697-4BB0-BD8F-35407864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58205-CF8E-45A2-98E7-7B8F3254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C484-5050-45C0-8212-99720C23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507B-B668-48AB-BBA6-FE3A4FA9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628F-4982-481B-97EA-29F570588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495D-BA12-44C1-9641-5F93DEF76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E0281-4ACD-4806-88CC-93C5E5ED6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FA1B9-3F57-4C7B-9A1E-5B7D298C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46ECA-4BBF-4455-B62C-41A303AD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9DB5D-0B8A-4C73-86E6-F3A69B6C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E5BE6-65E7-43C6-BDBD-58F8E7D6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1443-D60F-4FB7-BC62-66D8DDFD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DEFE9-C8E7-4BB3-8738-68AC8735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7A260-9780-4199-9937-6CE67DD6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50020-F4CF-44CB-A07D-6CE68F44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84B6C-59FC-4686-9330-9E24B5A0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FA156-6D3E-4F94-895C-085D534F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EDA5B-47BA-473C-90D5-D98E6BDF3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FE525-2FD6-4C83-BF2C-AE44E36FA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DA5A1-D44B-4EAC-8EA6-8542B4809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39C5B-2720-49AC-8D2C-EDAC6C48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5092B-BF4D-4075-8CC6-17C3A2B7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DA08-F3EE-46BF-8704-91E72299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BFA90-98C4-4DAF-9F47-33ADA89F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F742C-88B3-4FDC-94DE-13ED27C0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540D5-D3A5-4303-BAA0-396A628A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E0165-8878-41D7-94B9-8904CDED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384BC-A7AA-444F-A838-7DFB05D2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319C2-7CDD-463D-BA87-4B68F151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F575E-EB26-45C2-ADA0-ED2DC5B2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807ED-5D80-426F-B117-AD602F305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43DE6-B44E-4E02-BCAF-528E1B6FB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22DE-8061-4DC1-9684-247EB2EE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26F0-4CF5-49A2-8AD6-206D69E1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EAD2-790D-4CEE-93E3-7086BBFB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1E25-2B60-4EA7-87FE-3DB026B0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D8AE-2C13-4C85-92D2-F284B4CE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681D-ABF8-4954-9608-5EC9B0C46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0EB8-E03D-464B-9739-9D3B4B620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89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0C50-489C-49B8-802B-FAA7761ED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133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91EA-7C01-484A-B2EF-82DDB1B2D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junglephotos.com/amazon/amplants/trees/cercropia.shtml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junglephotos.com/amazon/amplants/trees/figtree.shtml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762120" y="475920"/>
            <a:ext cx="769608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mbuh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gkun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k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mbuhan yang berperan sebagai penguk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disi lingkun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9" descr="Read about Amazon trees"/>
          <p:cNvPicPr/>
          <p:nvPr/>
        </p:nvPicPr>
        <p:blipFill>
          <a:blip r:embed="rId1"/>
          <a:stretch/>
        </p:blipFill>
        <p:spPr>
          <a:xfrm>
            <a:off x="4284720" y="9810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Read about Amazon trees"/>
          <p:cNvPicPr/>
          <p:nvPr/>
        </p:nvPicPr>
        <p:blipFill>
          <a:blip r:embed="rId2"/>
          <a:stretch/>
        </p:blipFill>
        <p:spPr>
          <a:xfrm>
            <a:off x="4284720" y="24210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Read about Amazon trees"/>
          <p:cNvPicPr/>
          <p:nvPr/>
        </p:nvPicPr>
        <p:blipFill>
          <a:blip r:embed="rId3"/>
          <a:stretch/>
        </p:blipFill>
        <p:spPr>
          <a:xfrm>
            <a:off x="4356000" y="3933720"/>
            <a:ext cx="52092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59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Hubungan karakteristik tanah dengan indikator tumbuhan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755640" y="1905120"/>
          <a:ext cx="7702560" cy="4162320"/>
        </p:xfrm>
        <a:graphic>
          <a:graphicData uri="http://schemas.openxmlformats.org/drawingml/2006/table">
            <a:tbl>
              <a:tblPr/>
              <a:tblGrid>
                <a:gridCol w="3854520"/>
                <a:gridCol w="384804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kator tumbuh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akteristk tana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vador aleoi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, Bo tingg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zypus nummula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ik untuk pertani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opis harm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ik utk pertanian hrs pakai pengair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ganum harm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ya 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tea monosper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kalinitas tingg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paria decidu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nah alkal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ermasalaha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pa kegunaan tanaman indikator bagi sistem pertania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pa yang terjadi jika tanaman indikator yang digunakan dari kelompok steno, bagaiman dengan yang eur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Jelaskan hubungan timbal balik tanaman lingkunga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Organization Chart 7"/>
          <p:cNvGrpSpPr/>
          <p:nvPr/>
        </p:nvGrpSpPr>
        <p:grpSpPr>
          <a:xfrm>
            <a:off x="752400" y="1874880"/>
            <a:ext cx="7632000" cy="4031280"/>
            <a:chOff x="752400" y="1874880"/>
            <a:chExt cx="7632000" cy="4031280"/>
          </a:xfrm>
        </p:grpSpPr>
        <p:cxnSp>
          <p:nvCxnSpPr>
            <p:cNvPr id="215" name="_s3076"/>
            <p:cNvCxnSpPr>
              <a:stCxn id="216" idx="0"/>
              <a:endCxn id="217" idx="2"/>
            </p:cNvCxnSpPr>
            <p:nvPr/>
          </p:nvCxnSpPr>
          <p:spPr>
            <a:xfrm flipV="1" rot="16200000">
              <a:off x="5500440" y="2553840"/>
              <a:ext cx="806760" cy="2671920"/>
            </a:xfrm>
            <a:prstGeom prst="bentConnector3">
              <a:avLst>
                <a:gd name="adj1" fmla="val 141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3077"/>
            <p:cNvCxnSpPr>
              <a:stCxn id="219" idx="0"/>
              <a:endCxn id="217" idx="2"/>
            </p:cNvCxnSpPr>
            <p:nvPr/>
          </p:nvCxnSpPr>
          <p:spPr>
            <a:xfrm flipV="1">
              <a:off x="4568400" y="3486600"/>
              <a:ext cx="3600" cy="80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0" name="_s3078"/>
            <p:cNvCxnSpPr>
              <a:stCxn id="221" idx="0"/>
              <a:endCxn id="217" idx="2"/>
            </p:cNvCxnSpPr>
            <p:nvPr/>
          </p:nvCxnSpPr>
          <p:spPr>
            <a:xfrm flipH="1" flipV="1" rot="5400000">
              <a:off x="2829600" y="2554200"/>
              <a:ext cx="806760" cy="2671920"/>
            </a:xfrm>
            <a:prstGeom prst="bentConnector3">
              <a:avLst>
                <a:gd name="adj1" fmla="val 141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7" name="_s3079"/>
            <p:cNvSpPr/>
            <p:nvPr/>
          </p:nvSpPr>
          <p:spPr>
            <a:xfrm>
              <a:off x="3423600" y="1874880"/>
              <a:ext cx="2289600" cy="16124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3080"/>
            <p:cNvSpPr/>
            <p:nvPr/>
          </p:nvSpPr>
          <p:spPr>
            <a:xfrm>
              <a:off x="752400" y="4293720"/>
              <a:ext cx="2289600" cy="16124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3081"/>
            <p:cNvSpPr/>
            <p:nvPr/>
          </p:nvSpPr>
          <p:spPr>
            <a:xfrm>
              <a:off x="3423600" y="4293720"/>
              <a:ext cx="2289600" cy="16124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3082"/>
            <p:cNvSpPr/>
            <p:nvPr/>
          </p:nvSpPr>
          <p:spPr>
            <a:xfrm>
              <a:off x="6094800" y="4293720"/>
              <a:ext cx="2289600" cy="16124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" name="Picture 15" descr="cercropia leaf photo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3453120" y="1874880"/>
              <a:ext cx="2199240" cy="162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16" descr="tall fig tree photo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755280" y="4293720"/>
              <a:ext cx="2231280" cy="15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17" descr="chicle photo"/>
            <p:cNvPicPr/>
            <p:nvPr/>
          </p:nvPicPr>
          <p:blipFill>
            <a:blip r:embed="rId5"/>
            <a:stretch/>
          </p:blipFill>
          <p:spPr>
            <a:xfrm>
              <a:off x="3564360" y="4366080"/>
              <a:ext cx="2231280" cy="150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5" name="Picture 18" descr="tall tree (2) photo"/>
          <p:cNvPicPr/>
          <p:nvPr/>
        </p:nvPicPr>
        <p:blipFill>
          <a:blip r:embed="rId6"/>
          <a:stretch/>
        </p:blipFill>
        <p:spPr>
          <a:xfrm>
            <a:off x="6156360" y="4292640"/>
            <a:ext cx="2232000" cy="15127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9"/>
          <p:cNvSpPr/>
          <p:nvPr/>
        </p:nvSpPr>
        <p:spPr>
          <a:xfrm>
            <a:off x="900000" y="333360"/>
            <a:ext cx="712800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mbar dibawah ini menunjukkan perbeda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aman pada lingkungan yang berb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Indikator Mineral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Equisetum speciosa, Thuja sp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tumbuh di tanah yang mengandung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ineral ema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Eriogonium ovalifoliu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tumbuh di tanah yang mengandung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perak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di US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Stelaria setace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tumbuh di tanah yang mengandung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ir raks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di Spanyol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.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stragalus sp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Neptunia amplexicalis, Stanleya pinnata, Onopsis condensato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menunjukkan adanya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Selaniu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23640" y="620640"/>
            <a:ext cx="85690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.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Astragalus sp.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tumbuh di tanah berkandungan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uranium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di USA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.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Viscaria alpina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di Norwegia,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Gymnocolea acutiloba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di Amerika,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Gypsophila patrini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di Rusia tumbuh di tanah yang kandungan Cu nya tinggi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.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Viola calaminara, V. lutea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di Eropa tumbuh di tanah yang mineral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Zinc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nya tinggi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762120" y="404640"/>
            <a:ext cx="7696080" cy="553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i.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Salsola nitrata, Eurotia cerutoide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tumbuh di tanah yang kandungan BO tinggi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j.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Silene cobalticola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di Kongo dan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Nyssa sylvatica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di Amerika tumbuh di tanah dengan kandungan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Cobal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tinggi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k.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Lychnis alpina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di Swedia menunjukkan adanya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Ni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7912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.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Allium, Arabis Oenothera, Atriplex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tumbuh di tanah yang ber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Sulfur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.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Lycium, Juncus, Thalictrum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tumbuh dengan adanya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lithium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(Li)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Vallozia candida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menunjukkan adanya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intan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di Brasilia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i.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Salsola nitrata, Eurotia cerutoide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tumbuh di tanah yang kandungan BO tinggi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761760" y="404640"/>
            <a:ext cx="7986600" cy="553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Silene cobalticola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di Kongo dan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Nyssa sylvatica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di Amerika tumbuh di tanah dengan kandungan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Cobal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tinggi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k.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Lychnis alpina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di Swedia menunjukkan adanya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Ni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.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Allium, Arabis Oenothera, Atriplex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tumbuh di tanah yang ber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Sulfur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.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Lycium, Juncus, Thalictrum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tumbuh dengan adanya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lithium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(Li)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.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Damara orata, Dacrydium aledonicum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di skotlandia tumbuh di tanah mengandung mineral Fe (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Iron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762120" y="836640"/>
            <a:ext cx="769608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.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Flex aquifolium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di Italia tumbuh dengan adanya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Alumunium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Kecuali hal-hal di atas kandungan mineral dalam jaringan tumbuhan dapat menggambarkan bagaimana daur biogeokimianya sehingga dapat juga menggambarkan status lingkungan tempat tumbuhnya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INDIKATOR TUMBUHAN</a:t>
            </a:r>
            <a:endParaRPr b="0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642960" y="2500200"/>
            <a:ext cx="778680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66"/>
                </a:solidFill>
                <a:latin typeface="Arial"/>
              </a:rPr>
              <a:t>TUMBUHAN YANG BERPERAN SEBAGAI PENGUKUR KONDISI LINGKUNGAN TEMPAT TUMBUHNYA (KEKHASAN HABIT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Indikator tumbuha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pSp>
        <p:nvGrpSpPr>
          <p:cNvPr id="183" name="Diagram 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84" name="Diagram 27"/>
          <p:cNvGrpSpPr/>
          <p:nvPr/>
        </p:nvGrpSpPr>
        <p:grpSpPr>
          <a:xfrm>
            <a:off x="2372040" y="2373480"/>
            <a:ext cx="4463280" cy="3840120"/>
            <a:chOff x="2372040" y="2373480"/>
            <a:chExt cx="4463280" cy="3840120"/>
          </a:xfrm>
        </p:grpSpPr>
        <p:sp>
          <p:nvSpPr>
            <p:cNvPr id="185" name="_s1030"/>
            <p:cNvSpPr/>
            <p:nvPr/>
          </p:nvSpPr>
          <p:spPr>
            <a:xfrm>
              <a:off x="3240000" y="2373480"/>
              <a:ext cx="2730600" cy="2700360"/>
            </a:xfrm>
            <a:custGeom>
              <a:avLst/>
              <a:gdLst>
                <a:gd name="textAreaLeft" fmla="*/ 0 w 2730600"/>
                <a:gd name="textAreaRight" fmla="*/ 2730960 w 2730600"/>
                <a:gd name="textAreaTop" fmla="*/ 0 h 2700360"/>
                <a:gd name="textAreaBottom" fmla="*/ 2700720 h 27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1031"/>
            <p:cNvSpPr/>
            <p:nvPr/>
          </p:nvSpPr>
          <p:spPr>
            <a:xfrm rot="7200000">
              <a:off x="3627000" y="2995560"/>
              <a:ext cx="2700360" cy="2731320"/>
            </a:xfrm>
            <a:custGeom>
              <a:avLst/>
              <a:gdLst>
                <a:gd name="textAreaLeft" fmla="*/ 0 w 2700360"/>
                <a:gd name="textAreaRight" fmla="*/ 2700720 w 2700360"/>
                <a:gd name="textAreaTop" fmla="*/ 0 h 2731320"/>
                <a:gd name="textAreaBottom" fmla="*/ 2731320 h 273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1032"/>
            <p:cNvSpPr/>
            <p:nvPr/>
          </p:nvSpPr>
          <p:spPr>
            <a:xfrm rot="14400000">
              <a:off x="2879640" y="2991600"/>
              <a:ext cx="2699640" cy="2731320"/>
            </a:xfrm>
            <a:custGeom>
              <a:avLst/>
              <a:gdLst>
                <a:gd name="textAreaLeft" fmla="*/ 0 w 2699640"/>
                <a:gd name="textAreaRight" fmla="*/ 2700000 w 2699640"/>
                <a:gd name="textAreaTop" fmla="*/ 0 h 2731320"/>
                <a:gd name="textAreaBottom" fmla="*/ 2731320 h 273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1033"/>
            <p:cNvSpPr/>
            <p:nvPr/>
          </p:nvSpPr>
          <p:spPr>
            <a:xfrm>
              <a:off x="5350680" y="2861280"/>
              <a:ext cx="1096200" cy="108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ahoma"/>
                </a:rPr>
                <a:t>LINGKUNGAN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1034"/>
            <p:cNvSpPr/>
            <p:nvPr/>
          </p:nvSpPr>
          <p:spPr>
            <a:xfrm>
              <a:off x="4060080" y="5081040"/>
              <a:ext cx="1096920" cy="108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ahoma"/>
                </a:rPr>
                <a:t>GENOTIP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1035"/>
            <p:cNvSpPr/>
            <p:nvPr/>
          </p:nvSpPr>
          <p:spPr>
            <a:xfrm>
              <a:off x="2760480" y="2868480"/>
              <a:ext cx="1096200" cy="108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ahoma"/>
                </a:rPr>
                <a:t>GEN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Diagram 8"/>
          <p:cNvGrpSpPr/>
          <p:nvPr/>
        </p:nvGrpSpPr>
        <p:grpSpPr>
          <a:xfrm>
            <a:off x="2166480" y="276120"/>
            <a:ext cx="4740840" cy="5120280"/>
            <a:chOff x="2166480" y="276120"/>
            <a:chExt cx="4740840" cy="5120280"/>
          </a:xfrm>
        </p:grpSpPr>
        <p:sp>
          <p:nvSpPr>
            <p:cNvPr id="192" name="_s2052"/>
            <p:cNvSpPr/>
            <p:nvPr/>
          </p:nvSpPr>
          <p:spPr>
            <a:xfrm flipH="1">
              <a:off x="3393360" y="3815640"/>
              <a:ext cx="574920" cy="39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2053"/>
            <p:cNvSpPr/>
            <p:nvPr/>
          </p:nvSpPr>
          <p:spPr>
            <a:xfrm>
              <a:off x="2166480" y="3820680"/>
              <a:ext cx="1317240" cy="1575720"/>
            </a:xfrm>
            <a:prstGeom prst="ellipse">
              <a:avLst/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Utk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ap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2054"/>
            <p:cNvSpPr/>
            <p:nvPr/>
          </p:nvSpPr>
          <p:spPr>
            <a:xfrm>
              <a:off x="5100480" y="3815640"/>
              <a:ext cx="574920" cy="39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2055"/>
            <p:cNvSpPr/>
            <p:nvPr/>
          </p:nvSpPr>
          <p:spPr>
            <a:xfrm>
              <a:off x="5590080" y="3820680"/>
              <a:ext cx="1317240" cy="1575720"/>
            </a:xfrm>
            <a:prstGeom prst="ellipse">
              <a:avLst/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Sifat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tanah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2056"/>
            <p:cNvSpPr/>
            <p:nvPr/>
          </p:nvSpPr>
          <p:spPr>
            <a:xfrm flipV="1">
              <a:off x="4534560" y="1845360"/>
              <a:ext cx="0" cy="795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2057"/>
            <p:cNvSpPr/>
            <p:nvPr/>
          </p:nvSpPr>
          <p:spPr>
            <a:xfrm>
              <a:off x="3878280" y="276120"/>
              <a:ext cx="1317240" cy="1574640"/>
            </a:xfrm>
            <a:prstGeom prst="ellipse">
              <a:avLst/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ahoma"/>
                </a:rPr>
                <a:t>Tan.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700" spc="-1" strike="noStrike">
                  <a:solidFill>
                    <a:srgbClr val="000000"/>
                  </a:solidFill>
                  <a:latin typeface="Tahoma"/>
                </a:rPr>
                <a:t>apa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2058"/>
            <p:cNvSpPr/>
            <p:nvPr/>
          </p:nvSpPr>
          <p:spPr>
            <a:xfrm>
              <a:off x="3878280" y="2640960"/>
              <a:ext cx="1317240" cy="1574640"/>
            </a:xfrm>
            <a:prstGeom prst="ellipse">
              <a:avLst/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ahoma"/>
                </a:rPr>
                <a:t>Guna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 Black"/>
              </a:rPr>
              <a:t>APA YANG DIPERLIHATKAN TBHN INDIKATOR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14200" y="1928880"/>
            <a:ext cx="8740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sies yang menunjukan kehadiran  spesies lain atau (ketidakhadira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es yang menunjukkan adanya perubahan (ekosistem pemimp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sies yang menunjukan akibat negative aktivitas manu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es yang menunjukkan penyediaan biomasaa (jumlah individu per luasan tertent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njukan syarat-syarat lingkungan yang tertentu seperti tanah atau jenis batu terten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kator peringatan dini dari perubahan lingkungan seperti global warming (bioindica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66"/>
                </a:solidFill>
                <a:latin typeface="Arial Black"/>
              </a:rPr>
              <a:t>Azas Tumbuhan Indikator</a:t>
            </a: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Kemungkinan bersifat steno atau eu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pecies yang &gt;&gt;&gt; lbh baik dari species &lt;&lt;&lt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erlu diteliti dulu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unakan petunjuk sebagai indikator (hubungan antara species, populasi dan kopmunitas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Indikator, atau penciri tumbuhan terhadap habitat tertentu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6666"/>
                </a:solidFill>
                <a:latin typeface="Arial"/>
              </a:rPr>
              <a:t>Apa kegunaanny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6666"/>
                </a:solidFill>
                <a:latin typeface="Arial"/>
              </a:rPr>
              <a:t>Jika habitat rusak bagaimana dengan tumbuha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6666"/>
                </a:solidFill>
                <a:latin typeface="Arial"/>
              </a:rPr>
              <a:t>Jelaskan hubungan antara sistem pertanian dengan lingkunganny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edoman tanaman indikator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Kemungkinan bersifat steno atau eu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umbuhan yang memiliki banyak species lebih baik dari pada yang spesies keci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erlu pengamatan ulang di tempat lai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pesies yang banyak hubungannya lebih dapat dipercaya daripada yang sedikit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66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Tipe indikator pertumbuha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1760" y="1844640"/>
            <a:ext cx="3522600" cy="409896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Untuk pertania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Untuk over graz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umbuhan huta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umu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86120" y="1905120"/>
            <a:ext cx="3771720" cy="4038480"/>
          </a:xfrm>
          <a:prstGeom prst="rect">
            <a:avLst/>
          </a:prstGeom>
          <a:solidFill>
            <a:srgbClr val="97cd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aksi tana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iner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elembaban tana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pe tana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7:30:06Z</dcterms:created>
  <dc:creator>Suranta Sebayang, ST. MM.</dc:creator>
  <dc:description/>
  <dc:language>en-US</dc:language>
  <cp:lastModifiedBy>Chairani Hanum</cp:lastModifiedBy>
  <dcterms:modified xsi:type="dcterms:W3CDTF">2011-03-01T03:04:59Z</dcterms:modified>
  <cp:revision>10</cp:revision>
  <dc:subject/>
  <dc:title>Indikator tumbuhan</dc:title>
</cp:coreProperties>
</file>