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05D-A97A-4DED-BC89-CF775363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746-D0AA-4CE0-9D99-1887EB8A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3D6-7355-4EA6-8BB4-D85CF6CD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F59-8713-48CF-82EE-5C555B56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1D85-DB6C-4BAD-B2BB-A15F58EF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592A-4043-4608-9390-DB67DC25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5438-D198-40F0-905C-59A64211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B66D-A182-4F34-9020-BA62AB16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9FAA-00F1-4F7F-ACF2-F5EFA15D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8CDC-E6AF-413B-AAD6-4EE85458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E66A-F5B8-4E32-9C20-70EFED58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DF3-C01B-43AB-8778-E348B44E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A0D-A4E2-4D1B-89F4-96EBD1BB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1B82-2807-45D3-9A7D-203AEA0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DC39-8AE8-476C-92B7-42C09A86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D8C3-464E-4213-903E-04A8FFFA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EA5C-E96E-4250-893A-B54E2B6D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2640-E865-44DC-BB82-3F001408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74494-FB86-409F-A7F8-F425907E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D851-DBB3-469F-ADCD-E7A92520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C53F-9F4E-4DC2-893B-AD186976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D2FF-CA0D-4A1B-A577-D8C54B60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6EF-D2F0-43C2-B0F5-8AA16617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75A7-80C0-4F8D-AB17-646B4922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D13B-A31B-47C1-B952-C69FFC7B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476D-E0A1-4E67-A49B-1A828D92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3C51-A38F-4DBE-8A31-8C9DE1D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D40DE-FCF2-4864-8796-2D44F6A8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7F64-299E-4CB7-A56B-EC43E0B7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73ECE-FF56-4C50-A670-F672C65D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CE03-B247-4E66-BC8F-916E752D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018B-2057-498B-A2AE-1A76A824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55DD1-2E5E-427C-B5D6-7E9BEBF7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0F1-540B-497C-A7D0-067EFDC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7DB3-8FEC-4381-BC78-75ED58B7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F7C1-B2A4-4D0C-BD5A-0E40FC99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79026-2560-4A6A-B2C6-560D2E81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BFFF-F25B-412A-8519-41DBBAA5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A2CD-D91C-4EC6-9591-8759B0DB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1E87-3EF8-4AE2-8F2C-D28AA72E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F197-9228-408B-88D1-04D475A5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75F95-8215-4FB0-93F8-9EA5C26C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51214-73C6-4793-B913-090029CB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7B5-6FEB-4006-BAF4-A06DB3C5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00C-64E9-4E20-BA3E-317135D7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4A4-AA55-4CBC-A5E7-FC651587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469-A2FA-4752-B528-CE29C43E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E74-0BA8-4391-A1E5-99A3F083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6B19-D4D5-45B0-84F7-994F94908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902F-6C3B-4019-909B-2D2F8E636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9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4404-7D0F-4972-9523-AB470D373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33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8720-B1AA-4381-B6B9-F3E709923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junglephotos.com/amazon/amplants/trees/cercropia.s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junglephotos.com/amazon/amplants/trees/figtree.shtml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475920"/>
            <a:ext cx="769608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mbuh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ku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mbuhan yang berperan sebagai penguk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disi lingku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Read about Amazon trees"/>
          <p:cNvPicPr/>
          <p:nvPr/>
        </p:nvPicPr>
        <p:blipFill>
          <a:blip r:embed="rId1"/>
          <a:stretch/>
        </p:blipFill>
        <p:spPr>
          <a:xfrm>
            <a:off x="4284720" y="9810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Read about Amazon trees"/>
          <p:cNvPicPr/>
          <p:nvPr/>
        </p:nvPicPr>
        <p:blipFill>
          <a:blip r:embed="rId2"/>
          <a:stretch/>
        </p:blipFill>
        <p:spPr>
          <a:xfrm>
            <a:off x="4284720" y="24210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Read about Amazon trees"/>
          <p:cNvPicPr/>
          <p:nvPr/>
        </p:nvPicPr>
        <p:blipFill>
          <a:blip r:embed="rId3"/>
          <a:stretch/>
        </p:blipFill>
        <p:spPr>
          <a:xfrm>
            <a:off x="4356000" y="3933720"/>
            <a:ext cx="5209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Hubungan karakteristik tanah dengan indikator tumbuhan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55640" y="1905120"/>
          <a:ext cx="7702560" cy="4162320"/>
        </p:xfrm>
        <a:graphic>
          <a:graphicData uri="http://schemas.openxmlformats.org/drawingml/2006/table">
            <a:tbl>
              <a:tblPr/>
              <a:tblGrid>
                <a:gridCol w="3854520"/>
                <a:gridCol w="38480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kator tumbu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kteristk tan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vador aleoi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, Bo ting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zypus nummul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k untuk pertan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opis har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k utk pertanian hrs pakai pengai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anum har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ya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ea monosp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as ting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aria decid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ah alka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rmasalah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a kegunaan tanaman indikator bagi sistem pertania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a yang terjadi jika tanaman indikator yang digunakan dari kelompok steno, bagaiman dengan yang eur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elaskan hubungan timbal balik tanaman lingkunga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Organization Chart 7"/>
          <p:cNvGrpSpPr/>
          <p:nvPr/>
        </p:nvGrpSpPr>
        <p:grpSpPr>
          <a:xfrm>
            <a:off x="752400" y="1874880"/>
            <a:ext cx="7632000" cy="4031280"/>
            <a:chOff x="752400" y="1874880"/>
            <a:chExt cx="7632000" cy="4031280"/>
          </a:xfrm>
        </p:grpSpPr>
        <p:cxnSp>
          <p:nvCxnSpPr>
            <p:cNvPr id="215" name="_s3076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5500440" y="2553840"/>
              <a:ext cx="806760" cy="2671920"/>
            </a:xfrm>
            <a:prstGeom prst="bentConnector3">
              <a:avLst>
                <a:gd name="adj1" fmla="val 141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077"/>
            <p:cNvCxnSpPr>
              <a:stCxn id="219" idx="0"/>
              <a:endCxn id="217" idx="2"/>
            </p:cNvCxnSpPr>
            <p:nvPr/>
          </p:nvCxnSpPr>
          <p:spPr>
            <a:xfrm flipV="1">
              <a:off x="4568400" y="3486600"/>
              <a:ext cx="3600" cy="80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3078"/>
            <p:cNvCxnSpPr>
              <a:stCxn id="221" idx="0"/>
              <a:endCxn id="217" idx="2"/>
            </p:cNvCxnSpPr>
            <p:nvPr/>
          </p:nvCxnSpPr>
          <p:spPr>
            <a:xfrm flipH="1" flipV="1" rot="5400000">
              <a:off x="2829600" y="2554200"/>
              <a:ext cx="806760" cy="2671920"/>
            </a:xfrm>
            <a:prstGeom prst="bentConnector3">
              <a:avLst>
                <a:gd name="adj1" fmla="val 141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7" name="_s3079"/>
            <p:cNvSpPr/>
            <p:nvPr/>
          </p:nvSpPr>
          <p:spPr>
            <a:xfrm>
              <a:off x="3423600" y="1874880"/>
              <a:ext cx="2289600" cy="1612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080"/>
            <p:cNvSpPr/>
            <p:nvPr/>
          </p:nvSpPr>
          <p:spPr>
            <a:xfrm>
              <a:off x="752400" y="4293720"/>
              <a:ext cx="2289600" cy="1612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3081"/>
            <p:cNvSpPr/>
            <p:nvPr/>
          </p:nvSpPr>
          <p:spPr>
            <a:xfrm>
              <a:off x="3423600" y="4293720"/>
              <a:ext cx="2289600" cy="1612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3082"/>
            <p:cNvSpPr/>
            <p:nvPr/>
          </p:nvSpPr>
          <p:spPr>
            <a:xfrm>
              <a:off x="6094800" y="4293720"/>
              <a:ext cx="2289600" cy="1612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15" descr="cercropia leaf photo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453120" y="1874880"/>
              <a:ext cx="2199240" cy="16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6" descr="tall fig tree phot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55280" y="4293720"/>
              <a:ext cx="2231280" cy="15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7" descr="chicle photo"/>
            <p:cNvPicPr/>
            <p:nvPr/>
          </p:nvPicPr>
          <p:blipFill>
            <a:blip r:embed="rId5"/>
            <a:stretch/>
          </p:blipFill>
          <p:spPr>
            <a:xfrm>
              <a:off x="3564360" y="4366080"/>
              <a:ext cx="2231280" cy="150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" name="Picture 18" descr="tall tree (2) photo"/>
          <p:cNvPicPr/>
          <p:nvPr/>
        </p:nvPicPr>
        <p:blipFill>
          <a:blip r:embed="rId6"/>
          <a:stretch/>
        </p:blipFill>
        <p:spPr>
          <a:xfrm>
            <a:off x="6156360" y="4292640"/>
            <a:ext cx="2232000" cy="15127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9"/>
          <p:cNvSpPr/>
          <p:nvPr/>
        </p:nvSpPr>
        <p:spPr>
          <a:xfrm>
            <a:off x="900000" y="333360"/>
            <a:ext cx="7128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mbar dibawah ini menunjukkan perbed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aman pada lingkungan yang berb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dikator Mine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Equisetum speciosa, Thuja s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tumbuh di tanah yang mengandung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ineral em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Eriogonium ovalifoli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umbuh di tanah yang mengandung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era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di US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telaria setace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umbuh di tanah yang mengandung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ir raks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di Spanyo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stragalus s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Neptunia amplexicalis, Stanleya pinnata, Onopsis condensato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njukkan adany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elani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Astragalus sp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i tanah berkandung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urani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US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iscaria alpin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Norwegia,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Gymnocolea acutilob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Amerika,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Gypsophila patrin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Rusia tumbuh di tanah yang kandungan Cu nya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iola calaminara, V. lute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Eropa tumbuh di tanah yang mineral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Zinc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nya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62120" y="404640"/>
            <a:ext cx="769608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alsola nitrata, Eurotia cerutoid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i tanah yang kandungan BO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ilene cobalticol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Kongo d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Nyssa sylvatic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Amerika tumbuh di tanah dengan kandung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Cobal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ychnis alpin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Swedia menunjukk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N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912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Allium, Arabis Oenothera, Atriple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i tanah yang ber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ycium, Juncus, Thalictr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eng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ithi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Li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allozia candid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menunjukk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inta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Brasili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alsola nitrata, Eurotia cerutoid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i tanah yang kandungan BO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61760" y="404640"/>
            <a:ext cx="798660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ilene cobalticol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Kongo d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Nyssa sylvatic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Amerika tumbuh di tanah dengan kandung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Cobal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ychnis alpin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Swedia menunjukk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N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Allium, Arabis Oenothera, Atriple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i tanah yang ber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ycium, Juncus, Thalictr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eng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ithi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Li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Damara orata, Dacrydium aledonic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skotlandia tumbuh di tanah mengandung mineral Fe (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Ir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2120" y="836640"/>
            <a:ext cx="76960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Flex aquifoli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Italia tumbuh deng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Alumuni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cuali hal-hal di atas kandungan mineral dalam jaringan tumbuhan dapat menggambarkan bagaimana daur biogeokimianya sehingga dapat juga menggambarkan status lingkungan tempat tumbuhnya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INDIKATOR TUMBUHAN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42960" y="2500200"/>
            <a:ext cx="77868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TUMBUHAN YANG BERPERAN SEBAGAI PENGUKUR KONDISI LINGKUNGAN TEMPAT TUMBUHNYA (KEKHASAN HABI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dikator tumbuh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83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4" name="Diagram 27"/>
          <p:cNvGrpSpPr/>
          <p:nvPr/>
        </p:nvGrpSpPr>
        <p:grpSpPr>
          <a:xfrm>
            <a:off x="2372040" y="2373480"/>
            <a:ext cx="4463280" cy="3840120"/>
            <a:chOff x="2372040" y="2373480"/>
            <a:chExt cx="4463280" cy="3840120"/>
          </a:xfrm>
        </p:grpSpPr>
        <p:sp>
          <p:nvSpPr>
            <p:cNvPr id="185" name="_s1030"/>
            <p:cNvSpPr/>
            <p:nvPr/>
          </p:nvSpPr>
          <p:spPr>
            <a:xfrm>
              <a:off x="3240000" y="2373480"/>
              <a:ext cx="2730600" cy="2700360"/>
            </a:xfrm>
            <a:custGeom>
              <a:avLst/>
              <a:gdLst>
                <a:gd name="textAreaLeft" fmla="*/ 0 w 2730600"/>
                <a:gd name="textAreaRight" fmla="*/ 2730960 w 2730600"/>
                <a:gd name="textAreaTop" fmla="*/ 0 h 2700360"/>
                <a:gd name="textAreaBottom" fmla="*/ 2700720 h 27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031"/>
            <p:cNvSpPr/>
            <p:nvPr/>
          </p:nvSpPr>
          <p:spPr>
            <a:xfrm rot="7200000">
              <a:off x="3627000" y="2995560"/>
              <a:ext cx="2700360" cy="2731320"/>
            </a:xfrm>
            <a:custGeom>
              <a:avLst/>
              <a:gdLst>
                <a:gd name="textAreaLeft" fmla="*/ 0 w 2700360"/>
                <a:gd name="textAreaRight" fmla="*/ 2700720 w 2700360"/>
                <a:gd name="textAreaTop" fmla="*/ 0 h 2731320"/>
                <a:gd name="textAreaBottom" fmla="*/ 2731320 h 273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032"/>
            <p:cNvSpPr/>
            <p:nvPr/>
          </p:nvSpPr>
          <p:spPr>
            <a:xfrm rot="14400000">
              <a:off x="2879640" y="2991600"/>
              <a:ext cx="2699640" cy="2731320"/>
            </a:xfrm>
            <a:custGeom>
              <a:avLst/>
              <a:gdLst>
                <a:gd name="textAreaLeft" fmla="*/ 0 w 2699640"/>
                <a:gd name="textAreaRight" fmla="*/ 2700000 w 2699640"/>
                <a:gd name="textAreaTop" fmla="*/ 0 h 2731320"/>
                <a:gd name="textAreaBottom" fmla="*/ 2731320 h 273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033"/>
            <p:cNvSpPr/>
            <p:nvPr/>
          </p:nvSpPr>
          <p:spPr>
            <a:xfrm>
              <a:off x="5350680" y="2861280"/>
              <a:ext cx="109620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LINGKUNGAN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034"/>
            <p:cNvSpPr/>
            <p:nvPr/>
          </p:nvSpPr>
          <p:spPr>
            <a:xfrm>
              <a:off x="4060080" y="5081040"/>
              <a:ext cx="109692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GENOTIP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035"/>
            <p:cNvSpPr/>
            <p:nvPr/>
          </p:nvSpPr>
          <p:spPr>
            <a:xfrm>
              <a:off x="2760480" y="2868480"/>
              <a:ext cx="109620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GE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Diagram 8"/>
          <p:cNvGrpSpPr/>
          <p:nvPr/>
        </p:nvGrpSpPr>
        <p:grpSpPr>
          <a:xfrm>
            <a:off x="2166480" y="276120"/>
            <a:ext cx="4740840" cy="5120280"/>
            <a:chOff x="2166480" y="276120"/>
            <a:chExt cx="4740840" cy="5120280"/>
          </a:xfrm>
        </p:grpSpPr>
        <p:sp>
          <p:nvSpPr>
            <p:cNvPr id="192" name="_s2052"/>
            <p:cNvSpPr/>
            <p:nvPr/>
          </p:nvSpPr>
          <p:spPr>
            <a:xfrm flipH="1">
              <a:off x="3393360" y="3815640"/>
              <a:ext cx="574920" cy="3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3"/>
            <p:cNvSpPr/>
            <p:nvPr/>
          </p:nvSpPr>
          <p:spPr>
            <a:xfrm>
              <a:off x="2166480" y="3820680"/>
              <a:ext cx="1317240" cy="157572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Ut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ap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54"/>
            <p:cNvSpPr/>
            <p:nvPr/>
          </p:nvSpPr>
          <p:spPr>
            <a:xfrm>
              <a:off x="5100480" y="3815640"/>
              <a:ext cx="574920" cy="3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5"/>
            <p:cNvSpPr/>
            <p:nvPr/>
          </p:nvSpPr>
          <p:spPr>
            <a:xfrm>
              <a:off x="5590080" y="3820680"/>
              <a:ext cx="1317240" cy="157572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Sifat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tanah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2056"/>
            <p:cNvSpPr/>
            <p:nvPr/>
          </p:nvSpPr>
          <p:spPr>
            <a:xfrm flipV="1">
              <a:off x="4534560" y="1845360"/>
              <a:ext cx="0" cy="79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57"/>
            <p:cNvSpPr/>
            <p:nvPr/>
          </p:nvSpPr>
          <p:spPr>
            <a:xfrm>
              <a:off x="3878280" y="276120"/>
              <a:ext cx="1317240" cy="1574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Tan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ap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3878280" y="2640960"/>
              <a:ext cx="1317240" cy="1574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Gun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APA YANG DIPERLIHATKAN TBHN INDIKATOR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4200" y="1928880"/>
            <a:ext cx="874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sies yang menunjukan kehadiran  spesies lain atau (ketidakhadir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yang menunjukkan adanya perubahan (ekosistem pemimp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sies yang menunjukan akibat negative aktivitas manu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yang menunjukkan penyediaan biomasaa (jumlah individu per luasan terten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njukan syarat-syarat lingkungan yang tertentu seperti tanah atau jenis batu tert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kator peringatan dini dari perubahan lingkungan seperti global warming (bioindic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 Black"/>
              </a:rPr>
              <a:t>Azas Tumbuhan Indikator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mungkinan bersifat steno atau eu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ies yang &gt;&gt;&gt; lbh baik dari species &lt;&lt;&lt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lu diteliti dul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unakan petunjuk sebagai indikator (hubungan antara species, populasi dan kopmunita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ndikator, atau penciri tumbuhan terhadap habitat tertentu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Apa kegunaanny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Jika habitat rusak bagaimana dengan tumbuha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Jelaskan hubungan antara sistem pertanian dengan lingkunganny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doman tanaman indikato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mungkinan bersifat steno atau eu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umbuhan yang memiliki banyak species lebih baik dari pada yang spesies keci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lu pengamatan ulang di tempat la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sies yang banyak hubungannya lebih dapat dipercaya daripada yang sediki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ipe indikator pertumbuh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1844640"/>
            <a:ext cx="3522600" cy="4098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tuk pertani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tuk over graz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umbuhan hut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um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solidFill>
            <a:srgbClr val="97cd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ksi tana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lembaban tana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pe tana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7:30:06Z</dcterms:created>
  <dc:creator>Suranta Sebayang, ST. MM.</dc:creator>
  <dc:description/>
  <dc:language>en-US</dc:language>
  <cp:lastModifiedBy>Chairani Hanum</cp:lastModifiedBy>
  <dcterms:modified xsi:type="dcterms:W3CDTF">2011-03-01T03:04:59Z</dcterms:modified>
  <cp:revision>10</cp:revision>
  <dc:subject/>
  <dc:title>Indikator tumbuhan</dc:title>
</cp:coreProperties>
</file>