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jpeg" ContentType="image/jpeg"/>
  <Override PartName="/ppt/media/image8.wmf" ContentType="image/x-wmf"/>
  <Override PartName="/ppt/media/image13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624-FC49-4988-AE10-176905B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50A-9BB9-4C73-93C3-95810C84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F27-C342-4156-B4F5-3CA7284E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B7FD-BF1F-4E48-9490-8D83BDC4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833-BFE2-4824-9289-C0907B4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6D0-E9F3-471E-8286-A9192942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EDD-8E61-45EE-A031-42DAD78F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71F-9F1E-4847-A0BD-8943B08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369-453E-4477-8274-4A7FF937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7BE0-CE9B-4D0E-B973-10BFCCED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808-785B-47A4-89B3-DCAEE4D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7E9-87CA-472D-852E-309EBB06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57F-7D95-4F37-9E06-81B4882BB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1295280"/>
            <a:ext cx="489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omic Sans MS"/>
                <a:cs typeface="Times New Roman"/>
              </a:rPr>
              <a:t>الأسئلة الأربعة القادمة تحدد ما إذا كنت من المتخصصين أم لا</a:t>
            </a:r>
            <a:r>
              <a:rPr b="1" lang="ar-SA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omic Sans MS"/>
                <a:cs typeface="Times New Roman"/>
              </a:rPr>
              <a:t>الأسئلة ليست في غاية الصعوبة, فلا تبحث عن الأجابة قبل المحاوله</a:t>
            </a:r>
            <a:r>
              <a:rPr b="1" lang="ar-SA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!!!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7680" y="1332000"/>
            <a:ext cx="717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Arial"/>
              </a:rPr>
              <a:t>جواب صحيح: تعبر النهر سباحة. جميع التماسيح مشغولة في إجتماع الحيو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اختبار يبين ما إذا كنت تتعلم من أخطائك أم لا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e07184_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458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5736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لاتهتم, تشير الدراسات الى ا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90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% من الاختصاصيين الذين جرٌبوا هذا الاختبار لم يجيبوا على اي من الاسئله السابقه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ولكنها أفادة أيضا بأن كثيرا من طلبة الروضة حققوا الأجابات الصحيحه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وهذه الدراسة تفند النظرية التي تقول بأن كثير من المتخصصين يملكون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عقل طفل في الرابعة من عمره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6680" y="2203560"/>
            <a:ext cx="487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rial"/>
              </a:rPr>
              <a:t>بإمكان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rial"/>
              </a:rPr>
              <a:t>إكتش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rial"/>
              </a:rPr>
              <a:t>قدرات بعض الزم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827360" y="2913120"/>
          <a:ext cx="5487840" cy="103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913120"/>
                    <a:ext cx="5487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276720" y="9907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كيف تضع الزرافه داخل الثلاجه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h01559_" descr=""/>
          <p:cNvPicPr/>
          <p:nvPr/>
        </p:nvPicPr>
        <p:blipFill>
          <a:blip r:embed="rId4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46" name="j0180318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43000" y="2286000"/>
            <a:ext cx="2695680" cy="426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120" y="480060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5760" y="1222200"/>
          <a:ext cx="4421160" cy="317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222200"/>
                    <a:ext cx="44211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57200" y="1374840"/>
            <a:ext cx="344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جواب الصحيح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أفتح الثلاجه, أدخل الزرافه ثم أقفل الباب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سؤال لمعرفة ما إذا كنت تحب تعقيد الامور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52" name="j0138247" descr=""/>
          <p:cNvPicPr/>
          <p:nvPr/>
        </p:nvPicPr>
        <p:blipFill>
          <a:blip r:embed="rId5"/>
          <a:stretch/>
        </p:blipFill>
        <p:spPr>
          <a:xfrm>
            <a:off x="5943600" y="4114800"/>
            <a:ext cx="9478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2240" y="133524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كيف تضع الفيل داخل الثلاجه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h01559_" descr=""/>
          <p:cNvPicPr/>
          <p:nvPr/>
        </p:nvPicPr>
        <p:blipFill>
          <a:blip r:embed="rId2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55" name="j0180374" descr=""/>
          <p:cNvPicPr/>
          <p:nvPr/>
        </p:nvPicPr>
        <p:blipFill>
          <a:blip r:embed="rId3"/>
          <a:stretch/>
        </p:blipFill>
        <p:spPr>
          <a:xfrm>
            <a:off x="914400" y="2438280"/>
            <a:ext cx="23097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64832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27360" y="552600"/>
          <a:ext cx="5487840" cy="57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552600"/>
                    <a:ext cx="548784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9080" y="1101600"/>
            <a:ext cx="397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جواب خطأ: إفتح الثلاجه,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أدخل الفيل  ثم أقفل الباب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Arial"/>
              </a:rPr>
              <a:t>جواب صحيح: إفتح الثلاجه,أخرج الزرافه, أدخل الفيل  ثم أقفل الباب</a:t>
            </a:r>
            <a:r>
              <a:rPr b="1" lang="ar-SA" sz="24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سؤال لمعرفة قدرتك على الاستفاده من نتائج أفعالك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1" name="j0138247" descr=""/>
          <p:cNvPicPr/>
          <p:nvPr/>
        </p:nvPicPr>
        <p:blipFill>
          <a:blip r:embed="rId5"/>
          <a:stretch/>
        </p:blipFill>
        <p:spPr>
          <a:xfrm>
            <a:off x="8001000" y="1219320"/>
            <a:ext cx="94788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an02568_" descr=""/>
          <p:cNvPicPr/>
          <p:nvPr/>
        </p:nvPicPr>
        <p:blipFill>
          <a:blip r:embed="rId6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833480" y="2332080"/>
          <a:ext cx="5473800" cy="21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3480" y="2332080"/>
                    <a:ext cx="54738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438280"/>
            <a:ext cx="374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عقد الاسد إجتماع للحيوانات وحضر الجميع ماعدا واحدا, من يكون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lip058" descr=""/>
          <p:cNvPicPr/>
          <p:nvPr/>
        </p:nvPicPr>
        <p:blipFill>
          <a:blip r:embed="rId4"/>
          <a:stretch/>
        </p:blipFill>
        <p:spPr>
          <a:xfrm>
            <a:off x="4376880" y="1219320"/>
            <a:ext cx="4579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08174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8" name="an02568_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1360" y="1332000"/>
            <a:ext cx="382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Arial"/>
              </a:rPr>
              <a:t>جواب صحيح: الفيل, لانه لايزال في الثلاجه. هل تذكر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سؤال لمعرفة قوة ذاكرتك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9480" y="1876320"/>
            <a:ext cx="504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OK, even if you did not answer the first three questions correctly, you still have one more chance to show your abil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j0173960" descr=""/>
          <p:cNvPicPr/>
          <p:nvPr/>
        </p:nvPicPr>
        <p:blipFill>
          <a:blip r:embed="rId2"/>
          <a:stretch/>
        </p:blipFill>
        <p:spPr>
          <a:xfrm>
            <a:off x="0" y="-38088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828800"/>
            <a:ext cx="5105520" cy="2303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 بأس, حتى لو لم تجب على الاسئلة الثلاثة السابقه, فلديك الان فرصة أخير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38840" y="1523880"/>
            <a:ext cx="97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يجب أن تعبر هذا النهر الذي يعرف عنه بأنه مسكن للتماسيح, كي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h01433k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4582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an00195_" descr=""/>
          <p:cNvPicPr/>
          <p:nvPr/>
        </p:nvPicPr>
        <p:blipFill>
          <a:blip r:embed="rId3"/>
          <a:stretch/>
        </p:blipFill>
        <p:spPr>
          <a:xfrm>
            <a:off x="6019920" y="5867280"/>
            <a:ext cx="236196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an00195_" descr=""/>
          <p:cNvPicPr/>
          <p:nvPr/>
        </p:nvPicPr>
        <p:blipFill>
          <a:blip r:embed="rId4"/>
          <a:stretch/>
        </p:blipFill>
        <p:spPr>
          <a:xfrm>
            <a:off x="4876920" y="5486400"/>
            <a:ext cx="1676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08:59:00Z</dcterms:created>
  <dc:creator>Anderson Consulting</dc:creator>
  <dc:description/>
  <dc:language>en-US</dc:language>
  <cp:lastModifiedBy>Hussein M. Gahtani</cp:lastModifiedBy>
  <dcterms:modified xsi:type="dcterms:W3CDTF">2001-04-08T03:28:22Z</dcterms:modified>
  <cp:revision>14</cp:revision>
  <dc:subject>4 Question Test</dc:subject>
  <dc:title>Are you a Professional?</dc:title>
</cp:coreProperties>
</file>