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9.jpeg" ContentType="image/jpeg"/>
  <Override PartName="/ppt/media/image8.wmf" ContentType="image/x-wmf"/>
  <Override PartName="/ppt/media/image13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F83E-E781-46DF-8102-40FA541D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672-C749-4A27-B43D-4ACF362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C3C-6A25-4320-BB52-630EF2EC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AE8-9A1D-4F7E-A6EB-AD310D25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DB6-4D00-4C02-8B63-9ED6CA90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E05-0FAD-4994-859F-C0D46C2D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EDA-9643-4A09-8AD8-7DA70A9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B73-C8B4-48DA-8024-8B701A82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ABA-67FF-46B2-98DC-7F478B27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601-197C-427D-85CC-307B9B26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6BC-4CC0-44B5-B1EB-359DEB97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B10-9D0D-4767-B618-DEC7A98D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2234-5C13-45E0-A766-73785B6C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14800" y="1295280"/>
            <a:ext cx="489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omic Sans MS"/>
                <a:cs typeface="Times New Roman"/>
              </a:rPr>
              <a:t>الأسئلة الأربعة القادمة تحدد ما إذا كنت من المتخصصين أم لا</a:t>
            </a:r>
            <a:r>
              <a:rPr b="1" lang="ar-SA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omic Sans MS"/>
                <a:cs typeface="Times New Roman"/>
              </a:rPr>
              <a:t>الأسئلة ليست في غاية الصعوبة, فلا تبحث عن الأجابة قبل المحاوله</a:t>
            </a:r>
            <a:r>
              <a:rPr b="1" lang="ar-SA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!!!</a:t>
            </a: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7680" y="1332000"/>
            <a:ext cx="717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تعبر النهر سباحة. جميع التماسيح مشغولة في إجتماع الحيوان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اختبار يبين ما إذا كنت تتعلم من أخطائك أم لا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e07184_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4587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557360"/>
            <a:ext cx="7467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لاتهتم, تشير الدراسات الى ان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9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% من الاختصاصيين الذين جرٌبوا هذا الاختبار لم يجيبوا على اي من الاسئله السابقه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ولكنها أفادة أيضا بأن كثيرا من طلبة الروضة حققوا الأجابات الصحيحه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وهذه الدراسة تفند النظرية التي تقول بأن كثير من المتخصصين يملكون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عقل طفل في الرابعة من عمره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6680" y="2203560"/>
            <a:ext cx="487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بإمكان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إكتشا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rial"/>
              </a:rPr>
              <a:t>قدرات بعض الزم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827360" y="2913120"/>
          <a:ext cx="5487840" cy="103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913120"/>
                    <a:ext cx="54878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276720" y="9907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كيف تضع الزرافه داخل الثلاجه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hh01559_" descr=""/>
          <p:cNvPicPr/>
          <p:nvPr/>
        </p:nvPicPr>
        <p:blipFill>
          <a:blip r:embed="rId4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46" name="j0180318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43000" y="2286000"/>
            <a:ext cx="2695680" cy="426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480060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5760" y="1222200"/>
          <a:ext cx="4421160" cy="3170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1222200"/>
                    <a:ext cx="442116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1374840"/>
            <a:ext cx="3444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جواب الصحيح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أفتح الثلاجه, أدخل الزرافه ثم أقفل الباب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ما إذا كنت تحب تعقيد الامور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52" name="j0138247" descr=""/>
          <p:cNvPicPr/>
          <p:nvPr/>
        </p:nvPicPr>
        <p:blipFill>
          <a:blip r:embed="rId5"/>
          <a:stretch/>
        </p:blipFill>
        <p:spPr>
          <a:xfrm>
            <a:off x="5943600" y="4114800"/>
            <a:ext cx="94788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22240" y="133524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كيف تضع الفيل داخل الثلاجه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hh01559_" descr=""/>
          <p:cNvPicPr/>
          <p:nvPr/>
        </p:nvPicPr>
        <p:blipFill>
          <a:blip r:embed="rId2"/>
          <a:stretch/>
        </p:blipFill>
        <p:spPr>
          <a:xfrm>
            <a:off x="6978600" y="4038480"/>
            <a:ext cx="2019240" cy="2667240"/>
          </a:xfrm>
          <a:prstGeom prst="rect">
            <a:avLst/>
          </a:prstGeom>
          <a:ln w="0">
            <a:noFill/>
          </a:ln>
        </p:spPr>
      </p:pic>
      <p:pic>
        <p:nvPicPr>
          <p:cNvPr id="55" name="j0180374" descr=""/>
          <p:cNvPicPr/>
          <p:nvPr/>
        </p:nvPicPr>
        <p:blipFill>
          <a:blip r:embed="rId3"/>
          <a:stretch/>
        </p:blipFill>
        <p:spPr>
          <a:xfrm>
            <a:off x="914400" y="2438280"/>
            <a:ext cx="23097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86200" y="4648320"/>
            <a:ext cx="2514600" cy="106668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27360" y="552600"/>
          <a:ext cx="5487840" cy="575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552600"/>
                    <a:ext cx="548784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9080" y="1101600"/>
            <a:ext cx="397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جواب خطأ: إفتح الثلاجه,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Arial"/>
              </a:rPr>
              <a:t>أدخل الفيل  ثم أقفل الباب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إفتح الثلاجه,أخرج الزرافه, أدخل الفيل  ثم أقفل الباب</a:t>
            </a:r>
            <a:r>
              <a:rPr b="1" lang="ar-SA" sz="24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Century Gothic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قدرتك على الاستفاده من نتائج أفعالك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j0208174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1" name="j0138247" descr=""/>
          <p:cNvPicPr/>
          <p:nvPr/>
        </p:nvPicPr>
        <p:blipFill>
          <a:blip r:embed="rId5"/>
          <a:stretch/>
        </p:blipFill>
        <p:spPr>
          <a:xfrm>
            <a:off x="8001000" y="1219320"/>
            <a:ext cx="947880" cy="1077840"/>
          </a:xfrm>
          <a:prstGeom prst="rect">
            <a:avLst/>
          </a:prstGeom>
          <a:ln w="0">
            <a:noFill/>
          </a:ln>
        </p:spPr>
      </p:pic>
      <p:pic>
        <p:nvPicPr>
          <p:cNvPr id="62" name="an02568_" descr=""/>
          <p:cNvPicPr/>
          <p:nvPr/>
        </p:nvPicPr>
        <p:blipFill>
          <a:blip r:embed="rId6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833480" y="2332080"/>
          <a:ext cx="5473800" cy="218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3480" y="2332080"/>
                    <a:ext cx="54738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04920" y="2438280"/>
            <a:ext cx="374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عقد الاسد إجتماع للحيوانات وحضر الجميع ماعدا واحدا, من يكون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lip058" descr=""/>
          <p:cNvPicPr/>
          <p:nvPr/>
        </p:nvPicPr>
        <p:blipFill>
          <a:blip r:embed="rId4"/>
          <a:stretch/>
        </p:blipFill>
        <p:spPr>
          <a:xfrm>
            <a:off x="4376880" y="1219320"/>
            <a:ext cx="457992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j0208174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852720" cy="5300640"/>
          </a:xfrm>
          <a:prstGeom prst="rect">
            <a:avLst/>
          </a:prstGeom>
          <a:ln w="0">
            <a:noFill/>
          </a:ln>
        </p:spPr>
      </p:pic>
      <p:pic>
        <p:nvPicPr>
          <p:cNvPr id="68" name="an02568_" descr=""/>
          <p:cNvPicPr/>
          <p:nvPr/>
        </p:nvPicPr>
        <p:blipFill>
          <a:blip r:embed="rId3"/>
          <a:stretch/>
        </p:blipFill>
        <p:spPr>
          <a:xfrm>
            <a:off x="5791320" y="4191120"/>
            <a:ext cx="1528560" cy="977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1360" y="1332000"/>
            <a:ext cx="382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Arial"/>
                <a:cs typeface="Arial"/>
              </a:rPr>
              <a:t>جواب صحيح: الفيل, لانه لايزال في الثلاجه. هل تذكر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9900"/>
                </a:solidFill>
                <a:latin typeface="Arial"/>
                <a:cs typeface="Arial"/>
              </a:rPr>
              <a:t>هذا السؤال لمعرفة قوة ذاكرتك</a:t>
            </a:r>
            <a:r>
              <a:rPr b="1" lang="ar-SA" sz="2400" spc="-1" strike="noStrike">
                <a:solidFill>
                  <a:srgbClr val="cc99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49480" y="1876320"/>
            <a:ext cx="504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OK, even if you did not answer the first three questions correctly, you still have one more chance to show your abil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j0173960" descr=""/>
          <p:cNvPicPr/>
          <p:nvPr/>
        </p:nvPicPr>
        <p:blipFill>
          <a:blip r:embed="rId2"/>
          <a:stretch/>
        </p:blipFill>
        <p:spPr>
          <a:xfrm>
            <a:off x="0" y="-380880"/>
            <a:ext cx="9144000" cy="796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1080" y="1828800"/>
            <a:ext cx="5105520" cy="2303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 بأس, حتى لو لم تجب على الاسئلة الثلاثة السابقه, فلديك الان فرصة أخير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38840" y="1523880"/>
            <a:ext cx="972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السؤال رقم 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  <a:cs typeface="Arial"/>
              </a:rPr>
              <a:t>يجب أن تعبر هذا النهر الذي يعرف عنه بأنه مسكن للتماسيح, كيف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h01433k" descr=""/>
          <p:cNvPicPr/>
          <p:nvPr/>
        </p:nvPicPr>
        <p:blipFill>
          <a:blip r:embed="rId2"/>
          <a:stretch/>
        </p:blipFill>
        <p:spPr>
          <a:xfrm>
            <a:off x="380880" y="2971800"/>
            <a:ext cx="845820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an00195_" descr=""/>
          <p:cNvPicPr/>
          <p:nvPr/>
        </p:nvPicPr>
        <p:blipFill>
          <a:blip r:embed="rId3"/>
          <a:stretch/>
        </p:blipFill>
        <p:spPr>
          <a:xfrm>
            <a:off x="6019920" y="5867280"/>
            <a:ext cx="236196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an00195_" descr=""/>
          <p:cNvPicPr/>
          <p:nvPr/>
        </p:nvPicPr>
        <p:blipFill>
          <a:blip r:embed="rId4"/>
          <a:stretch/>
        </p:blipFill>
        <p:spPr>
          <a:xfrm>
            <a:off x="4876920" y="5486400"/>
            <a:ext cx="16761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08:59:00Z</dcterms:created>
  <dc:creator>Anderson Consulting</dc:creator>
  <dc:description/>
  <dc:language>en-US</dc:language>
  <cp:lastModifiedBy>Hussein M. Gahtani</cp:lastModifiedBy>
  <dcterms:modified xsi:type="dcterms:W3CDTF">2001-04-08T03:28:22Z</dcterms:modified>
  <cp:revision>14</cp:revision>
  <dc:subject>4 Question Test</dc:subject>
  <dc:title>Are you a Professional?</dc:title>
</cp:coreProperties>
</file>