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88A1-72D7-4752-9F53-945A9049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E24C-D8B3-4E9B-8FB4-2849B063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BE0-AE8A-4957-BADF-AFF0FFF9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71A-9F40-4B5B-84D2-86981C16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9607-C90A-4647-A4C1-AC8D2F01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29CF-3329-45FD-849D-7D3E4286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6FA3-EF1E-46EF-B968-0DB0027E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65D-D5C9-4665-AE51-83B117ED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2560" y="115560"/>
            <a:ext cx="69850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383-6C09-4426-934B-294F7FBB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A54-6E49-4D2E-A319-87828D3F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BBE-008B-458F-A160-62C66504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F3D-3101-44D3-A279-F4B20B56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2B98-7F42-40BB-824E-25618648DBD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C7D0C2D3-BBD8-4D1E-AC8F-D9E198D15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logosttt"/>
          <p:cNvPicPr/>
          <p:nvPr/>
        </p:nvPicPr>
        <p:blipFill>
          <a:blip r:embed="rId2"/>
          <a:stretch/>
        </p:blipFill>
        <p:spPr>
          <a:xfrm>
            <a:off x="250920" y="189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6" name="varkom.avi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934920" cy="576000"/>
          </a:xfrm>
          <a:prstGeom prst="rect">
            <a:avLst/>
          </a:prstGeom>
          <a:ln w="0">
            <a:noFill/>
          </a:ln>
        </p:spPr>
      </p:pic>
      <p:sp>
        <p:nvSpPr>
          <p:cNvPr id="7" name="Line 13"/>
          <p:cNvSpPr/>
          <p:nvPr/>
        </p:nvSpPr>
        <p:spPr>
          <a:xfrm>
            <a:off x="468360" y="6093000"/>
            <a:ext cx="820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DB0A-922A-40DD-B07D-3B10DE75423E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A617340D-F2B6-433F-914A-6760E2831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"/>
              </a:rPr>
              <a:t>Deret Kompleks</a:t>
            </a:r>
            <a:endParaRPr b="0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et Tay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et Mac Lau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et Lau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0AD3-BC4A-4F3B-B937-3D0227D5728C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8679924E-214A-4547-A79E-C5B0ADB2F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deretkan fungsi berikut ke dalam deret Mac Lauri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z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cosh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cos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z sin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1 / (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z / ( i – z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1 / ( 3 + z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3290-F47A-441D-9BBB-27C18244A058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5E926825-59D0-41D4-931E-57E679590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erderetan Taylor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3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5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7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1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32"/>
              <p:cNvSpPr txBox="1"/>
              <p:nvPr/>
            </p:nvSpPr>
            <p:spPr>
              <a:xfrm>
                <a:off x="701640" y="2313000"/>
                <a:ext cx="1008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" name="Text Box 33"/>
          <p:cNvSpPr/>
          <p:nvPr/>
        </p:nvSpPr>
        <p:spPr>
          <a:xfrm>
            <a:off x="621000" y="1916280"/>
            <a:ext cx="51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deretkan ke dalam Deret Taylor di z =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34"/>
          <p:cNvGrpSpPr/>
          <p:nvPr/>
        </p:nvGrpSpPr>
        <p:grpSpPr>
          <a:xfrm>
            <a:off x="4788000" y="3932280"/>
            <a:ext cx="2448000" cy="2089080"/>
            <a:chOff x="4788000" y="3932280"/>
            <a:chExt cx="2448000" cy="2089080"/>
          </a:xfrm>
        </p:grpSpPr>
        <p:sp>
          <p:nvSpPr>
            <p:cNvPr id="310" name="Line 35"/>
            <p:cNvSpPr/>
            <p:nvPr/>
          </p:nvSpPr>
          <p:spPr>
            <a:xfrm>
              <a:off x="5077080" y="4039920"/>
              <a:ext cx="0" cy="198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6"/>
            <p:cNvSpPr/>
            <p:nvPr/>
          </p:nvSpPr>
          <p:spPr>
            <a:xfrm>
              <a:off x="4856400" y="499896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37"/>
            <p:cNvSpPr/>
            <p:nvPr/>
          </p:nvSpPr>
          <p:spPr>
            <a:xfrm>
              <a:off x="6608880" y="4998960"/>
              <a:ext cx="6271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38"/>
            <p:cNvSpPr/>
            <p:nvPr/>
          </p:nvSpPr>
          <p:spPr>
            <a:xfrm>
              <a:off x="5075640" y="3932280"/>
              <a:ext cx="625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39"/>
            <p:cNvSpPr/>
            <p:nvPr/>
          </p:nvSpPr>
          <p:spPr>
            <a:xfrm>
              <a:off x="4915080" y="4797360"/>
              <a:ext cx="304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0"/>
            <p:cNvSpPr/>
            <p:nvPr/>
          </p:nvSpPr>
          <p:spPr>
            <a:xfrm>
              <a:off x="4788000" y="5013360"/>
              <a:ext cx="574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1"/>
            <p:cNvSpPr/>
            <p:nvPr/>
          </p:nvSpPr>
          <p:spPr>
            <a:xfrm>
              <a:off x="5580360" y="4795560"/>
              <a:ext cx="3045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2"/>
            <p:cNvSpPr/>
            <p:nvPr/>
          </p:nvSpPr>
          <p:spPr>
            <a:xfrm>
              <a:off x="6299280" y="5011560"/>
              <a:ext cx="289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43"/>
            <p:cNvSpPr/>
            <p:nvPr/>
          </p:nvSpPr>
          <p:spPr>
            <a:xfrm>
              <a:off x="5580360" y="5048280"/>
              <a:ext cx="28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Oval 44"/>
          <p:cNvSpPr/>
          <p:nvPr/>
        </p:nvSpPr>
        <p:spPr>
          <a:xfrm>
            <a:off x="5073480" y="4329000"/>
            <a:ext cx="1371600" cy="1371600"/>
          </a:xfrm>
          <a:prstGeom prst="ellipse">
            <a:avLst/>
          </a:prstGeom>
          <a:gradFill rotWithShape="0">
            <a:gsLst>
              <a:gs pos="0">
                <a:srgbClr val="99ff33">
                  <a:alpha val="50196"/>
                </a:srgbClr>
              </a:gs>
              <a:gs pos="100000">
                <a:srgbClr val="669900"/>
              </a:gs>
            </a:gsLst>
            <a:lin ang="5400000"/>
          </a:gradFill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5"/>
          <p:cNvSpPr/>
          <p:nvPr/>
        </p:nvSpPr>
        <p:spPr>
          <a:xfrm>
            <a:off x="1979640" y="4687920"/>
            <a:ext cx="1800360" cy="649080"/>
          </a:xfrm>
          <a:prstGeom prst="borderCallout2">
            <a:avLst>
              <a:gd name="adj1" fmla="val 18750"/>
              <a:gd name="adj2" fmla="val -8333"/>
              <a:gd name="adj3" fmla="val 17601"/>
              <a:gd name="adj4" fmla="val 144356"/>
              <a:gd name="adj5" fmla="val 56481"/>
              <a:gd name="adj6" fmla="val 177250"/>
            </a:avLst>
          </a:prstGeom>
          <a:solidFill>
            <a:srgbClr val="99ff33"/>
          </a:solidFill>
          <a:ln w="28440">
            <a:solidFill>
              <a:srgbClr val="ff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z-1 |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47"/>
              <p:cNvSpPr txBox="1"/>
              <p:nvPr/>
            </p:nvSpPr>
            <p:spPr>
              <a:xfrm>
                <a:off x="1204920" y="3341520"/>
                <a:ext cx="1440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3" name="Text Box 48"/>
          <p:cNvSpPr/>
          <p:nvPr/>
        </p:nvSpPr>
        <p:spPr>
          <a:xfrm>
            <a:off x="2116800" y="237960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analitik di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9"/>
          <p:cNvSpPr/>
          <p:nvPr/>
        </p:nvSpPr>
        <p:spPr>
          <a:xfrm>
            <a:off x="2476080" y="285264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erah Keanaliti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51"/>
              <p:cNvSpPr txBox="1"/>
              <p:nvPr/>
            </p:nvSpPr>
            <p:spPr>
              <a:xfrm>
                <a:off x="2844720" y="3249720"/>
                <a:ext cx="21052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327" name="AutoShape 52"/>
          <p:cNvCxnSpPr>
            <a:stCxn id="324" idx="3"/>
            <a:endCxn id="319" idx="7"/>
          </p:cNvCxnSpPr>
          <p:nvPr/>
        </p:nvCxnSpPr>
        <p:spPr>
          <a:xfrm>
            <a:off x="4949640" y="3050640"/>
            <a:ext cx="1294200" cy="1466280"/>
          </a:xfrm>
          <a:prstGeom prst="curved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3CBE-A2F6-43CA-876D-28AA9AE9814B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1C597C0D-749A-400F-AF4A-06EFE48E6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9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317160" y="1125360"/>
            <a:ext cx="49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deretkan ke dalam deret Taylor di z = 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25"/>
              <p:cNvSpPr txBox="1"/>
              <p:nvPr/>
            </p:nvSpPr>
            <p:spPr>
              <a:xfrm>
                <a:off x="396720" y="1593720"/>
                <a:ext cx="12240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Oval 26"/>
          <p:cNvSpPr/>
          <p:nvPr/>
        </p:nvSpPr>
        <p:spPr>
          <a:xfrm>
            <a:off x="5219640" y="3932280"/>
            <a:ext cx="1873440" cy="187308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27"/>
          <p:cNvGrpSpPr/>
          <p:nvPr/>
        </p:nvGrpSpPr>
        <p:grpSpPr>
          <a:xfrm>
            <a:off x="4498920" y="3645000"/>
            <a:ext cx="2344680" cy="2160000"/>
            <a:chOff x="4498920" y="3645000"/>
            <a:chExt cx="2344680" cy="2160000"/>
          </a:xfrm>
        </p:grpSpPr>
        <p:sp>
          <p:nvSpPr>
            <p:cNvPr id="341" name="Line 28"/>
            <p:cNvSpPr/>
            <p:nvPr/>
          </p:nvSpPr>
          <p:spPr>
            <a:xfrm>
              <a:off x="6190920" y="3716280"/>
              <a:ext cx="0" cy="19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29"/>
            <p:cNvSpPr/>
            <p:nvPr/>
          </p:nvSpPr>
          <p:spPr>
            <a:xfrm>
              <a:off x="4498920" y="54450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30"/>
            <p:cNvSpPr/>
            <p:nvPr/>
          </p:nvSpPr>
          <p:spPr>
            <a:xfrm>
              <a:off x="6216480" y="5433840"/>
              <a:ext cx="62712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31"/>
            <p:cNvSpPr/>
            <p:nvPr/>
          </p:nvSpPr>
          <p:spPr>
            <a:xfrm>
              <a:off x="6070320" y="3645000"/>
              <a:ext cx="62568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32"/>
            <p:cNvSpPr/>
            <p:nvPr/>
          </p:nvSpPr>
          <p:spPr>
            <a:xfrm>
              <a:off x="5310000" y="5233680"/>
              <a:ext cx="304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33"/>
            <p:cNvSpPr/>
            <p:nvPr/>
          </p:nvSpPr>
          <p:spPr>
            <a:xfrm>
              <a:off x="5254560" y="5445000"/>
              <a:ext cx="5047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6048360" y="4586040"/>
              <a:ext cx="3045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6245280" y="4471920"/>
              <a:ext cx="23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36"/>
          <p:cNvSpPr/>
          <p:nvPr/>
        </p:nvSpPr>
        <p:spPr>
          <a:xfrm flipV="1">
            <a:off x="5435640" y="4797000"/>
            <a:ext cx="72072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7"/>
          <p:cNvSpPr/>
          <p:nvPr/>
        </p:nvSpPr>
        <p:spPr>
          <a:xfrm>
            <a:off x="1903680" y="166536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analitik di z =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8"/>
          <p:cNvSpPr/>
          <p:nvPr/>
        </p:nvSpPr>
        <p:spPr>
          <a:xfrm>
            <a:off x="2215440" y="206064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erah Keanaliti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40"/>
              <p:cNvSpPr txBox="1"/>
              <p:nvPr/>
            </p:nvSpPr>
            <p:spPr>
              <a:xfrm>
                <a:off x="5506920" y="4756320"/>
                <a:ext cx="36036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cxnSp>
        <p:nvCxnSpPr>
          <p:cNvPr id="354" name="AutoShape 41"/>
          <p:cNvCxnSpPr>
            <a:stCxn id="351" idx="3"/>
            <a:endCxn id="339" idx="6"/>
          </p:cNvCxnSpPr>
          <p:nvPr/>
        </p:nvCxnSpPr>
        <p:spPr>
          <a:xfrm>
            <a:off x="4759200" y="2259000"/>
            <a:ext cx="2348640" cy="2610720"/>
          </a:xfrm>
          <a:prstGeom prst="bentConnector3">
            <a:avLst>
              <a:gd name="adj1" fmla="val 109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355" name="Group 56"/>
          <p:cNvGrpSpPr/>
          <p:nvPr/>
        </p:nvGrpSpPr>
        <p:grpSpPr>
          <a:xfrm>
            <a:off x="2627280" y="4653000"/>
            <a:ext cx="1873440" cy="792000"/>
            <a:chOff x="2627280" y="4653000"/>
            <a:chExt cx="1873440" cy="792000"/>
          </a:xfrm>
        </p:grpSpPr>
        <p:sp>
          <p:nvSpPr>
            <p:cNvPr id="356" name="AutoShape 43"/>
            <p:cNvSpPr/>
            <p:nvPr/>
          </p:nvSpPr>
          <p:spPr>
            <a:xfrm>
              <a:off x="2627280" y="4653000"/>
              <a:ext cx="1873440" cy="792000"/>
            </a:xfrm>
            <a:prstGeom prst="wedgeRoundRectCallout">
              <a:avLst>
                <a:gd name="adj1" fmla="val 87458"/>
                <a:gd name="adj2" fmla="val -43388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Object 44"/>
                <p:cNvSpPr txBox="1"/>
                <p:nvPr/>
              </p:nvSpPr>
              <p:spPr>
                <a:xfrm>
                  <a:off x="2700360" y="4797360"/>
                  <a:ext cx="165564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z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  <m:r>
                        <m:t xml:space="preserve">|</m:t>
                      </m:r>
                      <m:r>
                        <m:t xml:space="preserve"> </m:t>
                      </m:r>
                      <m:r>
                        <m:t xml:space="preserve">&lt;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8" name="Rectangle 4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46"/>
              <p:cNvSpPr txBox="1"/>
              <p:nvPr/>
            </p:nvSpPr>
            <p:spPr>
              <a:xfrm>
                <a:off x="828720" y="2484360"/>
                <a:ext cx="1512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0" name="Rectangle 4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48"/>
              <p:cNvSpPr txBox="1"/>
              <p:nvPr/>
            </p:nvSpPr>
            <p:spPr>
              <a:xfrm>
                <a:off x="2413080" y="2457360"/>
                <a:ext cx="1944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Rectangle 4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50"/>
              <p:cNvSpPr txBox="1"/>
              <p:nvPr/>
            </p:nvSpPr>
            <p:spPr>
              <a:xfrm>
                <a:off x="684360" y="4702320"/>
                <a:ext cx="12236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AutoShape 51"/>
          <p:cNvSpPr/>
          <p:nvPr/>
        </p:nvSpPr>
        <p:spPr>
          <a:xfrm>
            <a:off x="1979640" y="4941720"/>
            <a:ext cx="360360" cy="144720"/>
          </a:xfrm>
          <a:prstGeom prst="leftArrow">
            <a:avLst>
              <a:gd name="adj1" fmla="val 50000"/>
              <a:gd name="adj2" fmla="val 62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3"/>
              <p:cNvSpPr txBox="1"/>
              <p:nvPr/>
            </p:nvSpPr>
            <p:spPr>
              <a:xfrm>
                <a:off x="828720" y="3249720"/>
                <a:ext cx="23032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7" name="Rectangle 5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55"/>
              <p:cNvSpPr txBox="1"/>
              <p:nvPr/>
            </p:nvSpPr>
            <p:spPr>
              <a:xfrm>
                <a:off x="3132000" y="3249720"/>
                <a:ext cx="20894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newsflash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8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3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Date Placeholder 5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F808-56CA-4ECD-99BF-31690E25AE33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6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6943906D-DB8B-4BEA-8452-F069AC520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63"/>
              <p:cNvSpPr txBox="1"/>
              <p:nvPr/>
            </p:nvSpPr>
            <p:spPr>
              <a:xfrm>
                <a:off x="2627280" y="2349360"/>
                <a:ext cx="2143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61"/>
              <p:cNvSpPr txBox="1"/>
              <p:nvPr/>
            </p:nvSpPr>
            <p:spPr>
              <a:xfrm>
                <a:off x="826920" y="2349360"/>
                <a:ext cx="1729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5" name="Text Box 3"/>
          <p:cNvSpPr/>
          <p:nvPr/>
        </p:nvSpPr>
        <p:spPr>
          <a:xfrm>
            <a:off x="243360" y="903240"/>
            <a:ext cx="50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deretkan ke dalam deret Taylor di z = 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5"/>
              <p:cNvSpPr txBox="1"/>
              <p:nvPr/>
            </p:nvSpPr>
            <p:spPr>
              <a:xfrm>
                <a:off x="314280" y="1401840"/>
                <a:ext cx="13161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8" name="Text Box 6"/>
          <p:cNvSpPr/>
          <p:nvPr/>
        </p:nvSpPr>
        <p:spPr>
          <a:xfrm>
            <a:off x="1667520" y="147960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analitik di z = 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5"/>
          <p:cNvSpPr/>
          <p:nvPr/>
        </p:nvSpPr>
        <p:spPr>
          <a:xfrm>
            <a:off x="2031480" y="191124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erah Keanaliti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7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9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26"/>
          <p:cNvSpPr/>
          <p:nvPr/>
        </p:nvSpPr>
        <p:spPr>
          <a:xfrm>
            <a:off x="757080" y="3213000"/>
            <a:ext cx="2519640" cy="252108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81"/>
          <p:cNvGrpSpPr/>
          <p:nvPr/>
        </p:nvGrpSpPr>
        <p:grpSpPr>
          <a:xfrm>
            <a:off x="611280" y="2997360"/>
            <a:ext cx="3024000" cy="2808000"/>
            <a:chOff x="611280" y="2997360"/>
            <a:chExt cx="3024000" cy="2808000"/>
          </a:xfrm>
        </p:grpSpPr>
        <p:sp>
          <p:nvSpPr>
            <p:cNvPr id="386" name="Line 28"/>
            <p:cNvSpPr/>
            <p:nvPr/>
          </p:nvSpPr>
          <p:spPr>
            <a:xfrm>
              <a:off x="1116000" y="3284640"/>
              <a:ext cx="0" cy="25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29"/>
            <p:cNvSpPr/>
            <p:nvPr/>
          </p:nvSpPr>
          <p:spPr>
            <a:xfrm>
              <a:off x="1042920" y="450864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0"/>
            <p:cNvSpPr/>
            <p:nvPr/>
          </p:nvSpPr>
          <p:spPr>
            <a:xfrm>
              <a:off x="2760840" y="4497480"/>
              <a:ext cx="6267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31"/>
            <p:cNvSpPr/>
            <p:nvPr/>
          </p:nvSpPr>
          <p:spPr>
            <a:xfrm>
              <a:off x="611280" y="2997360"/>
              <a:ext cx="625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32"/>
            <p:cNvSpPr/>
            <p:nvPr/>
          </p:nvSpPr>
          <p:spPr>
            <a:xfrm>
              <a:off x="1854360" y="4297320"/>
              <a:ext cx="304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33"/>
            <p:cNvSpPr/>
            <p:nvPr/>
          </p:nvSpPr>
          <p:spPr>
            <a:xfrm>
              <a:off x="1798560" y="4508640"/>
              <a:ext cx="505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4"/>
            <p:cNvSpPr/>
            <p:nvPr/>
          </p:nvSpPr>
          <p:spPr>
            <a:xfrm>
              <a:off x="971640" y="5084640"/>
              <a:ext cx="3045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35"/>
            <p:cNvSpPr/>
            <p:nvPr/>
          </p:nvSpPr>
          <p:spPr>
            <a:xfrm>
              <a:off x="685800" y="5084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36"/>
            <p:cNvSpPr/>
            <p:nvPr/>
          </p:nvSpPr>
          <p:spPr>
            <a:xfrm flipV="1">
              <a:off x="1116000" y="4508640"/>
              <a:ext cx="863640" cy="792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Object 40"/>
                <p:cNvSpPr txBox="1"/>
                <p:nvPr/>
              </p:nvSpPr>
              <p:spPr>
                <a:xfrm>
                  <a:off x="1187280" y="4581360"/>
                  <a:ext cx="36036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cxnSp>
        <p:nvCxnSpPr>
          <p:cNvPr id="396" name="AutoShape 41"/>
          <p:cNvCxnSpPr>
            <a:stCxn id="379" idx="1"/>
            <a:endCxn id="384" idx="2"/>
          </p:cNvCxnSpPr>
          <p:nvPr/>
        </p:nvCxnSpPr>
        <p:spPr>
          <a:xfrm flipV="1" rot="10800000">
            <a:off x="742320" y="2109600"/>
            <a:ext cx="1289520" cy="2364480"/>
          </a:xfrm>
          <a:prstGeom prst="bentConnector3">
            <a:avLst>
              <a:gd name="adj1" fmla="val 116615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97" name="Rectangle 4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71"/>
              <p:cNvSpPr txBox="1"/>
              <p:nvPr/>
            </p:nvSpPr>
            <p:spPr>
              <a:xfrm>
                <a:off x="3276720" y="5229360"/>
                <a:ext cx="27050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 </m:t>
                    </m:r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Rectangle 7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75"/>
              <p:cNvSpPr txBox="1"/>
              <p:nvPr/>
            </p:nvSpPr>
            <p:spPr>
              <a:xfrm>
                <a:off x="5029200" y="2162160"/>
                <a:ext cx="24955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03" name="Rectangle 8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79"/>
              <p:cNvSpPr txBox="1"/>
              <p:nvPr/>
            </p:nvSpPr>
            <p:spPr>
              <a:xfrm>
                <a:off x="5187960" y="3314880"/>
                <a:ext cx="21924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newsflash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0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A77F-01B5-4DCB-B43E-4FFB8514781C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2A0827DA-1F60-4E1F-BE7A-0821D20AC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oal Latihan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deretkan fungsi berikut di titik yang diberi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 z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sinh z di z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1/z di z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1/z di z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1/(z+2) di z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1/(z + i) di z =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1/(z –i) di z = 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2727-280F-4B1A-B044-E371F01EEC27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22B19C5E-5E8C-407A-8179-462C55BA4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eret Laurent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250920" y="772920"/>
            <a:ext cx="5976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a fungsi f(z) tidak analitik di z =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ka f(z) tidak dapat diperderetkan dalam deret Taylor di  z =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tau pada daerah | z –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&lt;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4"/>
          <p:cNvGrpSpPr/>
          <p:nvPr/>
        </p:nvGrpSpPr>
        <p:grpSpPr>
          <a:xfrm>
            <a:off x="7236000" y="981000"/>
            <a:ext cx="1584000" cy="1584360"/>
            <a:chOff x="7236000" y="981000"/>
            <a:chExt cx="1584000" cy="1584360"/>
          </a:xfrm>
        </p:grpSpPr>
        <p:sp>
          <p:nvSpPr>
            <p:cNvPr id="416" name="Oval 5"/>
            <p:cNvSpPr/>
            <p:nvPr/>
          </p:nvSpPr>
          <p:spPr>
            <a:xfrm>
              <a:off x="7236000" y="981000"/>
              <a:ext cx="1584000" cy="15843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6"/>
            <p:cNvSpPr/>
            <p:nvPr/>
          </p:nvSpPr>
          <p:spPr>
            <a:xfrm>
              <a:off x="7958160" y="1700280"/>
              <a:ext cx="69480" cy="72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7"/>
            <p:cNvSpPr/>
            <p:nvPr/>
          </p:nvSpPr>
          <p:spPr>
            <a:xfrm>
              <a:off x="7817760" y="1700280"/>
              <a:ext cx="391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Line 8"/>
          <p:cNvSpPr/>
          <p:nvPr/>
        </p:nvSpPr>
        <p:spPr>
          <a:xfrm flipV="1">
            <a:off x="8028000" y="1268280"/>
            <a:ext cx="6494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101080" y="11253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250920" y="1916280"/>
            <a:ext cx="6481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a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buang dari | z –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&lt; R maka 0 &lt; | z –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&lt; R merupakan daerah keanalitikan dari f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11"/>
          <p:cNvGrpSpPr/>
          <p:nvPr/>
        </p:nvGrpSpPr>
        <p:grpSpPr>
          <a:xfrm>
            <a:off x="6588000" y="2997360"/>
            <a:ext cx="2376720" cy="2303280"/>
            <a:chOff x="6588000" y="2997360"/>
            <a:chExt cx="2376720" cy="2303280"/>
          </a:xfrm>
        </p:grpSpPr>
        <p:sp>
          <p:nvSpPr>
            <p:cNvPr id="423" name="Oval 12"/>
            <p:cNvSpPr/>
            <p:nvPr/>
          </p:nvSpPr>
          <p:spPr>
            <a:xfrm>
              <a:off x="6588000" y="2997360"/>
              <a:ext cx="2376720" cy="23032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7310520" y="3716280"/>
              <a:ext cx="933480" cy="865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4"/>
            <p:cNvSpPr/>
            <p:nvPr/>
          </p:nvSpPr>
          <p:spPr>
            <a:xfrm>
              <a:off x="7701840" y="4076640"/>
              <a:ext cx="391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5"/>
            <p:cNvSpPr/>
            <p:nvPr/>
          </p:nvSpPr>
          <p:spPr>
            <a:xfrm flipV="1">
              <a:off x="7810560" y="3500280"/>
              <a:ext cx="938160" cy="64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16"/>
            <p:cNvSpPr/>
            <p:nvPr/>
          </p:nvSpPr>
          <p:spPr>
            <a:xfrm>
              <a:off x="8091360" y="3319560"/>
              <a:ext cx="584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7"/>
            <p:cNvSpPr/>
            <p:nvPr/>
          </p:nvSpPr>
          <p:spPr>
            <a:xfrm>
              <a:off x="7380360" y="3753000"/>
              <a:ext cx="583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8"/>
            <p:cNvSpPr/>
            <p:nvPr/>
          </p:nvSpPr>
          <p:spPr>
            <a:xfrm flipH="1" flipV="1">
              <a:off x="7667280" y="3716280"/>
              <a:ext cx="14436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Rectangle 19"/>
          <p:cNvSpPr/>
          <p:nvPr/>
        </p:nvSpPr>
        <p:spPr>
          <a:xfrm>
            <a:off x="250920" y="2638440"/>
            <a:ext cx="597672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Misal f(z) tidak analitik di z = z</a:t>
            </a:r>
            <a:r>
              <a:rPr b="0" lang="sv-SE" sz="20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0</a:t>
            </a:r>
            <a:r>
              <a:rPr b="0" lang="sv-SE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tetapi analitik pada R</a:t>
            </a:r>
            <a:r>
              <a:rPr b="0" lang="sv-SE" sz="2000" spc="-1" strike="noStrike" baseline="-25000">
                <a:solidFill>
                  <a:srgbClr val="333399"/>
                </a:solidFill>
                <a:latin typeface="Arial"/>
                <a:ea typeface="Times New Roman"/>
              </a:rPr>
              <a:t>1</a:t>
            </a:r>
            <a:r>
              <a:rPr b="0" lang="sv-SE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&lt; | z – z</a:t>
            </a:r>
            <a:r>
              <a:rPr b="0" lang="sv-SE" sz="2000" spc="-1" strike="noStrike" baseline="-25000">
                <a:solidFill>
                  <a:srgbClr val="333399"/>
                </a:solidFill>
                <a:latin typeface="Arial"/>
                <a:ea typeface="Times New Roman"/>
              </a:rPr>
              <a:t>0</a:t>
            </a:r>
            <a:r>
              <a:rPr b="0" lang="sv-SE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| &lt; R</a:t>
            </a:r>
            <a:r>
              <a:rPr b="0" lang="sv-SE" sz="2000" spc="-1" strike="noStrike" baseline="-25000">
                <a:solidFill>
                  <a:srgbClr val="333399"/>
                </a:solidFill>
                <a:latin typeface="Arial"/>
                <a:ea typeface="Times New Roman"/>
              </a:rPr>
              <a:t>2</a:t>
            </a:r>
            <a:r>
              <a:rPr b="0" lang="sv-SE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,m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ka f(z) dapat diperderetkan di z = z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menjadi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et Laurent,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21"/>
              <p:cNvSpPr txBox="1"/>
              <p:nvPr/>
            </p:nvSpPr>
            <p:spPr>
              <a:xfrm>
                <a:off x="324000" y="3789360"/>
                <a:ext cx="6048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3" name="Rectangle 2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23"/>
              <p:cNvSpPr txBox="1"/>
              <p:nvPr/>
            </p:nvSpPr>
            <p:spPr>
              <a:xfrm>
                <a:off x="324000" y="4581360"/>
                <a:ext cx="30240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r>
                                  <m:t xml:space="preserve"> 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5" name="Rectangle 24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25"/>
              <p:cNvSpPr txBox="1"/>
              <p:nvPr/>
            </p:nvSpPr>
            <p:spPr>
              <a:xfrm>
                <a:off x="3490920" y="4581360"/>
                <a:ext cx="309708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r>
                                  <m:t xml:space="preserve"> 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7" name="Rectangle 26"/>
          <p:cNvSpPr/>
          <p:nvPr/>
        </p:nvSpPr>
        <p:spPr>
          <a:xfrm>
            <a:off x="274680" y="5261400"/>
            <a:ext cx="84740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Arial"/>
              </a:rPr>
              <a:t>Lintasan C merupakan lintasan tutup sederhana, arah positif  yang terletak di dalam anulus yang melingkupi z</a:t>
            </a:r>
            <a:r>
              <a:rPr b="0" lang="sv-SE" sz="20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r>
              <a:rPr b="0" lang="sv-SE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27"/>
          <p:cNvSpPr/>
          <p:nvPr/>
        </p:nvSpPr>
        <p:spPr>
          <a:xfrm>
            <a:off x="6840360" y="3284640"/>
            <a:ext cx="1873440" cy="174132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8"/>
          <p:cNvSpPr/>
          <p:nvPr/>
        </p:nvSpPr>
        <p:spPr>
          <a:xfrm flipH="1">
            <a:off x="7308720" y="3427560"/>
            <a:ext cx="432000" cy="7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9"/>
          <p:cNvSpPr/>
          <p:nvPr/>
        </p:nvSpPr>
        <p:spPr>
          <a:xfrm>
            <a:off x="7236000" y="3032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DF18-FF7D-4724-A6B4-97A5E939FFB0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B41FA9AA-C123-4E3A-87DB-31968ADE1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315720" y="1037160"/>
            <a:ext cx="465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erderetkan f(z) dengan pusat di z =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5"/>
              <p:cNvSpPr txBox="1"/>
              <p:nvPr/>
            </p:nvSpPr>
            <p:spPr>
              <a:xfrm>
                <a:off x="395280" y="1557360"/>
                <a:ext cx="13683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8" name="Rectangle 6"/>
          <p:cNvSpPr/>
          <p:nvPr/>
        </p:nvSpPr>
        <p:spPr>
          <a:xfrm>
            <a:off x="1846800" y="1627920"/>
            <a:ext cx="28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tidak analitik di z =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4704120" y="1627920"/>
            <a:ext cx="43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aerah keanalitikan : 0 &lt; | z |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8"/>
              <p:cNvSpPr txBox="1"/>
              <p:nvPr/>
            </p:nvSpPr>
            <p:spPr>
              <a:xfrm>
                <a:off x="7524720" y="2060640"/>
                <a:ext cx="1150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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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Rectangle 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10"/>
              <p:cNvSpPr txBox="1"/>
              <p:nvPr/>
            </p:nvSpPr>
            <p:spPr>
              <a:xfrm>
                <a:off x="609480" y="2133720"/>
                <a:ext cx="20415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Rectangle 11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12"/>
              <p:cNvSpPr txBox="1"/>
              <p:nvPr/>
            </p:nvSpPr>
            <p:spPr>
              <a:xfrm>
                <a:off x="3132000" y="2060640"/>
                <a:ext cx="2160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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3"/>
              <p:cNvSpPr txBox="1"/>
              <p:nvPr/>
            </p:nvSpPr>
            <p:spPr>
              <a:xfrm>
                <a:off x="5284800" y="2060640"/>
                <a:ext cx="13748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!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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6" name="Rectangle 14"/>
          <p:cNvSpPr/>
          <p:nvPr/>
        </p:nvSpPr>
        <p:spPr>
          <a:xfrm>
            <a:off x="387000" y="2959920"/>
            <a:ext cx="48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erderetkan f(z) pada daerah 1&lt; | z | &lt;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16"/>
              <p:cNvSpPr txBox="1"/>
              <p:nvPr/>
            </p:nvSpPr>
            <p:spPr>
              <a:xfrm>
                <a:off x="468360" y="3348000"/>
                <a:ext cx="19670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9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18"/>
              <p:cNvSpPr txBox="1"/>
              <p:nvPr/>
            </p:nvSpPr>
            <p:spPr>
              <a:xfrm>
                <a:off x="2484360" y="3357720"/>
                <a:ext cx="15670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1" name="Group 19"/>
          <p:cNvGrpSpPr/>
          <p:nvPr/>
        </p:nvGrpSpPr>
        <p:grpSpPr>
          <a:xfrm>
            <a:off x="6516720" y="2997360"/>
            <a:ext cx="2590920" cy="2133360"/>
            <a:chOff x="6516720" y="2997360"/>
            <a:chExt cx="2590920" cy="2133360"/>
          </a:xfrm>
        </p:grpSpPr>
        <p:sp>
          <p:nvSpPr>
            <p:cNvPr id="462" name="Oval 20"/>
            <p:cNvSpPr/>
            <p:nvPr/>
          </p:nvSpPr>
          <p:spPr>
            <a:xfrm>
              <a:off x="6669360" y="3149640"/>
              <a:ext cx="1981080" cy="190512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1"/>
            <p:cNvSpPr/>
            <p:nvPr/>
          </p:nvSpPr>
          <p:spPr>
            <a:xfrm>
              <a:off x="7431120" y="39117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22"/>
            <p:cNvSpPr/>
            <p:nvPr/>
          </p:nvSpPr>
          <p:spPr>
            <a:xfrm>
              <a:off x="6516720" y="414036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23"/>
            <p:cNvSpPr/>
            <p:nvPr/>
          </p:nvSpPr>
          <p:spPr>
            <a:xfrm flipV="1">
              <a:off x="7659720" y="299736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4"/>
            <p:cNvSpPr/>
            <p:nvPr/>
          </p:nvSpPr>
          <p:spPr>
            <a:xfrm>
              <a:off x="8726760" y="4140360"/>
              <a:ext cx="380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7278840" y="2997360"/>
              <a:ext cx="380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7202520" y="4140360"/>
              <a:ext cx="381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8421840" y="4140360"/>
              <a:ext cx="380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29"/>
              <p:cNvSpPr txBox="1"/>
              <p:nvPr/>
            </p:nvSpPr>
            <p:spPr>
              <a:xfrm>
                <a:off x="4140360" y="3284640"/>
                <a:ext cx="1655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72" name="AutoShape 30"/>
          <p:cNvCxnSpPr>
            <a:stCxn id="456" idx="3"/>
          </p:cNvCxnSpPr>
          <p:nvPr/>
        </p:nvCxnSpPr>
        <p:spPr>
          <a:xfrm>
            <a:off x="5219640" y="3159000"/>
            <a:ext cx="1440360" cy="270720"/>
          </a:xfrm>
          <a:prstGeom prst="bentConnector3">
            <a:avLst>
              <a:gd name="adj1" fmla="val 49950"/>
            </a:avLst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473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32"/>
              <p:cNvSpPr txBox="1"/>
              <p:nvPr/>
            </p:nvSpPr>
            <p:spPr>
              <a:xfrm>
                <a:off x="468360" y="4221000"/>
                <a:ext cx="1011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5" name="Rectangle 33"/>
          <p:cNvSpPr/>
          <p:nvPr/>
        </p:nvSpPr>
        <p:spPr>
          <a:xfrm>
            <a:off x="1514160" y="4399560"/>
            <a:ext cx="45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iperderetkan pada daerah 1 &lt; | z 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35"/>
              <p:cNvSpPr txBox="1"/>
              <p:nvPr/>
            </p:nvSpPr>
            <p:spPr>
              <a:xfrm>
                <a:off x="515880" y="5013360"/>
                <a:ext cx="11034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8" name="Rectangle 36"/>
          <p:cNvSpPr/>
          <p:nvPr/>
        </p:nvSpPr>
        <p:spPr>
          <a:xfrm>
            <a:off x="1539360" y="5213880"/>
            <a:ext cx="45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iperderetkan pada daerah | z | &lt;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5" dur="2000" fill="hold"/>
                                        <p:tgtEl>
                                          <p:spTgt spid="45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2DF0-5AE0-416A-BC21-71197240DE6F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142797A5-1A25-4B2A-87D9-C358CCA22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446760" y="87048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. 1 &lt; | z 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1905840" y="9032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5"/>
              <p:cNvSpPr txBox="1"/>
              <p:nvPr/>
            </p:nvSpPr>
            <p:spPr>
              <a:xfrm>
                <a:off x="2411280" y="765000"/>
                <a:ext cx="79236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6"/>
              <p:cNvSpPr txBox="1"/>
              <p:nvPr/>
            </p:nvSpPr>
            <p:spPr>
              <a:xfrm>
                <a:off x="4187880" y="836640"/>
                <a:ext cx="25448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z</m:t>
                            </m:r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7" name="Rectangle 7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8"/>
              <p:cNvSpPr txBox="1"/>
              <p:nvPr/>
            </p:nvSpPr>
            <p:spPr>
              <a:xfrm>
                <a:off x="395280" y="1557360"/>
                <a:ext cx="21607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Rectangle 9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10"/>
              <p:cNvSpPr txBox="1"/>
              <p:nvPr/>
            </p:nvSpPr>
            <p:spPr>
              <a:xfrm>
                <a:off x="2629080" y="1484280"/>
                <a:ext cx="23745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11"/>
              <p:cNvSpPr txBox="1"/>
              <p:nvPr/>
            </p:nvSpPr>
            <p:spPr>
              <a:xfrm>
                <a:off x="5046840" y="1484280"/>
                <a:ext cx="27954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2" name="Rectangle 12"/>
          <p:cNvSpPr/>
          <p:nvPr/>
        </p:nvSpPr>
        <p:spPr>
          <a:xfrm>
            <a:off x="446760" y="252648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(2). | z | &lt;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3"/>
          <p:cNvSpPr/>
          <p:nvPr/>
        </p:nvSpPr>
        <p:spPr>
          <a:xfrm>
            <a:off x="1905840" y="25272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15"/>
              <p:cNvSpPr txBox="1"/>
              <p:nvPr/>
            </p:nvSpPr>
            <p:spPr>
              <a:xfrm>
                <a:off x="2484360" y="2421000"/>
                <a:ext cx="7923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Rectangle 16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17"/>
              <p:cNvSpPr txBox="1"/>
              <p:nvPr/>
            </p:nvSpPr>
            <p:spPr>
              <a:xfrm>
                <a:off x="395280" y="3424320"/>
                <a:ext cx="2160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8" name="Rectangle 18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19"/>
              <p:cNvSpPr txBox="1"/>
              <p:nvPr/>
            </p:nvSpPr>
            <p:spPr>
              <a:xfrm>
                <a:off x="2700360" y="3384720"/>
                <a:ext cx="180036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z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00" name="Rectangle 20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21"/>
              <p:cNvSpPr txBox="1"/>
              <p:nvPr/>
            </p:nvSpPr>
            <p:spPr>
              <a:xfrm>
                <a:off x="4572000" y="3313080"/>
                <a:ext cx="26640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&lt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2" name="Rectangle 22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23"/>
              <p:cNvSpPr txBox="1"/>
              <p:nvPr/>
            </p:nvSpPr>
            <p:spPr>
              <a:xfrm>
                <a:off x="452520" y="4424400"/>
                <a:ext cx="66405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24"/>
              <p:cNvSpPr txBox="1"/>
              <p:nvPr/>
            </p:nvSpPr>
            <p:spPr>
              <a:xfrm>
                <a:off x="4211640" y="2421000"/>
                <a:ext cx="25210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z</m:t>
                            </m:r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wheel spokes="3"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8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5" dur="2000" fill="hold"/>
                                        <p:tgtEl>
                                          <p:spTgt spid="4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2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500"/>
                            </p:stCondLst>
                            <p:childTnLst>
                              <p:par>
                                <p:cTn id="9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5" dur="2000" fill="hold"/>
                                        <p:tgtEl>
                                          <p:spTgt spid="504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5AA4-6F3E-4B1C-92C4-F49E2AD54D3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260C2ACB-3377-435C-8B75-CB7CEC817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# 3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238680" y="1086480"/>
            <a:ext cx="72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erderetkan f(z) di z = 1 dan tentukan daerah keanalitikanny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5"/>
              <p:cNvSpPr txBox="1"/>
              <p:nvPr/>
            </p:nvSpPr>
            <p:spPr>
              <a:xfrm>
                <a:off x="324000" y="1557360"/>
                <a:ext cx="1944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2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7"/>
              <p:cNvSpPr txBox="1"/>
              <p:nvPr/>
            </p:nvSpPr>
            <p:spPr>
              <a:xfrm>
                <a:off x="2413080" y="1557360"/>
                <a:ext cx="17272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4" name="Text Box 8"/>
          <p:cNvSpPr/>
          <p:nvPr/>
        </p:nvSpPr>
        <p:spPr>
          <a:xfrm>
            <a:off x="4257720" y="1622520"/>
            <a:ext cx="40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analitik di z = 1 dan z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9"/>
          <p:cNvGrpSpPr/>
          <p:nvPr/>
        </p:nvGrpSpPr>
        <p:grpSpPr>
          <a:xfrm>
            <a:off x="6756120" y="3700440"/>
            <a:ext cx="1551600" cy="368280"/>
            <a:chOff x="6756120" y="3700440"/>
            <a:chExt cx="1551600" cy="368280"/>
          </a:xfrm>
        </p:grpSpPr>
        <p:sp>
          <p:nvSpPr>
            <p:cNvPr id="516" name="Text Box 10"/>
            <p:cNvSpPr/>
            <p:nvPr/>
          </p:nvSpPr>
          <p:spPr>
            <a:xfrm>
              <a:off x="7299360" y="3700440"/>
              <a:ext cx="1008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1&lt;|z-1|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7" name="AutoShape 11"/>
            <p:cNvCxnSpPr>
              <a:stCxn id="516" idx="1"/>
            </p:cNvCxnSpPr>
            <p:nvPr/>
          </p:nvCxnSpPr>
          <p:spPr>
            <a:xfrm rot="10800000">
              <a:off x="6755760" y="3813120"/>
              <a:ext cx="534240" cy="7668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518" name="Group 12"/>
          <p:cNvGrpSpPr/>
          <p:nvPr/>
        </p:nvGrpSpPr>
        <p:grpSpPr>
          <a:xfrm>
            <a:off x="5867280" y="2060640"/>
            <a:ext cx="2209680" cy="1904760"/>
            <a:chOff x="5867280" y="2060640"/>
            <a:chExt cx="2209680" cy="1904760"/>
          </a:xfrm>
        </p:grpSpPr>
        <p:sp>
          <p:nvSpPr>
            <p:cNvPr id="519" name="Oval 13"/>
            <p:cNvSpPr/>
            <p:nvPr/>
          </p:nvSpPr>
          <p:spPr>
            <a:xfrm>
              <a:off x="6400800" y="2670120"/>
              <a:ext cx="838080" cy="8380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4"/>
            <p:cNvSpPr/>
            <p:nvPr/>
          </p:nvSpPr>
          <p:spPr>
            <a:xfrm>
              <a:off x="5867280" y="31273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5"/>
            <p:cNvSpPr/>
            <p:nvPr/>
          </p:nvSpPr>
          <p:spPr>
            <a:xfrm flipV="1">
              <a:off x="6400800" y="21366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6"/>
            <p:cNvSpPr/>
            <p:nvPr/>
          </p:nvSpPr>
          <p:spPr>
            <a:xfrm>
              <a:off x="6713280" y="3133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7"/>
            <p:cNvSpPr/>
            <p:nvPr/>
          </p:nvSpPr>
          <p:spPr>
            <a:xfrm>
              <a:off x="7619760" y="3127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8"/>
            <p:cNvSpPr/>
            <p:nvPr/>
          </p:nvSpPr>
          <p:spPr>
            <a:xfrm>
              <a:off x="5875200" y="2060640"/>
              <a:ext cx="56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19"/>
            <p:cNvSpPr/>
            <p:nvPr/>
          </p:nvSpPr>
          <p:spPr>
            <a:xfrm>
              <a:off x="7162560" y="31147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20"/>
            <p:cNvSpPr/>
            <p:nvPr/>
          </p:nvSpPr>
          <p:spPr>
            <a:xfrm>
              <a:off x="6802200" y="3068640"/>
              <a:ext cx="7164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21"/>
          <p:cNvSpPr/>
          <p:nvPr/>
        </p:nvSpPr>
        <p:spPr>
          <a:xfrm>
            <a:off x="296640" y="2343240"/>
            <a:ext cx="51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mungkinan daerah keanalitikan dari f(z)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22"/>
          <p:cNvGrpSpPr/>
          <p:nvPr/>
        </p:nvGrpSpPr>
        <p:grpSpPr>
          <a:xfrm>
            <a:off x="6876360" y="2205000"/>
            <a:ext cx="1961280" cy="767520"/>
            <a:chOff x="6876360" y="2205000"/>
            <a:chExt cx="1961280" cy="767520"/>
          </a:xfrm>
        </p:grpSpPr>
        <p:sp>
          <p:nvSpPr>
            <p:cNvPr id="529" name="Text Box 23"/>
            <p:cNvSpPr/>
            <p:nvPr/>
          </p:nvSpPr>
          <p:spPr>
            <a:xfrm>
              <a:off x="7567200" y="2205000"/>
              <a:ext cx="12704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0&lt;|z-1|&lt;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0" name="AutoShape 24"/>
            <p:cNvCxnSpPr>
              <a:stCxn id="529" idx="1"/>
            </p:cNvCxnSpPr>
            <p:nvPr/>
          </p:nvCxnSpPr>
          <p:spPr>
            <a:xfrm flipV="1" rot="10800000">
              <a:off x="6876360" y="2392920"/>
              <a:ext cx="686520" cy="5799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531" name="Text Box 25"/>
          <p:cNvSpPr/>
          <p:nvPr/>
        </p:nvSpPr>
        <p:spPr>
          <a:xfrm>
            <a:off x="375480" y="28735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. 0&lt; | z – 1 | &lt;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6"/>
          <p:cNvSpPr/>
          <p:nvPr/>
        </p:nvSpPr>
        <p:spPr>
          <a:xfrm>
            <a:off x="395280" y="330516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. 1&lt; | z – 1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3" name="AutoShape 27"/>
          <p:cNvCxnSpPr>
            <a:endCxn id="534" idx="1"/>
          </p:cNvCxnSpPr>
          <p:nvPr/>
        </p:nvCxnSpPr>
        <p:spPr>
          <a:xfrm flipH="1" flipV="1" rot="10800000">
            <a:off x="323640" y="1880280"/>
            <a:ext cx="72000" cy="2602440"/>
          </a:xfrm>
          <a:prstGeom prst="bentConnector3">
            <a:avLst>
              <a:gd name="adj1" fmla="val -319597"/>
            </a:avLst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534" name="Text Box 28"/>
          <p:cNvSpPr/>
          <p:nvPr/>
        </p:nvSpPr>
        <p:spPr>
          <a:xfrm>
            <a:off x="395280" y="3979800"/>
            <a:ext cx="56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deretan fungsi akan dilakukan terhadap suku kedua yaitu diperderetkan pada daerah (1) dan daerah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8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8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8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8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ECD8-55C8-43CD-9EA5-3A267856B78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D7414FF4-C94F-4427-8E8B-3CBF47012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# 4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12120" y="892800"/>
            <a:ext cx="596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. 0 &lt;  | z - 1 | &lt; 1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0 &lt; | z - 1 | dan  | z - 1 | &lt;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6"/>
              <p:cNvSpPr txBox="1"/>
              <p:nvPr/>
            </p:nvSpPr>
            <p:spPr>
              <a:xfrm>
                <a:off x="5148360" y="1327320"/>
                <a:ext cx="18730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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43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8"/>
              <p:cNvSpPr txBox="1"/>
              <p:nvPr/>
            </p:nvSpPr>
            <p:spPr>
              <a:xfrm>
                <a:off x="539640" y="2205000"/>
                <a:ext cx="4896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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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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5" name="Rectangle 9"/>
          <p:cNvSpPr/>
          <p:nvPr/>
        </p:nvSpPr>
        <p:spPr>
          <a:xfrm>
            <a:off x="366480" y="3247200"/>
            <a:ext cx="183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(2). 1 &lt; | z -1 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2175840" y="3284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Object 12"/>
              <p:cNvSpPr txBox="1"/>
              <p:nvPr/>
            </p:nvSpPr>
            <p:spPr>
              <a:xfrm>
                <a:off x="2700360" y="3139920"/>
                <a:ext cx="11509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9" name="Rectangle 13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14"/>
              <p:cNvSpPr txBox="1"/>
              <p:nvPr/>
            </p:nvSpPr>
            <p:spPr>
              <a:xfrm>
                <a:off x="520560" y="3860640"/>
                <a:ext cx="217980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Rectangle 15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16"/>
              <p:cNvSpPr txBox="1"/>
              <p:nvPr/>
            </p:nvSpPr>
            <p:spPr>
              <a:xfrm>
                <a:off x="2771640" y="3941640"/>
                <a:ext cx="1729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3" name="Rectangle 17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18"/>
              <p:cNvSpPr txBox="1"/>
              <p:nvPr/>
            </p:nvSpPr>
            <p:spPr>
              <a:xfrm>
                <a:off x="4498920" y="3787920"/>
                <a:ext cx="21607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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5" name="Rectangle 19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20"/>
              <p:cNvSpPr txBox="1"/>
              <p:nvPr/>
            </p:nvSpPr>
            <p:spPr>
              <a:xfrm>
                <a:off x="6516720" y="3787920"/>
                <a:ext cx="18716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7" name="Rectangle 21"/>
          <p:cNvSpPr/>
          <p:nvPr/>
        </p:nvSpPr>
        <p:spPr>
          <a:xfrm>
            <a:off x="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22"/>
              <p:cNvSpPr txBox="1"/>
              <p:nvPr/>
            </p:nvSpPr>
            <p:spPr>
              <a:xfrm>
                <a:off x="477720" y="4869000"/>
                <a:ext cx="804564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 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 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|</m:t>
                        </m:r>
                        <m:r>
                          <m:t xml:space="preserve">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</m:t>
                        </m:r>
                        <m:r>
                          <m:t xml:space="preserve">|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9" name="Rectangle 23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24"/>
              <p:cNvSpPr txBox="1"/>
              <p:nvPr/>
            </p:nvSpPr>
            <p:spPr>
              <a:xfrm>
                <a:off x="395280" y="1413000"/>
                <a:ext cx="17287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1" name="Rectangle 2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26"/>
              <p:cNvSpPr txBox="1"/>
              <p:nvPr/>
            </p:nvSpPr>
            <p:spPr>
              <a:xfrm>
                <a:off x="2195640" y="1413000"/>
                <a:ext cx="13683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3" name="Rectangle 27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Object 28"/>
              <p:cNvSpPr txBox="1"/>
              <p:nvPr/>
            </p:nvSpPr>
            <p:spPr>
              <a:xfrm>
                <a:off x="3635280" y="1413000"/>
                <a:ext cx="13683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newsflash/>
  </p:transition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5AD2-1B22-44EE-BC56-65B9226D32B0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AB73D893-55D2-47BD-8B2E-F086175C9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eret Taylor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50920" y="885960"/>
            <a:ext cx="4825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al fungsi f(z) analitik pada |z -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&lt;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ka f(z) dapat diperderetkan menjadi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365040" y="1700280"/>
                <a:ext cx="45259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Rectangle 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1042920" y="2421000"/>
                <a:ext cx="33130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Rectangle 8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9"/>
              <p:cNvSpPr txBox="1"/>
              <p:nvPr/>
            </p:nvSpPr>
            <p:spPr>
              <a:xfrm>
                <a:off x="324000" y="3357720"/>
                <a:ext cx="49305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\( z rSub { size 8{0} }  \) }  over  {2!} }  left (z - z rSub { size 8{0} }  right )` rSup { size 8{2} } +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AutoShape 10"/>
          <p:cNvSpPr/>
          <p:nvPr/>
        </p:nvSpPr>
        <p:spPr>
          <a:xfrm>
            <a:off x="395280" y="4485600"/>
            <a:ext cx="2225520" cy="1463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namakan Deret / Polinomial Taylor di z = z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2863800" y="4718160"/>
            <a:ext cx="2675160" cy="1089360"/>
          </a:xfrm>
          <a:prstGeom prst="flowChartAlternateProcess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Dinamakan Daerah Kekonvergenan / Keanalitikan De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12"/>
          <p:cNvCxnSpPr>
            <a:endCxn id="60" idx="1"/>
          </p:cNvCxnSpPr>
          <p:nvPr/>
        </p:nvCxnSpPr>
        <p:spPr>
          <a:xfrm flipH="1" flipV="1" rot="10800000">
            <a:off x="323640" y="3615840"/>
            <a:ext cx="72000" cy="1602720"/>
          </a:xfrm>
          <a:prstGeom prst="bentConnector3">
            <a:avLst>
              <a:gd name="adj1" fmla="val -319597"/>
            </a:avLst>
          </a:prstGeom>
          <a:ln w="284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63" name="AutoShape 13"/>
          <p:cNvCxnSpPr>
            <a:endCxn id="61" idx="0"/>
          </p:cNvCxnSpPr>
          <p:nvPr/>
        </p:nvCxnSpPr>
        <p:spPr>
          <a:xfrm>
            <a:off x="3058920" y="4254480"/>
            <a:ext cx="1143720" cy="464400"/>
          </a:xfrm>
          <a:prstGeom prst="bentConnector2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64" name="Rectangle 14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5"/>
              <p:cNvSpPr txBox="1"/>
              <p:nvPr/>
            </p:nvSpPr>
            <p:spPr>
              <a:xfrm>
                <a:off x="900000" y="4076640"/>
                <a:ext cx="2159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16"/>
          <p:cNvSpPr/>
          <p:nvPr/>
        </p:nvSpPr>
        <p:spPr>
          <a:xfrm>
            <a:off x="5364000" y="891000"/>
            <a:ext cx="34560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a f(z) fungsi entire  (fungsi analitik dimana-mana ) maka daerah keanalitikan / kekonvergenan  deret yaitu :  | z -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4"/>
          <p:cNvGrpSpPr/>
          <p:nvPr/>
        </p:nvGrpSpPr>
        <p:grpSpPr>
          <a:xfrm>
            <a:off x="6084720" y="2852640"/>
            <a:ext cx="1872000" cy="1800360"/>
            <a:chOff x="6084720" y="2852640"/>
            <a:chExt cx="1872000" cy="1800360"/>
          </a:xfrm>
        </p:grpSpPr>
        <p:sp>
          <p:nvSpPr>
            <p:cNvPr id="68" name="Oval 18"/>
            <p:cNvSpPr/>
            <p:nvPr/>
          </p:nvSpPr>
          <p:spPr>
            <a:xfrm>
              <a:off x="6084720" y="2852640"/>
              <a:ext cx="1872000" cy="18003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9"/>
            <p:cNvSpPr/>
            <p:nvPr/>
          </p:nvSpPr>
          <p:spPr>
            <a:xfrm flipV="1">
              <a:off x="6948360" y="3715560"/>
              <a:ext cx="71640" cy="716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20"/>
            <p:cNvSpPr/>
            <p:nvPr/>
          </p:nvSpPr>
          <p:spPr>
            <a:xfrm>
              <a:off x="6882840" y="3710160"/>
              <a:ext cx="391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7020000" y="3139560"/>
              <a:ext cx="720720" cy="5763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2"/>
            <p:cNvSpPr/>
            <p:nvPr/>
          </p:nvSpPr>
          <p:spPr>
            <a:xfrm>
              <a:off x="6954840" y="31035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3" name="AutoShape 23"/>
          <p:cNvCxnSpPr>
            <a:stCxn id="53" idx="3"/>
            <a:endCxn id="68" idx="2"/>
          </p:cNvCxnSpPr>
          <p:nvPr/>
        </p:nvCxnSpPr>
        <p:spPr>
          <a:xfrm>
            <a:off x="5076360" y="1258920"/>
            <a:ext cx="994680" cy="2494800"/>
          </a:xfrm>
          <a:prstGeom prst="bentConnector3">
            <a:avLst>
              <a:gd name="adj1" fmla="val 27624"/>
            </a:avLst>
          </a:prstGeom>
          <a:ln w="28440">
            <a:solidFill>
              <a:srgbClr val="cc3300"/>
            </a:solidFill>
            <a:miter/>
            <a:headEnd len="med" type="diamond" w="med"/>
            <a:tailEnd len="med" type="triangle" w="med"/>
          </a:ln>
        </p:spPr>
      </p:cxn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FB0C-8A7A-410F-8DD5-77AE192ED22D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3B61096D-C2F6-4C43-9180-FE61EC6E7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# 5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4"/>
              <p:cNvSpPr txBox="1"/>
              <p:nvPr/>
            </p:nvSpPr>
            <p:spPr>
              <a:xfrm>
                <a:off x="324000" y="1268280"/>
                <a:ext cx="151128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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Text Box 5"/>
          <p:cNvSpPr/>
          <p:nvPr/>
        </p:nvSpPr>
        <p:spPr>
          <a:xfrm>
            <a:off x="296280" y="831960"/>
            <a:ext cx="47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deretkan f(z) pada daerah | z – i | 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7"/>
              <p:cNvSpPr txBox="1"/>
              <p:nvPr/>
            </p:nvSpPr>
            <p:spPr>
              <a:xfrm>
                <a:off x="1835280" y="1268280"/>
                <a:ext cx="15843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4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10"/>
              <p:cNvSpPr txBox="1"/>
              <p:nvPr/>
            </p:nvSpPr>
            <p:spPr>
              <a:xfrm>
                <a:off x="3440160" y="1252440"/>
                <a:ext cx="17622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7" name="Text Box 11"/>
          <p:cNvSpPr/>
          <p:nvPr/>
        </p:nvSpPr>
        <p:spPr>
          <a:xfrm>
            <a:off x="370440" y="1982880"/>
            <a:ext cx="50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ku kedua diperderetkan pada 2 &lt; | z – i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14"/>
              <p:cNvSpPr txBox="1"/>
              <p:nvPr/>
            </p:nvSpPr>
            <p:spPr>
              <a:xfrm>
                <a:off x="5796000" y="1844640"/>
                <a:ext cx="12240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1" name="Text Box 15"/>
          <p:cNvSpPr/>
          <p:nvPr/>
        </p:nvSpPr>
        <p:spPr>
          <a:xfrm>
            <a:off x="5363280" y="20239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16"/>
              <p:cNvSpPr txBox="1"/>
              <p:nvPr/>
            </p:nvSpPr>
            <p:spPr>
              <a:xfrm>
                <a:off x="395280" y="2421000"/>
                <a:ext cx="28814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Object 18"/>
              <p:cNvSpPr txBox="1"/>
              <p:nvPr/>
            </p:nvSpPr>
            <p:spPr>
              <a:xfrm>
                <a:off x="7667640" y="1844640"/>
                <a:ext cx="1297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Text Box 19"/>
          <p:cNvSpPr/>
          <p:nvPr/>
        </p:nvSpPr>
        <p:spPr>
          <a:xfrm>
            <a:off x="7162200" y="1989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Object 21"/>
              <p:cNvSpPr txBox="1"/>
              <p:nvPr/>
            </p:nvSpPr>
            <p:spPr>
              <a:xfrm>
                <a:off x="3348000" y="2492280"/>
                <a:ext cx="1944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8" name="Rectangle 2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23"/>
              <p:cNvSpPr txBox="1"/>
              <p:nvPr/>
            </p:nvSpPr>
            <p:spPr>
              <a:xfrm>
                <a:off x="5438880" y="2352600"/>
                <a:ext cx="25891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0" name="Rectangle 24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25"/>
              <p:cNvSpPr txBox="1"/>
              <p:nvPr/>
            </p:nvSpPr>
            <p:spPr>
              <a:xfrm>
                <a:off x="1382760" y="3305160"/>
                <a:ext cx="23972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592" name="AutoShape 26"/>
          <p:cNvCxnSpPr>
            <a:endCxn id="593" idx="6"/>
          </p:cNvCxnSpPr>
          <p:nvPr/>
        </p:nvCxnSpPr>
        <p:spPr>
          <a:xfrm flipH="1" rot="16200000">
            <a:off x="3657600" y="2398320"/>
            <a:ext cx="3782160" cy="1090080"/>
          </a:xfrm>
          <a:prstGeom prst="bentConnector4">
            <a:avLst>
              <a:gd name="adj1" fmla="val -542"/>
              <a:gd name="adj2" fmla="val 199537"/>
            </a:avLst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  <p:grpSp>
        <p:nvGrpSpPr>
          <p:cNvPr id="594" name="Group 27"/>
          <p:cNvGrpSpPr/>
          <p:nvPr/>
        </p:nvGrpSpPr>
        <p:grpSpPr>
          <a:xfrm>
            <a:off x="4716360" y="3611520"/>
            <a:ext cx="2425680" cy="1914480"/>
            <a:chOff x="4716360" y="3611520"/>
            <a:chExt cx="2425680" cy="1914480"/>
          </a:xfrm>
        </p:grpSpPr>
        <p:sp>
          <p:nvSpPr>
            <p:cNvPr id="593" name="Oval 28"/>
            <p:cNvSpPr/>
            <p:nvPr/>
          </p:nvSpPr>
          <p:spPr>
            <a:xfrm>
              <a:off x="4859280" y="4221000"/>
              <a:ext cx="1224000" cy="12240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9"/>
            <p:cNvSpPr/>
            <p:nvPr/>
          </p:nvSpPr>
          <p:spPr>
            <a:xfrm>
              <a:off x="4716360" y="5157720"/>
              <a:ext cx="227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30"/>
            <p:cNvSpPr/>
            <p:nvPr/>
          </p:nvSpPr>
          <p:spPr>
            <a:xfrm flipV="1">
              <a:off x="5465880" y="368784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31"/>
            <p:cNvSpPr/>
            <p:nvPr/>
          </p:nvSpPr>
          <p:spPr>
            <a:xfrm>
              <a:off x="5419800" y="46465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32"/>
            <p:cNvSpPr/>
            <p:nvPr/>
          </p:nvSpPr>
          <p:spPr>
            <a:xfrm>
              <a:off x="6684840" y="51577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33"/>
            <p:cNvSpPr/>
            <p:nvPr/>
          </p:nvSpPr>
          <p:spPr>
            <a:xfrm>
              <a:off x="4940280" y="3611520"/>
              <a:ext cx="56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34"/>
            <p:cNvSpPr/>
            <p:nvPr/>
          </p:nvSpPr>
          <p:spPr>
            <a:xfrm>
              <a:off x="5435640" y="4797360"/>
              <a:ext cx="712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35"/>
            <p:cNvSpPr/>
            <p:nvPr/>
          </p:nvSpPr>
          <p:spPr>
            <a:xfrm>
              <a:off x="5472000" y="39337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2" name="Object 36"/>
              <p:cNvSpPr txBox="1"/>
              <p:nvPr/>
            </p:nvSpPr>
            <p:spPr>
              <a:xfrm>
                <a:off x="5364000" y="1149480"/>
                <a:ext cx="17290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heel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9691-2E47-4D48-B107-BDEF47271617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F81A5DFD-6338-4F6F-B96B-241913285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deretkan fungsi berikut pada daerah yang diberi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deretkan fungsi berikut pada daera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|z –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&l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la diberika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Object 5"/>
              <p:cNvSpPr txBox="1"/>
              <p:nvPr/>
            </p:nvSpPr>
            <p:spPr>
              <a:xfrm>
                <a:off x="1123920" y="1413000"/>
                <a:ext cx="35924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0" name="Rectangle 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Object 7"/>
              <p:cNvSpPr txBox="1"/>
              <p:nvPr/>
            </p:nvSpPr>
            <p:spPr>
              <a:xfrm>
                <a:off x="1146240" y="2133720"/>
                <a:ext cx="34970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2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Object 9"/>
              <p:cNvSpPr txBox="1"/>
              <p:nvPr/>
            </p:nvSpPr>
            <p:spPr>
              <a:xfrm>
                <a:off x="1198440" y="2798640"/>
                <a:ext cx="29419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4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Object 11"/>
              <p:cNvSpPr txBox="1"/>
              <p:nvPr/>
            </p:nvSpPr>
            <p:spPr>
              <a:xfrm>
                <a:off x="1590840" y="3438360"/>
                <a:ext cx="28065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13"/>
              <p:cNvSpPr txBox="1"/>
              <p:nvPr/>
            </p:nvSpPr>
            <p:spPr>
              <a:xfrm>
                <a:off x="1187280" y="4941720"/>
                <a:ext cx="30974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15"/>
              <p:cNvSpPr txBox="1"/>
              <p:nvPr/>
            </p:nvSpPr>
            <p:spPr>
              <a:xfrm>
                <a:off x="4556160" y="4941720"/>
                <a:ext cx="36878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22AE-D2B2-44C5-973B-C977331B91A0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18BB448C-151F-4F74-8A2B-386D1757E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eret Mac Laurin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24000" y="886320"/>
            <a:ext cx="849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a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maka deret disebu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et Mac Laur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an dapat dituliska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1092240" y="1292400"/>
                <a:ext cx="227808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" name="Rectangle 9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8"/>
              <p:cNvSpPr txBox="1"/>
              <p:nvPr/>
            </p:nvSpPr>
            <p:spPr>
              <a:xfrm>
                <a:off x="3419640" y="1413000"/>
                <a:ext cx="51847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\( 0 \) }  over  {2!} } z rSup { size 8{2} } +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left ( \lline z \lline &lt;R rSub { size 8{0} }  right )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Rectangle 10"/>
          <p:cNvSpPr/>
          <p:nvPr/>
        </p:nvSpPr>
        <p:spPr>
          <a:xfrm>
            <a:off x="390960" y="2275560"/>
            <a:ext cx="50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yatakan f(z) =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lam deret Mac Laur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396720" y="2628000"/>
            <a:ext cx="820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ungsi f(z) = e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merupakan fungsi entire sehingga daerah keanalitikan : | z | &lt;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dan turunan fungsi sampai tingkat ke-n dan nilai turunan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 = 0  diberi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12"/>
              <p:cNvSpPr txBox="1"/>
              <p:nvPr/>
            </p:nvSpPr>
            <p:spPr>
              <a:xfrm>
                <a:off x="395280" y="3860640"/>
                <a:ext cx="2952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Rectangle 15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4"/>
              <p:cNvSpPr txBox="1"/>
              <p:nvPr/>
            </p:nvSpPr>
            <p:spPr>
              <a:xfrm>
                <a:off x="4815000" y="4365720"/>
                <a:ext cx="3286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z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Rectangle 17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6"/>
              <p:cNvSpPr txBox="1"/>
              <p:nvPr/>
            </p:nvSpPr>
            <p:spPr>
              <a:xfrm>
                <a:off x="361800" y="4437000"/>
                <a:ext cx="4281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z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\( 0 \) }  over  {2!} } z rSup { size 8{2} } + {  {f`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8"/>
              <p:cNvSpPr txBox="1"/>
              <p:nvPr/>
            </p:nvSpPr>
            <p:spPr>
              <a:xfrm>
                <a:off x="2523960" y="5095800"/>
                <a:ext cx="27273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z</m:t>
                            </m:r>
                            <m:r>
                              <m:t xml:space="preserve">|</m:t>
                            </m:r>
                            <m:r>
                              <m:t xml:space="preserve">&lt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43D3-55CD-44CF-BC60-4E6DE67A6163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8F33B903-9D50-45F8-8BF4-CBB2028AA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eret Mac Laurin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4000" y="187884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deretkan dalam deret Mac Laurin, f(z) =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324000" y="231048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f(z) = e</a:t>
            </a:r>
            <a:r>
              <a:rPr b="0" lang="sv-SE" sz="2000" spc="-1" strike="noStrike" baseline="30000">
                <a:solidFill>
                  <a:srgbClr val="000000"/>
                </a:solidFill>
                <a:latin typeface="Arial"/>
              </a:rPr>
              <a:t>3z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: fungsi entire, sehingga daerah keanalitikan: | z |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381240" y="2692440"/>
            <a:ext cx="26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| z |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| 3 z |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1"/>
              <p:cNvSpPr txBox="1"/>
              <p:nvPr/>
            </p:nvSpPr>
            <p:spPr>
              <a:xfrm>
                <a:off x="466560" y="3268800"/>
                <a:ext cx="25210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z</m:t>
                            </m:r>
                            <m:r>
                              <m:t xml:space="preserve">|</m:t>
                            </m:r>
                            <m:r>
                              <m:t xml:space="preserve">&lt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0" name="Rectangle 23"/>
          <p:cNvSpPr/>
          <p:nvPr/>
        </p:nvSpPr>
        <p:spPr>
          <a:xfrm>
            <a:off x="3743280" y="2692440"/>
            <a:ext cx="31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.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f(z) = e</a:t>
            </a:r>
            <a:r>
              <a:rPr b="0" lang="sv-SE" sz="2000" spc="-1" strike="noStrike" baseline="30000">
                <a:solidFill>
                  <a:srgbClr val="000000"/>
                </a:solidFill>
                <a:latin typeface="Arial"/>
              </a:rPr>
              <a:t>3z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... | 3 z |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5"/>
              <p:cNvSpPr txBox="1"/>
              <p:nvPr/>
            </p:nvSpPr>
            <p:spPr>
              <a:xfrm>
                <a:off x="3924360" y="3222720"/>
                <a:ext cx="18000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z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t xml:space="preserve">z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3" name="Rectangle 2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7"/>
              <p:cNvSpPr txBox="1"/>
              <p:nvPr/>
            </p:nvSpPr>
            <p:spPr>
              <a:xfrm>
                <a:off x="5940360" y="3220920"/>
                <a:ext cx="2376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&lt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5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7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6"/>
          <p:cNvSpPr/>
          <p:nvPr/>
        </p:nvSpPr>
        <p:spPr>
          <a:xfrm>
            <a:off x="2313000" y="3816360"/>
            <a:ext cx="68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8"/>
          <p:cNvSpPr/>
          <p:nvPr/>
        </p:nvSpPr>
        <p:spPr>
          <a:xfrm>
            <a:off x="214200" y="4456080"/>
            <a:ext cx="31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.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f(z) = e</a:t>
            </a:r>
            <a:r>
              <a:rPr b="0" lang="sv-SE" sz="2000" spc="-1" strike="noStrike" baseline="30000">
                <a:solidFill>
                  <a:srgbClr val="000000"/>
                </a:solidFill>
                <a:latin typeface="Arial"/>
              </a:rPr>
              <a:t>az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... | a z |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41"/>
              <p:cNvSpPr txBox="1"/>
              <p:nvPr/>
            </p:nvSpPr>
            <p:spPr>
              <a:xfrm>
                <a:off x="1265400" y="5003640"/>
                <a:ext cx="15778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z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4" name="Rectangle 144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43"/>
              <p:cNvSpPr txBox="1"/>
              <p:nvPr/>
            </p:nvSpPr>
            <p:spPr>
              <a:xfrm>
                <a:off x="2927520" y="4997520"/>
                <a:ext cx="27129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&lt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Text Box 145"/>
          <p:cNvSpPr/>
          <p:nvPr/>
        </p:nvSpPr>
        <p:spPr>
          <a:xfrm>
            <a:off x="376200" y="758880"/>
            <a:ext cx="84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Untuk melakukan perderetan fungsi eksponen yang lain dapat dilakukan tanpa harus melakukan penurunan fungsi, tapi dengan mengguna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asil dia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DE9C-D13D-4FE2-9935-0027CDA01319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AC5DFF00-3AA0-4FDD-A048-6BC28961D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eret Mac Laurin # 3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3"/>
              <p:cNvSpPr txBox="1"/>
              <p:nvPr/>
            </p:nvSpPr>
            <p:spPr>
              <a:xfrm>
                <a:off x="468360" y="1484280"/>
                <a:ext cx="1579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h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 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5"/>
              <p:cNvSpPr txBox="1"/>
              <p:nvPr/>
            </p:nvSpPr>
            <p:spPr>
              <a:xfrm>
                <a:off x="2195640" y="1365120"/>
                <a:ext cx="1584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z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7" name="Rectangle 16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7"/>
              <p:cNvSpPr txBox="1"/>
              <p:nvPr/>
            </p:nvSpPr>
            <p:spPr>
              <a:xfrm>
                <a:off x="3851280" y="1268280"/>
                <a:ext cx="25210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z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  <m:r>
                                      <m:t xml:space="preserve">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Rectangle 18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19"/>
              <p:cNvSpPr txBox="1"/>
              <p:nvPr/>
            </p:nvSpPr>
            <p:spPr>
              <a:xfrm>
                <a:off x="1042920" y="1989000"/>
                <a:ext cx="259092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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31" name=""/>
          <p:cNvGraphicFramePr/>
          <p:nvPr/>
        </p:nvGraphicFramePr>
        <p:xfrm>
          <a:off x="2050920" y="2924280"/>
          <a:ext cx="4033800" cy="938160"/>
        </p:xfrm>
        <a:graphic>
          <a:graphicData uri="http://schemas.openxmlformats.org/drawingml/2006/table">
            <a:tbl>
              <a:tblPr/>
              <a:tblGrid>
                <a:gridCol w="1152720"/>
                <a:gridCol w="465120"/>
                <a:gridCol w="471600"/>
                <a:gridCol w="431640"/>
                <a:gridCol w="431640"/>
                <a:gridCol w="505080"/>
                <a:gridCol w="57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angle 4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1"/>
          <p:cNvSpPr/>
          <p:nvPr/>
        </p:nvSpPr>
        <p:spPr>
          <a:xfrm>
            <a:off x="365400" y="903240"/>
            <a:ext cx="60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deretkan f(z) = sinh z ke dalam deret Mac Lau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66"/>
          <p:cNvGrpSpPr/>
          <p:nvPr/>
        </p:nvGrpSpPr>
        <p:grpSpPr>
          <a:xfrm>
            <a:off x="2122560" y="3359160"/>
            <a:ext cx="1081080" cy="430200"/>
            <a:chOff x="2122560" y="3359160"/>
            <a:chExt cx="1081080" cy="430200"/>
          </a:xfrm>
        </p:grpSpPr>
        <p:sp>
          <p:nvSpPr>
            <p:cNvPr id="136" name="AutoShape 65"/>
            <p:cNvSpPr/>
            <p:nvPr/>
          </p:nvSpPr>
          <p:spPr>
            <a:xfrm>
              <a:off x="2122560" y="3360600"/>
              <a:ext cx="1081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67"/>
            <p:cNvSpPr/>
            <p:nvPr/>
          </p:nvSpPr>
          <p:spPr>
            <a:xfrm>
              <a:off x="2571120" y="3359160"/>
              <a:ext cx="12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68"/>
            <p:cNvSpPr/>
            <p:nvPr/>
          </p:nvSpPr>
          <p:spPr>
            <a:xfrm>
              <a:off x="2956680" y="3359160"/>
              <a:ext cx="12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69"/>
            <p:cNvSpPr/>
            <p:nvPr/>
          </p:nvSpPr>
          <p:spPr>
            <a:xfrm>
              <a:off x="3033720" y="3389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70"/>
            <p:cNvSpPr/>
            <p:nvPr/>
          </p:nvSpPr>
          <p:spPr>
            <a:xfrm>
              <a:off x="2860920" y="3471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71"/>
            <p:cNvSpPr/>
            <p:nvPr/>
          </p:nvSpPr>
          <p:spPr>
            <a:xfrm>
              <a:off x="2143440" y="3471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2"/>
            <p:cNvSpPr/>
            <p:nvPr/>
          </p:nvSpPr>
          <p:spPr>
            <a:xfrm>
              <a:off x="2672280" y="34495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3"/>
            <p:cNvSpPr/>
            <p:nvPr/>
          </p:nvSpPr>
          <p:spPr>
            <a:xfrm>
              <a:off x="2370600" y="34495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75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74"/>
              <p:cNvSpPr txBox="1"/>
              <p:nvPr/>
            </p:nvSpPr>
            <p:spPr>
              <a:xfrm>
                <a:off x="3708360" y="2060640"/>
                <a:ext cx="37432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Rectangle 77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76"/>
              <p:cNvSpPr txBox="1"/>
              <p:nvPr/>
            </p:nvSpPr>
            <p:spPr>
              <a:xfrm>
                <a:off x="1042920" y="4005360"/>
                <a:ext cx="26654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Rectangle 79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78"/>
              <p:cNvSpPr txBox="1"/>
              <p:nvPr/>
            </p:nvSpPr>
            <p:spPr>
              <a:xfrm>
                <a:off x="3851280" y="3933720"/>
                <a:ext cx="23050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Rectangle 81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80"/>
              <p:cNvSpPr txBox="1"/>
              <p:nvPr/>
            </p:nvSpPr>
            <p:spPr>
              <a:xfrm>
                <a:off x="1042920" y="4797360"/>
                <a:ext cx="18734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newsflash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3E7C-6899-448E-BD51-4027FDF2FF4C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C10DCAEE-C316-4E7F-970A-9D144D262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eret Mac Laurin # 4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388440" y="892800"/>
            <a:ext cx="47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erderetkan ke dalam deret Mac Laur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5"/>
              <p:cNvSpPr txBox="1"/>
              <p:nvPr/>
            </p:nvSpPr>
            <p:spPr>
              <a:xfrm>
                <a:off x="468360" y="1341360"/>
                <a:ext cx="14396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AutoShape 8"/>
          <p:cNvSpPr/>
          <p:nvPr/>
        </p:nvSpPr>
        <p:spPr>
          <a:xfrm>
            <a:off x="5861160" y="907920"/>
            <a:ext cx="2743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6084720" y="1341360"/>
            <a:ext cx="1371600" cy="1371600"/>
          </a:xfrm>
          <a:prstGeom prst="ellipse">
            <a:avLst/>
          </a:prstGeom>
          <a:solidFill>
            <a:srgbClr val="ffcc99"/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9"/>
          <p:cNvGrpSpPr/>
          <p:nvPr/>
        </p:nvGrpSpPr>
        <p:grpSpPr>
          <a:xfrm>
            <a:off x="5937120" y="984240"/>
            <a:ext cx="2379960" cy="1981080"/>
            <a:chOff x="5937120" y="984240"/>
            <a:chExt cx="2379960" cy="1981080"/>
          </a:xfrm>
        </p:grpSpPr>
        <p:sp>
          <p:nvSpPr>
            <p:cNvPr id="162" name="Line 10"/>
            <p:cNvSpPr/>
            <p:nvPr/>
          </p:nvSpPr>
          <p:spPr>
            <a:xfrm>
              <a:off x="6775560" y="984240"/>
              <a:ext cx="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>
              <a:off x="5937120" y="2050920"/>
              <a:ext cx="19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2"/>
            <p:cNvSpPr/>
            <p:nvPr/>
          </p:nvSpPr>
          <p:spPr>
            <a:xfrm>
              <a:off x="7689960" y="2050920"/>
              <a:ext cx="6271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6156360" y="984240"/>
              <a:ext cx="625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7308720" y="189864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5"/>
            <p:cNvSpPr/>
            <p:nvPr/>
          </p:nvSpPr>
          <p:spPr>
            <a:xfrm>
              <a:off x="7232760" y="2050920"/>
              <a:ext cx="3636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16"/>
          <p:cNvSpPr/>
          <p:nvPr/>
        </p:nvSpPr>
        <p:spPr>
          <a:xfrm>
            <a:off x="7740720" y="981000"/>
            <a:ext cx="1079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| z | &lt;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AutoShape 17"/>
          <p:cNvCxnSpPr>
            <a:stCxn id="168" idx="1"/>
            <a:endCxn id="160" idx="7"/>
          </p:cNvCxnSpPr>
          <p:nvPr/>
        </p:nvCxnSpPr>
        <p:spPr>
          <a:xfrm flipV="1" rot="10800000">
            <a:off x="7254000" y="1170360"/>
            <a:ext cx="486720" cy="3582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0" name="Text Box 20"/>
          <p:cNvSpPr/>
          <p:nvPr/>
        </p:nvSpPr>
        <p:spPr>
          <a:xfrm>
            <a:off x="2031840" y="1406520"/>
            <a:ext cx="29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analitik di z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2388600" y="187956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erah Keanaliti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23"/>
          <p:cNvCxnSpPr>
            <a:stCxn id="171" idx="3"/>
          </p:cNvCxnSpPr>
          <p:nvPr/>
        </p:nvCxnSpPr>
        <p:spPr>
          <a:xfrm flipV="1">
            <a:off x="4932000" y="1844280"/>
            <a:ext cx="864360" cy="234000"/>
          </a:xfrm>
          <a:prstGeom prst="bentConnector3">
            <a:avLst>
              <a:gd name="adj1" fmla="val 50000"/>
            </a:avLst>
          </a:prstGeom>
          <a:ln w="2844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173" name="Rectangle 25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4"/>
              <p:cNvSpPr txBox="1"/>
              <p:nvPr/>
            </p:nvSpPr>
            <p:spPr>
              <a:xfrm>
                <a:off x="4122720" y="3141720"/>
                <a:ext cx="46972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z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\( 0 \) }  over  {2!} } z rSup { size 8{2} } + {  {f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27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6"/>
              <p:cNvSpPr txBox="1"/>
              <p:nvPr/>
            </p:nvSpPr>
            <p:spPr>
              <a:xfrm>
                <a:off x="4788000" y="3716280"/>
                <a:ext cx="36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z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29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28"/>
              <p:cNvSpPr txBox="1"/>
              <p:nvPr/>
            </p:nvSpPr>
            <p:spPr>
              <a:xfrm>
                <a:off x="4788000" y="4437000"/>
                <a:ext cx="28796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Rectangle 31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0"/>
              <p:cNvSpPr txBox="1"/>
              <p:nvPr/>
            </p:nvSpPr>
            <p:spPr>
              <a:xfrm>
                <a:off x="4788000" y="5084640"/>
                <a:ext cx="259236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Rectangle 3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2"/>
              <p:cNvSpPr txBox="1"/>
              <p:nvPr/>
            </p:nvSpPr>
            <p:spPr>
              <a:xfrm>
                <a:off x="480960" y="2492280"/>
                <a:ext cx="15159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 Box 34"/>
          <p:cNvSpPr/>
          <p:nvPr/>
        </p:nvSpPr>
        <p:spPr>
          <a:xfrm>
            <a:off x="2192040" y="25779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‘ (0) =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5"/>
          <p:cNvSpPr/>
          <p:nvPr/>
        </p:nvSpPr>
        <p:spPr>
          <a:xfrm>
            <a:off x="394200" y="202392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0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36"/>
              <p:cNvSpPr txBox="1"/>
              <p:nvPr/>
            </p:nvSpPr>
            <p:spPr>
              <a:xfrm>
                <a:off x="468360" y="3133800"/>
                <a:ext cx="15285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\( z \) = {  {2}  over  { \( 1 - z \)  rSup { size 8{3} } } }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Text Box 38"/>
          <p:cNvSpPr/>
          <p:nvPr/>
        </p:nvSpPr>
        <p:spPr>
          <a:xfrm>
            <a:off x="2212560" y="32050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“ (0) =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2212560" y="38545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‘” (0) =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40"/>
              <p:cNvSpPr txBox="1"/>
              <p:nvPr/>
            </p:nvSpPr>
            <p:spPr>
              <a:xfrm>
                <a:off x="490680" y="3787920"/>
                <a:ext cx="15793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''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2"/>
              <p:cNvSpPr txBox="1"/>
              <p:nvPr/>
            </p:nvSpPr>
            <p:spPr>
              <a:xfrm>
                <a:off x="539640" y="5383080"/>
                <a:ext cx="352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\( 0 \) }  over  {2!} } z rSup { size 8{2} } +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left ( \lline z \lline &lt;1 right )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Rectangle 4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4"/>
              <p:cNvSpPr txBox="1"/>
              <p:nvPr/>
            </p:nvSpPr>
            <p:spPr>
              <a:xfrm>
                <a:off x="485640" y="4429080"/>
                <a:ext cx="21416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Rectangle 47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1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25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B716-9FAD-4148-AA61-C36CD564CCAB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F1227970-4B08-42EA-AFA2-B12EDCA2E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eret Mac Laurin # 5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244080" y="1699200"/>
            <a:ext cx="47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deretkan ke dalam deret Mac Lauri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31840" y="857160"/>
            <a:ext cx="866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Untuk perderetan fungsi rasional yang lain diselesaikan dengan menggunakan hasil dia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6"/>
              <p:cNvSpPr txBox="1"/>
              <p:nvPr/>
            </p:nvSpPr>
            <p:spPr>
              <a:xfrm>
                <a:off x="324000" y="2205000"/>
                <a:ext cx="14396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Text Box 8"/>
          <p:cNvSpPr/>
          <p:nvPr/>
        </p:nvSpPr>
        <p:spPr>
          <a:xfrm>
            <a:off x="1738440" y="223992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analitik di z = -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8"/>
          <p:cNvGrpSpPr/>
          <p:nvPr/>
        </p:nvGrpSpPr>
        <p:grpSpPr>
          <a:xfrm>
            <a:off x="5724360" y="1700280"/>
            <a:ext cx="2448000" cy="1981080"/>
            <a:chOff x="5724360" y="1700280"/>
            <a:chExt cx="2448000" cy="1981080"/>
          </a:xfrm>
        </p:grpSpPr>
        <p:sp>
          <p:nvSpPr>
            <p:cNvPr id="205" name="Line 10"/>
            <p:cNvSpPr/>
            <p:nvPr/>
          </p:nvSpPr>
          <p:spPr>
            <a:xfrm>
              <a:off x="6630840" y="1700280"/>
              <a:ext cx="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>
              <a:off x="5792760" y="276696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2"/>
            <p:cNvSpPr/>
            <p:nvPr/>
          </p:nvSpPr>
          <p:spPr>
            <a:xfrm>
              <a:off x="7545240" y="2766960"/>
              <a:ext cx="6271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3"/>
            <p:cNvSpPr/>
            <p:nvPr/>
          </p:nvSpPr>
          <p:spPr>
            <a:xfrm>
              <a:off x="6012000" y="1700280"/>
              <a:ext cx="625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4"/>
            <p:cNvSpPr/>
            <p:nvPr/>
          </p:nvSpPr>
          <p:spPr>
            <a:xfrm>
              <a:off x="5796000" y="2565360"/>
              <a:ext cx="304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5"/>
            <p:cNvSpPr/>
            <p:nvPr/>
          </p:nvSpPr>
          <p:spPr>
            <a:xfrm>
              <a:off x="5724360" y="2781360"/>
              <a:ext cx="574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Oval 17"/>
          <p:cNvSpPr/>
          <p:nvPr/>
        </p:nvSpPr>
        <p:spPr>
          <a:xfrm>
            <a:off x="5940360" y="2057400"/>
            <a:ext cx="1371600" cy="1371600"/>
          </a:xfrm>
          <a:prstGeom prst="ellipse">
            <a:avLst/>
          </a:prstGeom>
          <a:solidFill>
            <a:srgbClr val="ffcc99">
              <a:alpha val="50000"/>
            </a:srgbClr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2031480" y="263052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erah Keanaliti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AutoShape 20"/>
          <p:cNvCxnSpPr>
            <a:stCxn id="212" idx="3"/>
          </p:cNvCxnSpPr>
          <p:nvPr/>
        </p:nvCxnSpPr>
        <p:spPr>
          <a:xfrm flipV="1">
            <a:off x="4575240" y="2491560"/>
            <a:ext cx="1077120" cy="337320"/>
          </a:xfrm>
          <a:prstGeom prst="bentConnector3">
            <a:avLst>
              <a:gd name="adj1" fmla="val 49983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4" name="AutoShape 21"/>
          <p:cNvSpPr/>
          <p:nvPr/>
        </p:nvSpPr>
        <p:spPr>
          <a:xfrm>
            <a:off x="7164360" y="1773360"/>
            <a:ext cx="1295280" cy="431640"/>
          </a:xfrm>
          <a:prstGeom prst="wedgeRoundRectCallout">
            <a:avLst>
              <a:gd name="adj1" fmla="val -39337"/>
              <a:gd name="adj2" fmla="val 12610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z| &l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425520" y="3135240"/>
            <a:ext cx="23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-z | &lt; 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 z | &l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23"/>
              <p:cNvSpPr txBox="1"/>
              <p:nvPr/>
            </p:nvSpPr>
            <p:spPr>
              <a:xfrm>
                <a:off x="3203640" y="3141720"/>
                <a:ext cx="2303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Rectangle 2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5"/>
              <p:cNvSpPr txBox="1"/>
              <p:nvPr/>
            </p:nvSpPr>
            <p:spPr>
              <a:xfrm>
                <a:off x="765000" y="3789360"/>
                <a:ext cx="25117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20" name="AutoShape 27"/>
          <p:cNvCxnSpPr/>
          <p:nvPr/>
        </p:nvCxnSpPr>
        <p:spPr>
          <a:xfrm flipH="1" flipV="1" rot="10800000">
            <a:off x="322920" y="2442960"/>
            <a:ext cx="441720" cy="1659600"/>
          </a:xfrm>
          <a:prstGeom prst="bentConnector3">
            <a:avLst>
              <a:gd name="adj1" fmla="val -51794"/>
            </a:avLst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221" name="Rectangle 2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8"/>
              <p:cNvSpPr txBox="1"/>
              <p:nvPr/>
            </p:nvSpPr>
            <p:spPr>
              <a:xfrm>
                <a:off x="765000" y="4437000"/>
                <a:ext cx="1284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z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3" name="Rectangle 3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30"/>
              <p:cNvSpPr txBox="1"/>
              <p:nvPr/>
            </p:nvSpPr>
            <p:spPr>
              <a:xfrm>
                <a:off x="2921040" y="4414680"/>
                <a:ext cx="25844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5" dur="2000" fill="hold"/>
                                        <p:tgtEl>
                                          <p:spTgt spid="217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A711-3EC0-4363-9BD4-9E097F5501E0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32F5FAE7-232C-4BB8-81FC-E18E64A59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395280" y="1341360"/>
                <a:ext cx="1512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Text Box 6"/>
          <p:cNvSpPr/>
          <p:nvPr/>
        </p:nvSpPr>
        <p:spPr>
          <a:xfrm>
            <a:off x="296280" y="903240"/>
            <a:ext cx="48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deretkan ke dalam Deret Mac Lauri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7"/>
          <p:cNvGrpSpPr/>
          <p:nvPr/>
        </p:nvGrpSpPr>
        <p:grpSpPr>
          <a:xfrm>
            <a:off x="5564160" y="3549600"/>
            <a:ext cx="2448000" cy="1981080"/>
            <a:chOff x="5564160" y="3549600"/>
            <a:chExt cx="2448000" cy="1981080"/>
          </a:xfrm>
        </p:grpSpPr>
        <p:sp>
          <p:nvSpPr>
            <p:cNvPr id="233" name="Line 8"/>
            <p:cNvSpPr/>
            <p:nvPr/>
          </p:nvSpPr>
          <p:spPr>
            <a:xfrm>
              <a:off x="6470640" y="3549600"/>
              <a:ext cx="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9"/>
            <p:cNvSpPr/>
            <p:nvPr/>
          </p:nvSpPr>
          <p:spPr>
            <a:xfrm>
              <a:off x="5632560" y="461628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0"/>
            <p:cNvSpPr/>
            <p:nvPr/>
          </p:nvSpPr>
          <p:spPr>
            <a:xfrm>
              <a:off x="7385040" y="4616280"/>
              <a:ext cx="62712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1"/>
            <p:cNvSpPr/>
            <p:nvPr/>
          </p:nvSpPr>
          <p:spPr>
            <a:xfrm>
              <a:off x="5851800" y="3549600"/>
              <a:ext cx="625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2"/>
            <p:cNvSpPr/>
            <p:nvPr/>
          </p:nvSpPr>
          <p:spPr>
            <a:xfrm>
              <a:off x="5635800" y="4414680"/>
              <a:ext cx="3045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3"/>
            <p:cNvSpPr/>
            <p:nvPr/>
          </p:nvSpPr>
          <p:spPr>
            <a:xfrm>
              <a:off x="5564160" y="4630680"/>
              <a:ext cx="574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4"/>
            <p:cNvSpPr/>
            <p:nvPr/>
          </p:nvSpPr>
          <p:spPr>
            <a:xfrm>
              <a:off x="7004160" y="4412880"/>
              <a:ext cx="304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5"/>
            <p:cNvSpPr/>
            <p:nvPr/>
          </p:nvSpPr>
          <p:spPr>
            <a:xfrm>
              <a:off x="7075440" y="4628880"/>
              <a:ext cx="289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Oval 16"/>
          <p:cNvSpPr/>
          <p:nvPr/>
        </p:nvSpPr>
        <p:spPr>
          <a:xfrm>
            <a:off x="5780160" y="3908520"/>
            <a:ext cx="1371600" cy="1371600"/>
          </a:xfrm>
          <a:prstGeom prst="ellipse">
            <a:avLst/>
          </a:prstGeom>
          <a:solidFill>
            <a:srgbClr val="ffcc00">
              <a:alpha val="50000"/>
            </a:srgbClr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1880280" y="1406520"/>
            <a:ext cx="40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analitik di z = 1 dan z =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2247480" y="183996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erah Keanaliti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AutoShape 20"/>
          <p:cNvCxnSpPr>
            <a:stCxn id="243" idx="3"/>
            <a:endCxn id="238" idx="1"/>
          </p:cNvCxnSpPr>
          <p:nvPr/>
        </p:nvCxnSpPr>
        <p:spPr>
          <a:xfrm>
            <a:off x="4790880" y="2038320"/>
            <a:ext cx="773640" cy="2774160"/>
          </a:xfrm>
          <a:prstGeom prst="bentConnector3">
            <a:avLst>
              <a:gd name="adj1" fmla="val 4986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5" name="AutoShape 21"/>
          <p:cNvSpPr/>
          <p:nvPr/>
        </p:nvSpPr>
        <p:spPr>
          <a:xfrm>
            <a:off x="7077240" y="3429000"/>
            <a:ext cx="1152360" cy="368280"/>
          </a:xfrm>
          <a:prstGeom prst="borderCallout2">
            <a:avLst>
              <a:gd name="adj1" fmla="val 18750"/>
              <a:gd name="adj2" fmla="val -8333"/>
              <a:gd name="adj3" fmla="val 28916"/>
              <a:gd name="adj4" fmla="val -24791"/>
              <a:gd name="adj5" fmla="val 135347"/>
              <a:gd name="adj6" fmla="val -4365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z | &lt;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5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24"/>
              <p:cNvSpPr txBox="1"/>
              <p:nvPr/>
            </p:nvSpPr>
            <p:spPr>
              <a:xfrm>
                <a:off x="971640" y="2139840"/>
                <a:ext cx="10792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Rectangle 27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6"/>
              <p:cNvSpPr txBox="1"/>
              <p:nvPr/>
            </p:nvSpPr>
            <p:spPr>
              <a:xfrm>
                <a:off x="974880" y="2924280"/>
                <a:ext cx="14364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1" name="Rectangle 29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28"/>
              <p:cNvSpPr txBox="1"/>
              <p:nvPr/>
            </p:nvSpPr>
            <p:spPr>
              <a:xfrm>
                <a:off x="2484360" y="2924280"/>
                <a:ext cx="1224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Rectangle 3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30"/>
              <p:cNvSpPr txBox="1"/>
              <p:nvPr/>
            </p:nvSpPr>
            <p:spPr>
              <a:xfrm>
                <a:off x="971640" y="3860640"/>
                <a:ext cx="23479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Text Box 32"/>
          <p:cNvSpPr/>
          <p:nvPr/>
        </p:nvSpPr>
        <p:spPr>
          <a:xfrm>
            <a:off x="6774480" y="548784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z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&l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33"/>
          <p:cNvCxnSpPr>
            <a:stCxn id="245" idx="0"/>
            <a:endCxn id="255" idx="3"/>
          </p:cNvCxnSpPr>
          <p:nvPr/>
        </p:nvCxnSpPr>
        <p:spPr>
          <a:xfrm flipH="1">
            <a:off x="7873560" y="3627360"/>
            <a:ext cx="370800" cy="2059920"/>
          </a:xfrm>
          <a:prstGeom prst="bentConnector3">
            <a:avLst>
              <a:gd name="adj1" fmla="val -34693"/>
            </a:avLst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7" name="Rectangle 3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E95D-EB8E-43DA-9C50-6E409922691F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AB0B9838-4DB0-41FF-9A4B-B64BA7BB6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244080" y="903240"/>
            <a:ext cx="47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deretkan ke dalam deret Mac Laur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5"/>
              <p:cNvSpPr txBox="1"/>
              <p:nvPr/>
            </p:nvSpPr>
            <p:spPr>
              <a:xfrm>
                <a:off x="324000" y="1413000"/>
                <a:ext cx="15112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Text Box 7"/>
          <p:cNvSpPr/>
          <p:nvPr/>
        </p:nvSpPr>
        <p:spPr>
          <a:xfrm>
            <a:off x="2139120" y="153684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analitik di z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8"/>
          <p:cNvGrpSpPr/>
          <p:nvPr/>
        </p:nvGrpSpPr>
        <p:grpSpPr>
          <a:xfrm>
            <a:off x="2771640" y="3608280"/>
            <a:ext cx="2379600" cy="1981440"/>
            <a:chOff x="2771640" y="3608280"/>
            <a:chExt cx="2379600" cy="1981440"/>
          </a:xfrm>
        </p:grpSpPr>
        <p:sp>
          <p:nvSpPr>
            <p:cNvPr id="269" name="Line 9"/>
            <p:cNvSpPr/>
            <p:nvPr/>
          </p:nvSpPr>
          <p:spPr>
            <a:xfrm>
              <a:off x="3609720" y="3608280"/>
              <a:ext cx="0" cy="198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0"/>
            <p:cNvSpPr/>
            <p:nvPr/>
          </p:nvSpPr>
          <p:spPr>
            <a:xfrm>
              <a:off x="2771640" y="467532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1"/>
            <p:cNvSpPr/>
            <p:nvPr/>
          </p:nvSpPr>
          <p:spPr>
            <a:xfrm>
              <a:off x="4524120" y="4675320"/>
              <a:ext cx="6271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>
              <a:off x="2990880" y="3608280"/>
              <a:ext cx="6253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5"/>
            <p:cNvSpPr/>
            <p:nvPr/>
          </p:nvSpPr>
          <p:spPr>
            <a:xfrm>
              <a:off x="4143240" y="4471920"/>
              <a:ext cx="3049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6"/>
            <p:cNvSpPr/>
            <p:nvPr/>
          </p:nvSpPr>
          <p:spPr>
            <a:xfrm>
              <a:off x="4214520" y="4687920"/>
              <a:ext cx="289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Oval 17"/>
          <p:cNvSpPr/>
          <p:nvPr/>
        </p:nvSpPr>
        <p:spPr>
          <a:xfrm>
            <a:off x="2919240" y="3967200"/>
            <a:ext cx="1371600" cy="1371600"/>
          </a:xfrm>
          <a:prstGeom prst="ellipse">
            <a:avLst/>
          </a:prstGeom>
          <a:solidFill>
            <a:srgbClr val="ffcc00">
              <a:alpha val="50000"/>
            </a:srgbClr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2501640" y="1968480"/>
            <a:ext cx="358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erah Keanalitikan,  | z | &lt;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AutoShape 20"/>
          <p:cNvCxnSpPr>
            <a:stCxn id="276" idx="3"/>
            <a:endCxn id="275" idx="7"/>
          </p:cNvCxnSpPr>
          <p:nvPr/>
        </p:nvCxnSpPr>
        <p:spPr>
          <a:xfrm flipH="1">
            <a:off x="4088520" y="2166480"/>
            <a:ext cx="1996200" cy="1987920"/>
          </a:xfrm>
          <a:prstGeom prst="curvedConnector5">
            <a:avLst>
              <a:gd name="adj1" fmla="val -11435"/>
              <a:gd name="adj2" fmla="val 33870"/>
              <a:gd name="adj3" fmla="val -11435"/>
            </a:avLst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78" name="Rectangle 22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1"/>
              <p:cNvSpPr txBox="1"/>
              <p:nvPr/>
            </p:nvSpPr>
            <p:spPr>
              <a:xfrm>
                <a:off x="836640" y="2595600"/>
                <a:ext cx="1289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0" name="Rectangle 2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3"/>
              <p:cNvSpPr txBox="1"/>
              <p:nvPr/>
            </p:nvSpPr>
            <p:spPr>
              <a:xfrm>
                <a:off x="2141640" y="2595600"/>
                <a:ext cx="14936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z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2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7"/>
              <p:cNvSpPr txBox="1"/>
              <p:nvPr/>
            </p:nvSpPr>
            <p:spPr>
              <a:xfrm>
                <a:off x="3557520" y="2595600"/>
                <a:ext cx="21668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4" name="Rectangle 3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8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02:30:10Z</dcterms:created>
  <dc:creator>Danang</dc:creator>
  <dc:description/>
  <dc:language>en-US</dc:language>
  <cp:lastModifiedBy>My Computer</cp:lastModifiedBy>
  <dcterms:modified xsi:type="dcterms:W3CDTF">2012-05-07T03:06:25Z</dcterms:modified>
  <cp:revision>87</cp:revision>
  <dc:subject/>
  <dc:title>Slide 1</dc:title>
</cp:coreProperties>
</file>