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45B-9C42-4182-8B6C-6A6ED136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CD9-62F2-404F-A0EB-774BFA32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CA4-2CCC-4E02-9749-B9B38A41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F4-4C52-4592-8679-198A9EFB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C9F-D2E4-48B5-B516-E863378E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FB0-A5CF-4E59-9072-35651114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BBF-EDE2-40D5-9FD5-EE80493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FAB-3F73-4367-9CAE-20E81BC3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FD0-1C35-42C2-BABC-6484EAF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E90-D6FF-484F-B02C-E422E7D7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249-7855-427B-939A-A2BDF0E6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D2B-3CFF-4DA2-A010-060EC82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6E6E-2DC0-434F-8B1A-84A0FE2A851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BEA7A95F-3A62-4609-8F60-BB129240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7713-6963-406C-9923-9DE618FFEA2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D5B73F94-C84D-4E31-8DB4-6C1387E6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Deret Komplek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Mac Lau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et Lau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C16-7121-447A-8A36-B97FA73D7D8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64061CCA-CAF1-478D-9C90-9C0645C9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eretkan fungsi berikut ke dalam deret Mac Laur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cosh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cos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sin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z / ( i – z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 3 + z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2C1-B1F0-4608-91CB-21EA217D366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D0454432-B3DD-4C6A-B509-23357F758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deretan Tayl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2"/>
              <p:cNvSpPr txBox="1"/>
              <p:nvPr/>
            </p:nvSpPr>
            <p:spPr>
              <a:xfrm>
                <a:off x="701640" y="2313000"/>
                <a:ext cx="100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Text Box 33"/>
          <p:cNvSpPr/>
          <p:nvPr/>
        </p:nvSpPr>
        <p:spPr>
          <a:xfrm>
            <a:off x="621000" y="1916280"/>
            <a:ext cx="51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4788000" y="3932280"/>
            <a:ext cx="2448000" cy="2089080"/>
            <a:chOff x="4788000" y="3932280"/>
            <a:chExt cx="2448000" cy="2089080"/>
          </a:xfrm>
        </p:grpSpPr>
        <p:sp>
          <p:nvSpPr>
            <p:cNvPr id="310" name="Line 35"/>
            <p:cNvSpPr/>
            <p:nvPr/>
          </p:nvSpPr>
          <p:spPr>
            <a:xfrm>
              <a:off x="5077080" y="403992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6"/>
            <p:cNvSpPr/>
            <p:nvPr/>
          </p:nvSpPr>
          <p:spPr>
            <a:xfrm>
              <a:off x="4856400" y="499896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7"/>
            <p:cNvSpPr/>
            <p:nvPr/>
          </p:nvSpPr>
          <p:spPr>
            <a:xfrm>
              <a:off x="6608880" y="499896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8"/>
            <p:cNvSpPr/>
            <p:nvPr/>
          </p:nvSpPr>
          <p:spPr>
            <a:xfrm>
              <a:off x="5075640" y="393228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9"/>
            <p:cNvSpPr/>
            <p:nvPr/>
          </p:nvSpPr>
          <p:spPr>
            <a:xfrm>
              <a:off x="4915080" y="479736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4788000" y="5013360"/>
              <a:ext cx="57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580360" y="4795560"/>
              <a:ext cx="3045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6299280" y="5011560"/>
              <a:ext cx="28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580360" y="5048280"/>
              <a:ext cx="28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Oval 44"/>
          <p:cNvSpPr/>
          <p:nvPr/>
        </p:nvSpPr>
        <p:spPr>
          <a:xfrm>
            <a:off x="5073480" y="432900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99ff33">
                  <a:alpha val="50196"/>
                </a:srgbClr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1979640" y="4687920"/>
            <a:ext cx="1800360" cy="64908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44356"/>
              <a:gd name="adj5" fmla="val 56481"/>
              <a:gd name="adj6" fmla="val 177250"/>
            </a:avLst>
          </a:prstGeom>
          <a:solidFill>
            <a:srgbClr val="99ff33"/>
          </a:solidFill>
          <a:ln w="2844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-1 |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7"/>
              <p:cNvSpPr txBox="1"/>
              <p:nvPr/>
            </p:nvSpPr>
            <p:spPr>
              <a:xfrm>
                <a:off x="1204920" y="3341520"/>
                <a:ext cx="14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Text Box 48"/>
          <p:cNvSpPr/>
          <p:nvPr/>
        </p:nvSpPr>
        <p:spPr>
          <a:xfrm>
            <a:off x="2116800" y="237960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9"/>
          <p:cNvSpPr/>
          <p:nvPr/>
        </p:nvSpPr>
        <p:spPr>
          <a:xfrm>
            <a:off x="2476080" y="285264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1"/>
              <p:cNvSpPr txBox="1"/>
              <p:nvPr/>
            </p:nvSpPr>
            <p:spPr>
              <a:xfrm>
                <a:off x="2844720" y="3249720"/>
                <a:ext cx="2105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27" name="AutoShape 52"/>
          <p:cNvCxnSpPr>
            <a:stCxn id="324" idx="3"/>
            <a:endCxn id="319" idx="7"/>
          </p:cNvCxnSpPr>
          <p:nvPr/>
        </p:nvCxnSpPr>
        <p:spPr>
          <a:xfrm>
            <a:off x="4949640" y="3050640"/>
            <a:ext cx="1294200" cy="1466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94C2-1015-4B30-A4E1-BF69D0EF5EE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350D1C73-4B25-4F3A-B2DF-8F57E5AA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317160" y="1125360"/>
            <a:ext cx="49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396720" y="1593720"/>
                <a:ext cx="1224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Oval 26"/>
          <p:cNvSpPr/>
          <p:nvPr/>
        </p:nvSpPr>
        <p:spPr>
          <a:xfrm>
            <a:off x="5219640" y="3932280"/>
            <a:ext cx="1873440" cy="18730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27"/>
          <p:cNvGrpSpPr/>
          <p:nvPr/>
        </p:nvGrpSpPr>
        <p:grpSpPr>
          <a:xfrm>
            <a:off x="4498920" y="3645000"/>
            <a:ext cx="2344680" cy="2160000"/>
            <a:chOff x="4498920" y="3645000"/>
            <a:chExt cx="2344680" cy="2160000"/>
          </a:xfrm>
        </p:grpSpPr>
        <p:sp>
          <p:nvSpPr>
            <p:cNvPr id="341" name="Line 28"/>
            <p:cNvSpPr/>
            <p:nvPr/>
          </p:nvSpPr>
          <p:spPr>
            <a:xfrm>
              <a:off x="6190920" y="3716280"/>
              <a:ext cx="0" cy="19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29"/>
            <p:cNvSpPr/>
            <p:nvPr/>
          </p:nvSpPr>
          <p:spPr>
            <a:xfrm>
              <a:off x="4498920" y="54450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0"/>
            <p:cNvSpPr/>
            <p:nvPr/>
          </p:nvSpPr>
          <p:spPr>
            <a:xfrm>
              <a:off x="6216480" y="5433840"/>
              <a:ext cx="6271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1"/>
            <p:cNvSpPr/>
            <p:nvPr/>
          </p:nvSpPr>
          <p:spPr>
            <a:xfrm>
              <a:off x="6070320" y="3645000"/>
              <a:ext cx="6256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2"/>
            <p:cNvSpPr/>
            <p:nvPr/>
          </p:nvSpPr>
          <p:spPr>
            <a:xfrm>
              <a:off x="5310000" y="523368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3"/>
            <p:cNvSpPr/>
            <p:nvPr/>
          </p:nvSpPr>
          <p:spPr>
            <a:xfrm>
              <a:off x="5254560" y="5445000"/>
              <a:ext cx="5047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6048360" y="4586040"/>
              <a:ext cx="304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6245280" y="4471920"/>
              <a:ext cx="23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36"/>
          <p:cNvSpPr/>
          <p:nvPr/>
        </p:nvSpPr>
        <p:spPr>
          <a:xfrm flipV="1">
            <a:off x="5435640" y="4797000"/>
            <a:ext cx="72072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1903680" y="166536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2215440" y="20606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0"/>
              <p:cNvSpPr txBox="1"/>
              <p:nvPr/>
            </p:nvSpPr>
            <p:spPr>
              <a:xfrm>
                <a:off x="5506920" y="4756320"/>
                <a:ext cx="36036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354" name="AutoShape 41"/>
          <p:cNvCxnSpPr>
            <a:stCxn id="351" idx="3"/>
            <a:endCxn id="339" idx="6"/>
          </p:cNvCxnSpPr>
          <p:nvPr/>
        </p:nvCxnSpPr>
        <p:spPr>
          <a:xfrm>
            <a:off x="4759200" y="2259000"/>
            <a:ext cx="2348640" cy="2610720"/>
          </a:xfrm>
          <a:prstGeom prst="bentConnector3">
            <a:avLst>
              <a:gd name="adj1" fmla="val 109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355" name="Group 56"/>
          <p:cNvGrpSpPr/>
          <p:nvPr/>
        </p:nvGrpSpPr>
        <p:grpSpPr>
          <a:xfrm>
            <a:off x="2627280" y="4653000"/>
            <a:ext cx="1873440" cy="792000"/>
            <a:chOff x="2627280" y="4653000"/>
            <a:chExt cx="1873440" cy="792000"/>
          </a:xfrm>
        </p:grpSpPr>
        <p:sp>
          <p:nvSpPr>
            <p:cNvPr id="356" name="AutoShape 43"/>
            <p:cNvSpPr/>
            <p:nvPr/>
          </p:nvSpPr>
          <p:spPr>
            <a:xfrm>
              <a:off x="2627280" y="4653000"/>
              <a:ext cx="1873440" cy="792000"/>
            </a:xfrm>
            <a:prstGeom prst="wedgeRoundRectCallout">
              <a:avLst>
                <a:gd name="adj1" fmla="val 87458"/>
                <a:gd name="adj2" fmla="val -4338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44"/>
                <p:cNvSpPr txBox="1"/>
                <p:nvPr/>
              </p:nvSpPr>
              <p:spPr>
                <a:xfrm>
                  <a:off x="2700360" y="4797360"/>
                  <a:ext cx="1655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r>
                        <m:t xml:space="preserve">|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8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6"/>
              <p:cNvSpPr txBox="1"/>
              <p:nvPr/>
            </p:nvSpPr>
            <p:spPr>
              <a:xfrm>
                <a:off x="828720" y="2484360"/>
                <a:ext cx="1512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8"/>
              <p:cNvSpPr txBox="1"/>
              <p:nvPr/>
            </p:nvSpPr>
            <p:spPr>
              <a:xfrm>
                <a:off x="2413080" y="2457360"/>
                <a:ext cx="1944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4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0"/>
              <p:cNvSpPr txBox="1"/>
              <p:nvPr/>
            </p:nvSpPr>
            <p:spPr>
              <a:xfrm>
                <a:off x="684360" y="4702320"/>
                <a:ext cx="1223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51"/>
          <p:cNvSpPr/>
          <p:nvPr/>
        </p:nvSpPr>
        <p:spPr>
          <a:xfrm>
            <a:off x="1979640" y="4941720"/>
            <a:ext cx="360360" cy="144720"/>
          </a:xfrm>
          <a:prstGeom prst="leftArrow">
            <a:avLst>
              <a:gd name="adj1" fmla="val 50000"/>
              <a:gd name="adj2" fmla="val 62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3"/>
              <p:cNvSpPr txBox="1"/>
              <p:nvPr/>
            </p:nvSpPr>
            <p:spPr>
              <a:xfrm>
                <a:off x="828720" y="3249720"/>
                <a:ext cx="2303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7" name="Rectangle 5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55"/>
              <p:cNvSpPr txBox="1"/>
              <p:nvPr/>
            </p:nvSpPr>
            <p:spPr>
              <a:xfrm>
                <a:off x="3132000" y="3249720"/>
                <a:ext cx="2089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4AAC-BA63-46A6-8168-3E8EAB42BDF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D585E744-49FC-47D0-93D6-9376ADF1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3"/>
              <p:cNvSpPr txBox="1"/>
              <p:nvPr/>
            </p:nvSpPr>
            <p:spPr>
              <a:xfrm>
                <a:off x="2627280" y="2349360"/>
                <a:ext cx="214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61"/>
              <p:cNvSpPr txBox="1"/>
              <p:nvPr/>
            </p:nvSpPr>
            <p:spPr>
              <a:xfrm>
                <a:off x="826920" y="2349360"/>
                <a:ext cx="172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43360" y="90324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Taylor di z =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314280" y="1401840"/>
                <a:ext cx="13161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Text Box 6"/>
          <p:cNvSpPr/>
          <p:nvPr/>
        </p:nvSpPr>
        <p:spPr>
          <a:xfrm>
            <a:off x="1667520" y="147960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2031480" y="191124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6"/>
          <p:cNvSpPr/>
          <p:nvPr/>
        </p:nvSpPr>
        <p:spPr>
          <a:xfrm>
            <a:off x="757080" y="3213000"/>
            <a:ext cx="2519640" cy="25210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81"/>
          <p:cNvGrpSpPr/>
          <p:nvPr/>
        </p:nvGrpSpPr>
        <p:grpSpPr>
          <a:xfrm>
            <a:off x="611280" y="2997360"/>
            <a:ext cx="3024000" cy="2808000"/>
            <a:chOff x="611280" y="2997360"/>
            <a:chExt cx="3024000" cy="2808000"/>
          </a:xfrm>
        </p:grpSpPr>
        <p:sp>
          <p:nvSpPr>
            <p:cNvPr id="386" name="Line 28"/>
            <p:cNvSpPr/>
            <p:nvPr/>
          </p:nvSpPr>
          <p:spPr>
            <a:xfrm>
              <a:off x="1116000" y="3284640"/>
              <a:ext cx="0" cy="25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>
              <a:off x="1042920" y="450864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2760840" y="4497480"/>
              <a:ext cx="6267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611280" y="299736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2"/>
            <p:cNvSpPr/>
            <p:nvPr/>
          </p:nvSpPr>
          <p:spPr>
            <a:xfrm>
              <a:off x="1854360" y="4297320"/>
              <a:ext cx="304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33"/>
            <p:cNvSpPr/>
            <p:nvPr/>
          </p:nvSpPr>
          <p:spPr>
            <a:xfrm>
              <a:off x="1798560" y="450864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4"/>
            <p:cNvSpPr/>
            <p:nvPr/>
          </p:nvSpPr>
          <p:spPr>
            <a:xfrm>
              <a:off x="971640" y="5084640"/>
              <a:ext cx="3045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35"/>
            <p:cNvSpPr/>
            <p:nvPr/>
          </p:nvSpPr>
          <p:spPr>
            <a:xfrm>
              <a:off x="685800" y="508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 flipV="1">
              <a:off x="1116000" y="4508640"/>
              <a:ext cx="86364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40"/>
                <p:cNvSpPr txBox="1"/>
                <p:nvPr/>
              </p:nvSpPr>
              <p:spPr>
                <a:xfrm>
                  <a:off x="1187280" y="4581360"/>
                  <a:ext cx="36036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396" name="AutoShape 41"/>
          <p:cNvCxnSpPr>
            <a:stCxn id="379" idx="1"/>
            <a:endCxn id="384" idx="2"/>
          </p:cNvCxnSpPr>
          <p:nvPr/>
        </p:nvCxnSpPr>
        <p:spPr>
          <a:xfrm flipV="1" rot="10800000">
            <a:off x="742320" y="2109600"/>
            <a:ext cx="1289520" cy="2364480"/>
          </a:xfrm>
          <a:prstGeom prst="bentConnector3">
            <a:avLst>
              <a:gd name="adj1" fmla="val 116615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7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71"/>
              <p:cNvSpPr txBox="1"/>
              <p:nvPr/>
            </p:nvSpPr>
            <p:spPr>
              <a:xfrm>
                <a:off x="3276720" y="5229360"/>
                <a:ext cx="2705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Rectangle 7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75"/>
              <p:cNvSpPr txBox="1"/>
              <p:nvPr/>
            </p:nvSpPr>
            <p:spPr>
              <a:xfrm>
                <a:off x="5029200" y="2162160"/>
                <a:ext cx="2495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3" name="Rectangle 8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79"/>
              <p:cNvSpPr txBox="1"/>
              <p:nvPr/>
            </p:nvSpPr>
            <p:spPr>
              <a:xfrm>
                <a:off x="5187960" y="3314880"/>
                <a:ext cx="21924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19D-ED69-4144-9174-0E4BBC6B4AF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39E878D5-7A88-4991-9F5D-0789683AF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eretkan fungsi berikut di titik yang diber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sinh z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z di z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z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+2) di z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 + i) di z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/(z –i) di z =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37F-C906-48B1-BAF2-EE70CBFCDF6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1B3B2377-8B35-4026-A624-ED126573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Lauren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0920" y="772920"/>
            <a:ext cx="5976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fungsi f(z) tidak analitik di z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a f(z) tidak dapat diperderetkan dalam deret Taylor di  z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tau pada daerah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7236000" y="981000"/>
            <a:ext cx="1584000" cy="1584360"/>
            <a:chOff x="7236000" y="981000"/>
            <a:chExt cx="1584000" cy="1584360"/>
          </a:xfrm>
        </p:grpSpPr>
        <p:sp>
          <p:nvSpPr>
            <p:cNvPr id="416" name="Oval 5"/>
            <p:cNvSpPr/>
            <p:nvPr/>
          </p:nvSpPr>
          <p:spPr>
            <a:xfrm>
              <a:off x="7236000" y="981000"/>
              <a:ext cx="1584000" cy="1584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"/>
            <p:cNvSpPr/>
            <p:nvPr/>
          </p:nvSpPr>
          <p:spPr>
            <a:xfrm>
              <a:off x="7958160" y="1700280"/>
              <a:ext cx="69480" cy="72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7"/>
            <p:cNvSpPr/>
            <p:nvPr/>
          </p:nvSpPr>
          <p:spPr>
            <a:xfrm>
              <a:off x="7817760" y="170028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8"/>
          <p:cNvSpPr/>
          <p:nvPr/>
        </p:nvSpPr>
        <p:spPr>
          <a:xfrm flipV="1">
            <a:off x="8028000" y="1268280"/>
            <a:ext cx="6494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101080" y="1125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250920" y="1916280"/>
            <a:ext cx="6481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buang dari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maka 0 &lt;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merupakan daerah keanalitikan dari f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1"/>
          <p:cNvGrpSpPr/>
          <p:nvPr/>
        </p:nvGrpSpPr>
        <p:grpSpPr>
          <a:xfrm>
            <a:off x="6588000" y="2997360"/>
            <a:ext cx="2376720" cy="2303280"/>
            <a:chOff x="6588000" y="2997360"/>
            <a:chExt cx="2376720" cy="2303280"/>
          </a:xfrm>
        </p:grpSpPr>
        <p:sp>
          <p:nvSpPr>
            <p:cNvPr id="423" name="Oval 12"/>
            <p:cNvSpPr/>
            <p:nvPr/>
          </p:nvSpPr>
          <p:spPr>
            <a:xfrm>
              <a:off x="6588000" y="2997360"/>
              <a:ext cx="2376720" cy="2303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7310520" y="3716280"/>
              <a:ext cx="933480" cy="865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7701840" y="407664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V="1">
              <a:off x="7810560" y="3500280"/>
              <a:ext cx="93816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8091360" y="33195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7"/>
            <p:cNvSpPr/>
            <p:nvPr/>
          </p:nvSpPr>
          <p:spPr>
            <a:xfrm>
              <a:off x="7380360" y="3753000"/>
              <a:ext cx="583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 flipH="1" flipV="1">
              <a:off x="7667280" y="3716280"/>
              <a:ext cx="14436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19"/>
          <p:cNvSpPr/>
          <p:nvPr/>
        </p:nvSpPr>
        <p:spPr>
          <a:xfrm>
            <a:off x="250920" y="2638440"/>
            <a:ext cx="597672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isal f(z) tidak analitik di z = z</a:t>
            </a:r>
            <a:r>
              <a:rPr b="0" lang="sv-SE" sz="20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tetapi analitik pada R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&lt; | z – z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| &lt; R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,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ka f(z) dapat diperderetkan di z =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menjadi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et Laurent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21"/>
              <p:cNvSpPr txBox="1"/>
              <p:nvPr/>
            </p:nvSpPr>
            <p:spPr>
              <a:xfrm>
                <a:off x="324000" y="3789360"/>
                <a:ext cx="6048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3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3"/>
              <p:cNvSpPr txBox="1"/>
              <p:nvPr/>
            </p:nvSpPr>
            <p:spPr>
              <a:xfrm>
                <a:off x="324000" y="4581360"/>
                <a:ext cx="3024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5" name="Rectangle 2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25"/>
              <p:cNvSpPr txBox="1"/>
              <p:nvPr/>
            </p:nvSpPr>
            <p:spPr>
              <a:xfrm>
                <a:off x="3490920" y="4581360"/>
                <a:ext cx="30970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7" name="Rectangle 26"/>
          <p:cNvSpPr/>
          <p:nvPr/>
        </p:nvSpPr>
        <p:spPr>
          <a:xfrm>
            <a:off x="274680" y="5261400"/>
            <a:ext cx="8474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Lintasan C merupakan lintasan tutup sederhana, arah positif  yang terletak di dalam anulus yang melingkupi z</a:t>
            </a:r>
            <a:r>
              <a:rPr b="0" lang="sv-SE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7"/>
          <p:cNvSpPr/>
          <p:nvPr/>
        </p:nvSpPr>
        <p:spPr>
          <a:xfrm>
            <a:off x="6840360" y="3284640"/>
            <a:ext cx="1873440" cy="174132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 flipH="1">
            <a:off x="7308720" y="3427560"/>
            <a:ext cx="43200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9"/>
          <p:cNvSpPr/>
          <p:nvPr/>
        </p:nvSpPr>
        <p:spPr>
          <a:xfrm>
            <a:off x="7236000" y="303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9EFD-66A6-4365-9416-38C6EEABE7C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55B2BC13-D4CE-4335-86E4-7E98C4D5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15720" y="1037160"/>
            <a:ext cx="465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dengan pusat di z =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395280" y="1557360"/>
                <a:ext cx="1368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8" name="Rectangle 6"/>
          <p:cNvSpPr/>
          <p:nvPr/>
        </p:nvSpPr>
        <p:spPr>
          <a:xfrm>
            <a:off x="1846800" y="162792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4704120" y="162792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aerah keanalitikan : 0 &lt; |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7524720" y="2060640"/>
                <a:ext cx="115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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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0"/>
              <p:cNvSpPr txBox="1"/>
              <p:nvPr/>
            </p:nvSpPr>
            <p:spPr>
              <a:xfrm>
                <a:off x="609480" y="2133720"/>
                <a:ext cx="2041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2"/>
              <p:cNvSpPr txBox="1"/>
              <p:nvPr/>
            </p:nvSpPr>
            <p:spPr>
              <a:xfrm>
                <a:off x="3132000" y="2060640"/>
                <a:ext cx="21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"/>
              <p:cNvSpPr txBox="1"/>
              <p:nvPr/>
            </p:nvSpPr>
            <p:spPr>
              <a:xfrm>
                <a:off x="5284800" y="2060640"/>
                <a:ext cx="1374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Rectangle 14"/>
          <p:cNvSpPr/>
          <p:nvPr/>
        </p:nvSpPr>
        <p:spPr>
          <a:xfrm>
            <a:off x="387000" y="2959920"/>
            <a:ext cx="48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pada daerah 1&lt;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468360" y="3348000"/>
                <a:ext cx="1967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8"/>
              <p:cNvSpPr txBox="1"/>
              <p:nvPr/>
            </p:nvSpPr>
            <p:spPr>
              <a:xfrm>
                <a:off x="2484360" y="3357720"/>
                <a:ext cx="1567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Group 19"/>
          <p:cNvGrpSpPr/>
          <p:nvPr/>
        </p:nvGrpSpPr>
        <p:grpSpPr>
          <a:xfrm>
            <a:off x="6516720" y="2997360"/>
            <a:ext cx="2590920" cy="2133360"/>
            <a:chOff x="6516720" y="2997360"/>
            <a:chExt cx="2590920" cy="2133360"/>
          </a:xfrm>
        </p:grpSpPr>
        <p:sp>
          <p:nvSpPr>
            <p:cNvPr id="462" name="Oval 20"/>
            <p:cNvSpPr/>
            <p:nvPr/>
          </p:nvSpPr>
          <p:spPr>
            <a:xfrm>
              <a:off x="6669360" y="3149640"/>
              <a:ext cx="1981080" cy="190512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1"/>
            <p:cNvSpPr/>
            <p:nvPr/>
          </p:nvSpPr>
          <p:spPr>
            <a:xfrm>
              <a:off x="7431120" y="39117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2"/>
            <p:cNvSpPr/>
            <p:nvPr/>
          </p:nvSpPr>
          <p:spPr>
            <a:xfrm>
              <a:off x="6516720" y="41403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 flipV="1">
              <a:off x="7659720" y="29973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4"/>
            <p:cNvSpPr/>
            <p:nvPr/>
          </p:nvSpPr>
          <p:spPr>
            <a:xfrm>
              <a:off x="8726760" y="4140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7278840" y="2997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7202520" y="414036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8421840" y="414036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9"/>
              <p:cNvSpPr txBox="1"/>
              <p:nvPr/>
            </p:nvSpPr>
            <p:spPr>
              <a:xfrm>
                <a:off x="4140360" y="3284640"/>
                <a:ext cx="1655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72" name="AutoShape 30"/>
          <p:cNvCxnSpPr>
            <a:stCxn id="456" idx="3"/>
          </p:cNvCxnSpPr>
          <p:nvPr/>
        </p:nvCxnSpPr>
        <p:spPr>
          <a:xfrm>
            <a:off x="5219640" y="3159000"/>
            <a:ext cx="1440360" cy="270720"/>
          </a:xfrm>
          <a:prstGeom prst="bentConnector3">
            <a:avLst>
              <a:gd name="adj1" fmla="val 4995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73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32"/>
              <p:cNvSpPr txBox="1"/>
              <p:nvPr/>
            </p:nvSpPr>
            <p:spPr>
              <a:xfrm>
                <a:off x="468360" y="4221000"/>
                <a:ext cx="101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Rectangle 33"/>
          <p:cNvSpPr/>
          <p:nvPr/>
        </p:nvSpPr>
        <p:spPr>
          <a:xfrm>
            <a:off x="1514160" y="439956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perderetkan pada daerah 1 &lt; | z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5"/>
              <p:cNvSpPr txBox="1"/>
              <p:nvPr/>
            </p:nvSpPr>
            <p:spPr>
              <a:xfrm>
                <a:off x="515880" y="5013360"/>
                <a:ext cx="11034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Rectangle 36"/>
          <p:cNvSpPr/>
          <p:nvPr/>
        </p:nvSpPr>
        <p:spPr>
          <a:xfrm>
            <a:off x="1539360" y="5213880"/>
            <a:ext cx="45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perderetkan pada daerah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77C-E193-48C2-B7BD-02EA7913EEF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1E7D2D17-5B2D-43B2-8DA0-23B6FB93C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446760" y="8704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1 &lt; | z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905840" y="9032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5"/>
              <p:cNvSpPr txBox="1"/>
              <p:nvPr/>
            </p:nvSpPr>
            <p:spPr>
              <a:xfrm>
                <a:off x="2411280" y="765000"/>
                <a:ext cx="792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6"/>
              <p:cNvSpPr txBox="1"/>
              <p:nvPr/>
            </p:nvSpPr>
            <p:spPr>
              <a:xfrm>
                <a:off x="4187880" y="836640"/>
                <a:ext cx="2544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7" name="Rectangle 7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8"/>
              <p:cNvSpPr txBox="1"/>
              <p:nvPr/>
            </p:nvSpPr>
            <p:spPr>
              <a:xfrm>
                <a:off x="395280" y="1557360"/>
                <a:ext cx="216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Rectangle 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2629080" y="1484280"/>
                <a:ext cx="2374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11"/>
              <p:cNvSpPr txBox="1"/>
              <p:nvPr/>
            </p:nvSpPr>
            <p:spPr>
              <a:xfrm>
                <a:off x="5046840" y="1484280"/>
                <a:ext cx="27954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Rectangle 12"/>
          <p:cNvSpPr/>
          <p:nvPr/>
        </p:nvSpPr>
        <p:spPr>
          <a:xfrm>
            <a:off x="446760" y="252648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2). | z | &lt;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1905840" y="252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5"/>
              <p:cNvSpPr txBox="1"/>
              <p:nvPr/>
            </p:nvSpPr>
            <p:spPr>
              <a:xfrm>
                <a:off x="2484360" y="2421000"/>
                <a:ext cx="7923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Rectangle 16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7"/>
              <p:cNvSpPr txBox="1"/>
              <p:nvPr/>
            </p:nvSpPr>
            <p:spPr>
              <a:xfrm>
                <a:off x="395280" y="3424320"/>
                <a:ext cx="21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Rectangle 18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19"/>
              <p:cNvSpPr txBox="1"/>
              <p:nvPr/>
            </p:nvSpPr>
            <p:spPr>
              <a:xfrm>
                <a:off x="2700360" y="3384720"/>
                <a:ext cx="18003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0" name="Rectangle 20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1"/>
              <p:cNvSpPr txBox="1"/>
              <p:nvPr/>
            </p:nvSpPr>
            <p:spPr>
              <a:xfrm>
                <a:off x="4572000" y="3313080"/>
                <a:ext cx="2664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2" name="Rectangle 2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3"/>
              <p:cNvSpPr txBox="1"/>
              <p:nvPr/>
            </p:nvSpPr>
            <p:spPr>
              <a:xfrm>
                <a:off x="452520" y="4424400"/>
                <a:ext cx="6640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24"/>
              <p:cNvSpPr txBox="1"/>
              <p:nvPr/>
            </p:nvSpPr>
            <p:spPr>
              <a:xfrm>
                <a:off x="4211640" y="2421000"/>
                <a:ext cx="2521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wheel spokes="3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5" dur="2000" fill="hold"/>
                                        <p:tgtEl>
                                          <p:spTgt spid="4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9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5" dur="2000" fill="hold"/>
                                        <p:tgtEl>
                                          <p:spTgt spid="50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36F-0BDC-425B-9229-5384FA577FE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784F6653-7400-4431-BA28-A94722A3B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238680" y="1086480"/>
            <a:ext cx="72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f(z) di z = 1 dan tentukan daerah keanalitikan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5"/>
              <p:cNvSpPr txBox="1"/>
              <p:nvPr/>
            </p:nvSpPr>
            <p:spPr>
              <a:xfrm>
                <a:off x="324000" y="1557360"/>
                <a:ext cx="194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7"/>
              <p:cNvSpPr txBox="1"/>
              <p:nvPr/>
            </p:nvSpPr>
            <p:spPr>
              <a:xfrm>
                <a:off x="2413080" y="1557360"/>
                <a:ext cx="1727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Text Box 8"/>
          <p:cNvSpPr/>
          <p:nvPr/>
        </p:nvSpPr>
        <p:spPr>
          <a:xfrm>
            <a:off x="4257720" y="16225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 dan z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"/>
          <p:cNvGrpSpPr/>
          <p:nvPr/>
        </p:nvGrpSpPr>
        <p:grpSpPr>
          <a:xfrm>
            <a:off x="6756120" y="3700440"/>
            <a:ext cx="1551600" cy="368280"/>
            <a:chOff x="6756120" y="3700440"/>
            <a:chExt cx="1551600" cy="368280"/>
          </a:xfrm>
        </p:grpSpPr>
        <p:sp>
          <p:nvSpPr>
            <p:cNvPr id="516" name="Text Box 10"/>
            <p:cNvSpPr/>
            <p:nvPr/>
          </p:nvSpPr>
          <p:spPr>
            <a:xfrm>
              <a:off x="7299360" y="3700440"/>
              <a:ext cx="100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1&lt;|z-1|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AutoShape 11"/>
            <p:cNvCxnSpPr>
              <a:stCxn id="516" idx="1"/>
            </p:cNvCxnSpPr>
            <p:nvPr/>
          </p:nvCxnSpPr>
          <p:spPr>
            <a:xfrm rot="10800000">
              <a:off x="6755760" y="3813120"/>
              <a:ext cx="534240" cy="766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518" name="Group 12"/>
          <p:cNvGrpSpPr/>
          <p:nvPr/>
        </p:nvGrpSpPr>
        <p:grpSpPr>
          <a:xfrm>
            <a:off x="5867280" y="2060640"/>
            <a:ext cx="2209680" cy="1904760"/>
            <a:chOff x="5867280" y="2060640"/>
            <a:chExt cx="2209680" cy="1904760"/>
          </a:xfrm>
        </p:grpSpPr>
        <p:sp>
          <p:nvSpPr>
            <p:cNvPr id="519" name="Oval 13"/>
            <p:cNvSpPr/>
            <p:nvPr/>
          </p:nvSpPr>
          <p:spPr>
            <a:xfrm>
              <a:off x="6400800" y="2670120"/>
              <a:ext cx="838080" cy="838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5867280" y="31273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V="1">
              <a:off x="6400800" y="2136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6"/>
            <p:cNvSpPr/>
            <p:nvPr/>
          </p:nvSpPr>
          <p:spPr>
            <a:xfrm>
              <a:off x="6713280" y="3133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7"/>
            <p:cNvSpPr/>
            <p:nvPr/>
          </p:nvSpPr>
          <p:spPr>
            <a:xfrm>
              <a:off x="7619760" y="3127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8"/>
            <p:cNvSpPr/>
            <p:nvPr/>
          </p:nvSpPr>
          <p:spPr>
            <a:xfrm>
              <a:off x="5875200" y="206064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9"/>
            <p:cNvSpPr/>
            <p:nvPr/>
          </p:nvSpPr>
          <p:spPr>
            <a:xfrm>
              <a:off x="7162560" y="3114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0"/>
            <p:cNvSpPr/>
            <p:nvPr/>
          </p:nvSpPr>
          <p:spPr>
            <a:xfrm>
              <a:off x="6802200" y="3068640"/>
              <a:ext cx="7164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21"/>
          <p:cNvSpPr/>
          <p:nvPr/>
        </p:nvSpPr>
        <p:spPr>
          <a:xfrm>
            <a:off x="296640" y="2343240"/>
            <a:ext cx="51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mungkinan daerah keanalitikan dari f(z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6876360" y="2205000"/>
            <a:ext cx="1961280" cy="767520"/>
            <a:chOff x="6876360" y="2205000"/>
            <a:chExt cx="1961280" cy="767520"/>
          </a:xfrm>
        </p:grpSpPr>
        <p:sp>
          <p:nvSpPr>
            <p:cNvPr id="529" name="Text Box 23"/>
            <p:cNvSpPr/>
            <p:nvPr/>
          </p:nvSpPr>
          <p:spPr>
            <a:xfrm>
              <a:off x="7567200" y="2205000"/>
              <a:ext cx="12704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0&lt;|z-1|&l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0" name="AutoShape 24"/>
            <p:cNvCxnSpPr>
              <a:stCxn id="529" idx="1"/>
            </p:cNvCxnSpPr>
            <p:nvPr/>
          </p:nvCxnSpPr>
          <p:spPr>
            <a:xfrm flipV="1" rot="10800000">
              <a:off x="6876360" y="2392920"/>
              <a:ext cx="686520" cy="579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531" name="Text Box 25"/>
          <p:cNvSpPr/>
          <p:nvPr/>
        </p:nvSpPr>
        <p:spPr>
          <a:xfrm>
            <a:off x="375480" y="28735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. 0&lt; | z – 1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6"/>
          <p:cNvSpPr/>
          <p:nvPr/>
        </p:nvSpPr>
        <p:spPr>
          <a:xfrm>
            <a:off x="395280" y="33051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. 1&lt; | z – 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AutoShape 27"/>
          <p:cNvCxnSpPr>
            <a:endCxn id="534" idx="1"/>
          </p:cNvCxnSpPr>
          <p:nvPr/>
        </p:nvCxnSpPr>
        <p:spPr>
          <a:xfrm flipH="1" flipV="1" rot="10800000">
            <a:off x="323640" y="1880280"/>
            <a:ext cx="72000" cy="2602440"/>
          </a:xfrm>
          <a:prstGeom prst="bentConnector3">
            <a:avLst>
              <a:gd name="adj1" fmla="val -31959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34" name="Text Box 28"/>
          <p:cNvSpPr/>
          <p:nvPr/>
        </p:nvSpPr>
        <p:spPr>
          <a:xfrm>
            <a:off x="395280" y="39798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deretan fungsi akan dilakukan terhadap suku kedua yaitu diperderetkan pada daerah (1) dan daerah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E86-F032-4567-AE5F-18AC8828EC6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E10A2B73-ED5D-47C4-9087-118D1622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12120" y="892800"/>
            <a:ext cx="59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0 &lt;  | z - 1 | &lt;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0 &lt; | z - 1 | dan  | z - 1 | &lt;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6"/>
              <p:cNvSpPr txBox="1"/>
              <p:nvPr/>
            </p:nvSpPr>
            <p:spPr>
              <a:xfrm>
                <a:off x="5148360" y="1327320"/>
                <a:ext cx="1873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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539640" y="2205000"/>
                <a:ext cx="489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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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5" name="Rectangle 9"/>
          <p:cNvSpPr/>
          <p:nvPr/>
        </p:nvSpPr>
        <p:spPr>
          <a:xfrm>
            <a:off x="366480" y="324720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2). 1 &lt; | z -1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2175840" y="3284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2700360" y="3139920"/>
                <a:ext cx="1150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Rectangle 13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4"/>
              <p:cNvSpPr txBox="1"/>
              <p:nvPr/>
            </p:nvSpPr>
            <p:spPr>
              <a:xfrm>
                <a:off x="520560" y="3860640"/>
                <a:ext cx="21798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Rectangle 15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16"/>
              <p:cNvSpPr txBox="1"/>
              <p:nvPr/>
            </p:nvSpPr>
            <p:spPr>
              <a:xfrm>
                <a:off x="2771640" y="3941640"/>
                <a:ext cx="1729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17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18"/>
              <p:cNvSpPr txBox="1"/>
              <p:nvPr/>
            </p:nvSpPr>
            <p:spPr>
              <a:xfrm>
                <a:off x="4498920" y="3787920"/>
                <a:ext cx="2160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5" name="Rectangle 19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0"/>
              <p:cNvSpPr txBox="1"/>
              <p:nvPr/>
            </p:nvSpPr>
            <p:spPr>
              <a:xfrm>
                <a:off x="6516720" y="3787920"/>
                <a:ext cx="1871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7" name="Rectangle 21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22"/>
              <p:cNvSpPr txBox="1"/>
              <p:nvPr/>
            </p:nvSpPr>
            <p:spPr>
              <a:xfrm>
                <a:off x="477720" y="4869000"/>
                <a:ext cx="804564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|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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9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24"/>
              <p:cNvSpPr txBox="1"/>
              <p:nvPr/>
            </p:nvSpPr>
            <p:spPr>
              <a:xfrm>
                <a:off x="395280" y="1413000"/>
                <a:ext cx="1728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26"/>
              <p:cNvSpPr txBox="1"/>
              <p:nvPr/>
            </p:nvSpPr>
            <p:spPr>
              <a:xfrm>
                <a:off x="2195640" y="1413000"/>
                <a:ext cx="13683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Rectangle 2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28"/>
              <p:cNvSpPr txBox="1"/>
              <p:nvPr/>
            </p:nvSpPr>
            <p:spPr>
              <a:xfrm>
                <a:off x="3635280" y="1413000"/>
                <a:ext cx="1368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8E7-0551-46A2-9032-4229FD4D893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BE3AEDED-D61A-4641-995F-35FC68F1F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Tayl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50920" y="885960"/>
            <a:ext cx="4825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ungsi f(z) analitik pada |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&lt;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a f(z) dapat diperderetkan menjad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365040" y="1700280"/>
                <a:ext cx="4525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1042920" y="2421000"/>
                <a:ext cx="3313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8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24000" y="3357720"/>
                <a:ext cx="4930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rSub { size 8{0} }  \) }  over  {2!} }  left (z - z rSub { size 8{0} }  right )`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AutoShape 10"/>
          <p:cNvSpPr/>
          <p:nvPr/>
        </p:nvSpPr>
        <p:spPr>
          <a:xfrm>
            <a:off x="395280" y="4485600"/>
            <a:ext cx="2225520" cy="14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namakan Deret / Polinomial Taylor di z =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2863800" y="4718160"/>
            <a:ext cx="2675160" cy="108936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inamakan Daerah Kekonvergenan / Keanalitikan De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12"/>
          <p:cNvCxnSpPr>
            <a:endCxn id="60" idx="1"/>
          </p:cNvCxnSpPr>
          <p:nvPr/>
        </p:nvCxnSpPr>
        <p:spPr>
          <a:xfrm flipH="1" flipV="1" rot="10800000">
            <a:off x="323640" y="3615840"/>
            <a:ext cx="72000" cy="1602720"/>
          </a:xfrm>
          <a:prstGeom prst="bentConnector3">
            <a:avLst>
              <a:gd name="adj1" fmla="val -319597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3" name="AutoShape 13"/>
          <p:cNvCxnSpPr>
            <a:endCxn id="61" idx="0"/>
          </p:cNvCxnSpPr>
          <p:nvPr/>
        </p:nvCxnSpPr>
        <p:spPr>
          <a:xfrm>
            <a:off x="3058920" y="4254480"/>
            <a:ext cx="1143720" cy="46440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64" name="Rectangle 1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5"/>
              <p:cNvSpPr txBox="1"/>
              <p:nvPr/>
            </p:nvSpPr>
            <p:spPr>
              <a:xfrm>
                <a:off x="900000" y="4076640"/>
                <a:ext cx="215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6"/>
          <p:cNvSpPr/>
          <p:nvPr/>
        </p:nvSpPr>
        <p:spPr>
          <a:xfrm>
            <a:off x="5364000" y="891000"/>
            <a:ext cx="34560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f(z) fungsi entire  (fungsi analitik dimana-mana ) maka daerah keanalitikan / kekonvergenan  deret yaitu :  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6084720" y="2852640"/>
            <a:ext cx="1872000" cy="1800360"/>
            <a:chOff x="6084720" y="2852640"/>
            <a:chExt cx="1872000" cy="1800360"/>
          </a:xfrm>
        </p:grpSpPr>
        <p:sp>
          <p:nvSpPr>
            <p:cNvPr id="68" name="Oval 18"/>
            <p:cNvSpPr/>
            <p:nvPr/>
          </p:nvSpPr>
          <p:spPr>
            <a:xfrm>
              <a:off x="6084720" y="2852640"/>
              <a:ext cx="1872000" cy="180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 flipV="1">
              <a:off x="6948360" y="3715560"/>
              <a:ext cx="71640" cy="716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0"/>
            <p:cNvSpPr/>
            <p:nvPr/>
          </p:nvSpPr>
          <p:spPr>
            <a:xfrm>
              <a:off x="6882840" y="371016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7020000" y="3139560"/>
              <a:ext cx="720720" cy="576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2"/>
            <p:cNvSpPr/>
            <p:nvPr/>
          </p:nvSpPr>
          <p:spPr>
            <a:xfrm>
              <a:off x="6954840" y="31035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3" name="AutoShape 23"/>
          <p:cNvCxnSpPr>
            <a:stCxn id="53" idx="3"/>
            <a:endCxn id="68" idx="2"/>
          </p:cNvCxnSpPr>
          <p:nvPr/>
        </p:nvCxnSpPr>
        <p:spPr>
          <a:xfrm>
            <a:off x="5076360" y="1258920"/>
            <a:ext cx="994680" cy="2494800"/>
          </a:xfrm>
          <a:prstGeom prst="bentConnector3">
            <a:avLst>
              <a:gd name="adj1" fmla="val 27624"/>
            </a:avLst>
          </a:prstGeom>
          <a:ln w="28440">
            <a:solidFill>
              <a:srgbClr val="cc3300"/>
            </a:solidFill>
            <a:miter/>
            <a:headEnd len="med" type="diamond" w="med"/>
            <a:tailEnd len="med" type="triangle" w="med"/>
          </a:ln>
        </p:spPr>
      </p:cxn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0D17-BE44-4543-8F3B-061791BDA6B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8E72CD00-D3CD-4615-A797-D15A33A1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324000" y="1268280"/>
                <a:ext cx="15112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Text Box 5"/>
          <p:cNvSpPr/>
          <p:nvPr/>
        </p:nvSpPr>
        <p:spPr>
          <a:xfrm>
            <a:off x="296280" y="831960"/>
            <a:ext cx="474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f(z) pada daerah | z – i | 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7"/>
              <p:cNvSpPr txBox="1"/>
              <p:nvPr/>
            </p:nvSpPr>
            <p:spPr>
              <a:xfrm>
                <a:off x="1835280" y="1268280"/>
                <a:ext cx="1584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0"/>
              <p:cNvSpPr txBox="1"/>
              <p:nvPr/>
            </p:nvSpPr>
            <p:spPr>
              <a:xfrm>
                <a:off x="3440160" y="1252440"/>
                <a:ext cx="1762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 Box 11"/>
          <p:cNvSpPr/>
          <p:nvPr/>
        </p:nvSpPr>
        <p:spPr>
          <a:xfrm>
            <a:off x="370440" y="1982880"/>
            <a:ext cx="50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ku kedua diperderetkan pada 2 &lt; | z – i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4"/>
              <p:cNvSpPr txBox="1"/>
              <p:nvPr/>
            </p:nvSpPr>
            <p:spPr>
              <a:xfrm>
                <a:off x="5796000" y="1844640"/>
                <a:ext cx="1224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Text Box 15"/>
          <p:cNvSpPr/>
          <p:nvPr/>
        </p:nvSpPr>
        <p:spPr>
          <a:xfrm>
            <a:off x="5363280" y="2023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16"/>
              <p:cNvSpPr txBox="1"/>
              <p:nvPr/>
            </p:nvSpPr>
            <p:spPr>
              <a:xfrm>
                <a:off x="395280" y="2421000"/>
                <a:ext cx="2881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8"/>
              <p:cNvSpPr txBox="1"/>
              <p:nvPr/>
            </p:nvSpPr>
            <p:spPr>
              <a:xfrm>
                <a:off x="7667640" y="1844640"/>
                <a:ext cx="129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Text Box 19"/>
          <p:cNvSpPr/>
          <p:nvPr/>
        </p:nvSpPr>
        <p:spPr>
          <a:xfrm>
            <a:off x="7162200" y="198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21"/>
              <p:cNvSpPr txBox="1"/>
              <p:nvPr/>
            </p:nvSpPr>
            <p:spPr>
              <a:xfrm>
                <a:off x="3348000" y="2492280"/>
                <a:ext cx="1944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Rectangle 2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23"/>
              <p:cNvSpPr txBox="1"/>
              <p:nvPr/>
            </p:nvSpPr>
            <p:spPr>
              <a:xfrm>
                <a:off x="5438880" y="2352600"/>
                <a:ext cx="25891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0" name="Rectangle 24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5"/>
              <p:cNvSpPr txBox="1"/>
              <p:nvPr/>
            </p:nvSpPr>
            <p:spPr>
              <a:xfrm>
                <a:off x="1382760" y="3305160"/>
                <a:ext cx="2397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592" name="AutoShape 26"/>
          <p:cNvCxnSpPr>
            <a:endCxn id="593" idx="6"/>
          </p:cNvCxnSpPr>
          <p:nvPr/>
        </p:nvCxnSpPr>
        <p:spPr>
          <a:xfrm flipH="1" rot="16200000">
            <a:off x="3657600" y="2398320"/>
            <a:ext cx="3782160" cy="1090080"/>
          </a:xfrm>
          <a:prstGeom prst="bentConnector4">
            <a:avLst>
              <a:gd name="adj1" fmla="val -542"/>
              <a:gd name="adj2" fmla="val 199537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grpSp>
        <p:nvGrpSpPr>
          <p:cNvPr id="594" name="Group 27"/>
          <p:cNvGrpSpPr/>
          <p:nvPr/>
        </p:nvGrpSpPr>
        <p:grpSpPr>
          <a:xfrm>
            <a:off x="4716360" y="3611520"/>
            <a:ext cx="2425680" cy="1914480"/>
            <a:chOff x="4716360" y="3611520"/>
            <a:chExt cx="2425680" cy="1914480"/>
          </a:xfrm>
        </p:grpSpPr>
        <p:sp>
          <p:nvSpPr>
            <p:cNvPr id="593" name="Oval 28"/>
            <p:cNvSpPr/>
            <p:nvPr/>
          </p:nvSpPr>
          <p:spPr>
            <a:xfrm>
              <a:off x="4859280" y="4221000"/>
              <a:ext cx="1224000" cy="1224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9"/>
            <p:cNvSpPr/>
            <p:nvPr/>
          </p:nvSpPr>
          <p:spPr>
            <a:xfrm>
              <a:off x="4716360" y="5157720"/>
              <a:ext cx="227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0"/>
            <p:cNvSpPr/>
            <p:nvPr/>
          </p:nvSpPr>
          <p:spPr>
            <a:xfrm flipV="1">
              <a:off x="5465880" y="368784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31"/>
            <p:cNvSpPr/>
            <p:nvPr/>
          </p:nvSpPr>
          <p:spPr>
            <a:xfrm>
              <a:off x="5419800" y="4646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2"/>
            <p:cNvSpPr/>
            <p:nvPr/>
          </p:nvSpPr>
          <p:spPr>
            <a:xfrm>
              <a:off x="6684840" y="5157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3"/>
            <p:cNvSpPr/>
            <p:nvPr/>
          </p:nvSpPr>
          <p:spPr>
            <a:xfrm>
              <a:off x="4940280" y="361152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4"/>
            <p:cNvSpPr/>
            <p:nvPr/>
          </p:nvSpPr>
          <p:spPr>
            <a:xfrm>
              <a:off x="5435640" y="4797360"/>
              <a:ext cx="71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5"/>
            <p:cNvSpPr/>
            <p:nvPr/>
          </p:nvSpPr>
          <p:spPr>
            <a:xfrm>
              <a:off x="5472000" y="393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2" name="Object 36"/>
              <p:cNvSpPr txBox="1"/>
              <p:nvPr/>
            </p:nvSpPr>
            <p:spPr>
              <a:xfrm>
                <a:off x="5364000" y="1149480"/>
                <a:ext cx="1729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8F5B-5D1C-4760-8379-61843E73FA8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FDD6C4EA-4113-4006-A6E5-220B2E40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deretkan fungsi berikut pada daerah yang diber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deretkan fungsi berikut pada daera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|z –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&l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la diberi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5"/>
              <p:cNvSpPr txBox="1"/>
              <p:nvPr/>
            </p:nvSpPr>
            <p:spPr>
              <a:xfrm>
                <a:off x="1123920" y="1413000"/>
                <a:ext cx="3592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7"/>
              <p:cNvSpPr txBox="1"/>
              <p:nvPr/>
            </p:nvSpPr>
            <p:spPr>
              <a:xfrm>
                <a:off x="1146240" y="2133720"/>
                <a:ext cx="3497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9"/>
              <p:cNvSpPr txBox="1"/>
              <p:nvPr/>
            </p:nvSpPr>
            <p:spPr>
              <a:xfrm>
                <a:off x="1198440" y="2798640"/>
                <a:ext cx="2941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11"/>
              <p:cNvSpPr txBox="1"/>
              <p:nvPr/>
            </p:nvSpPr>
            <p:spPr>
              <a:xfrm>
                <a:off x="1590840" y="3438360"/>
                <a:ext cx="28065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3"/>
              <p:cNvSpPr txBox="1"/>
              <p:nvPr/>
            </p:nvSpPr>
            <p:spPr>
              <a:xfrm>
                <a:off x="1187280" y="4941720"/>
                <a:ext cx="30974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5"/>
              <p:cNvSpPr txBox="1"/>
              <p:nvPr/>
            </p:nvSpPr>
            <p:spPr>
              <a:xfrm>
                <a:off x="4556160" y="4941720"/>
                <a:ext cx="36878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0A85-44A2-41CA-9F4D-290C14C99BF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2DACF779-E24B-4D6E-B5A4-927F1CA7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4000" y="886320"/>
            <a:ext cx="849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maka deret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et Mac Lau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an dapat ditulis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092240" y="1292400"/>
                <a:ext cx="22780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9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3419640" y="1413000"/>
                <a:ext cx="5184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0 \) }  over  {2!} } z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eft ( \lline z \lline &lt;R rSub { size 8{0} }  right )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0"/>
          <p:cNvSpPr/>
          <p:nvPr/>
        </p:nvSpPr>
        <p:spPr>
          <a:xfrm>
            <a:off x="390960" y="2275560"/>
            <a:ext cx="50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atakan 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lam deret Mac Laur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396720" y="2628000"/>
            <a:ext cx="820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gsi f(z) = e</a:t>
            </a:r>
            <a:r>
              <a:rPr b="0" lang="en-US" sz="2000" spc="-1" strike="noStrike" baseline="30000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merupakan fungsi entire sehingga daerah keanalitikan : | z | &lt;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dan turunan fungsi sampai tingkat ke-n dan nilai turunan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 = 0  diber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395280" y="3860640"/>
                <a:ext cx="2952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15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4"/>
              <p:cNvSpPr txBox="1"/>
              <p:nvPr/>
            </p:nvSpPr>
            <p:spPr>
              <a:xfrm>
                <a:off x="4815000" y="4365720"/>
                <a:ext cx="3286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1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6"/>
              <p:cNvSpPr txBox="1"/>
              <p:nvPr/>
            </p:nvSpPr>
            <p:spPr>
              <a:xfrm>
                <a:off x="361800" y="4437000"/>
                <a:ext cx="4281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\( 0 \) }  over  {2!} } z rSup { size 8{2} } + {  {f`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8"/>
              <p:cNvSpPr txBox="1"/>
              <p:nvPr/>
            </p:nvSpPr>
            <p:spPr>
              <a:xfrm>
                <a:off x="2523960" y="5095800"/>
                <a:ext cx="2727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C8E-6F51-4FEA-843B-7C5A4557DA4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B034E2C9-9D80-462B-8971-60D18416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4000" y="187884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dalam deret Mac Laurin, 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324000" y="23104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: fungsi entire, sehingga daerah keanalitikan: |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381240" y="269244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| z |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| 3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1"/>
              <p:cNvSpPr txBox="1"/>
              <p:nvPr/>
            </p:nvSpPr>
            <p:spPr>
              <a:xfrm>
                <a:off x="466560" y="3268800"/>
                <a:ext cx="2521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Rectangle 23"/>
          <p:cNvSpPr/>
          <p:nvPr/>
        </p:nvSpPr>
        <p:spPr>
          <a:xfrm>
            <a:off x="3743280" y="2692440"/>
            <a:ext cx="31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3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... | 3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5"/>
              <p:cNvSpPr txBox="1"/>
              <p:nvPr/>
            </p:nvSpPr>
            <p:spPr>
              <a:xfrm>
                <a:off x="3924360" y="3222720"/>
                <a:ext cx="1800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" name="Rectangle 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7"/>
              <p:cNvSpPr txBox="1"/>
              <p:nvPr/>
            </p:nvSpPr>
            <p:spPr>
              <a:xfrm>
                <a:off x="5940360" y="3220920"/>
                <a:ext cx="23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6"/>
          <p:cNvSpPr/>
          <p:nvPr/>
        </p:nvSpPr>
        <p:spPr>
          <a:xfrm>
            <a:off x="2313000" y="3816360"/>
            <a:ext cx="68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8"/>
          <p:cNvSpPr/>
          <p:nvPr/>
        </p:nvSpPr>
        <p:spPr>
          <a:xfrm>
            <a:off x="214200" y="4456080"/>
            <a:ext cx="31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az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... | a z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41"/>
              <p:cNvSpPr txBox="1"/>
              <p:nvPr/>
            </p:nvSpPr>
            <p:spPr>
              <a:xfrm>
                <a:off x="1265400" y="5003640"/>
                <a:ext cx="1577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z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Rectangle 14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43"/>
              <p:cNvSpPr txBox="1"/>
              <p:nvPr/>
            </p:nvSpPr>
            <p:spPr>
              <a:xfrm>
                <a:off x="2927520" y="4997520"/>
                <a:ext cx="2712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Text Box 145"/>
          <p:cNvSpPr/>
          <p:nvPr/>
        </p:nvSpPr>
        <p:spPr>
          <a:xfrm>
            <a:off x="376200" y="758880"/>
            <a:ext cx="84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Untuk melakukan perderetan fungsi eksponen yang lain dapat dilakukan tanpa harus melakukan penurunan fungsi, tapi dengan mengguna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asil dia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C30-ECFD-4229-ACA8-1C1C9A8F0C9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37A913EC-B407-45A4-9DBB-8197D12E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68360" y="1484280"/>
                <a:ext cx="1579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5"/>
              <p:cNvSpPr txBox="1"/>
              <p:nvPr/>
            </p:nvSpPr>
            <p:spPr>
              <a:xfrm>
                <a:off x="2195640" y="1365120"/>
                <a:ext cx="1584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7"/>
              <p:cNvSpPr txBox="1"/>
              <p:nvPr/>
            </p:nvSpPr>
            <p:spPr>
              <a:xfrm>
                <a:off x="3851280" y="1268280"/>
                <a:ext cx="2521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z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Rectangle 18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9"/>
              <p:cNvSpPr txBox="1"/>
              <p:nvPr/>
            </p:nvSpPr>
            <p:spPr>
              <a:xfrm>
                <a:off x="1042920" y="1989000"/>
                <a:ext cx="2590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2050920" y="2924280"/>
          <a:ext cx="4033800" cy="938160"/>
        </p:xfrm>
        <a:graphic>
          <a:graphicData uri="http://schemas.openxmlformats.org/drawingml/2006/table">
            <a:tbl>
              <a:tblPr/>
              <a:tblGrid>
                <a:gridCol w="1152720"/>
                <a:gridCol w="465120"/>
                <a:gridCol w="471600"/>
                <a:gridCol w="431640"/>
                <a:gridCol w="431640"/>
                <a:gridCol w="50508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1"/>
          <p:cNvSpPr/>
          <p:nvPr/>
        </p:nvSpPr>
        <p:spPr>
          <a:xfrm>
            <a:off x="365400" y="903240"/>
            <a:ext cx="60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f(z) = sinh z ke dalam deret Mac Lau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6"/>
          <p:cNvGrpSpPr/>
          <p:nvPr/>
        </p:nvGrpSpPr>
        <p:grpSpPr>
          <a:xfrm>
            <a:off x="2122560" y="3359160"/>
            <a:ext cx="1081080" cy="430200"/>
            <a:chOff x="2122560" y="3359160"/>
            <a:chExt cx="1081080" cy="430200"/>
          </a:xfrm>
        </p:grpSpPr>
        <p:sp>
          <p:nvSpPr>
            <p:cNvPr id="136" name="AutoShape 65"/>
            <p:cNvSpPr/>
            <p:nvPr/>
          </p:nvSpPr>
          <p:spPr>
            <a:xfrm>
              <a:off x="2122560" y="3360600"/>
              <a:ext cx="1081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7"/>
            <p:cNvSpPr/>
            <p:nvPr/>
          </p:nvSpPr>
          <p:spPr>
            <a:xfrm>
              <a:off x="2571120" y="335916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2956680" y="335916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3033720" y="3389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0"/>
            <p:cNvSpPr/>
            <p:nvPr/>
          </p:nvSpPr>
          <p:spPr>
            <a:xfrm>
              <a:off x="2860920" y="34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71"/>
            <p:cNvSpPr/>
            <p:nvPr/>
          </p:nvSpPr>
          <p:spPr>
            <a:xfrm>
              <a:off x="2143440" y="34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2"/>
            <p:cNvSpPr/>
            <p:nvPr/>
          </p:nvSpPr>
          <p:spPr>
            <a:xfrm>
              <a:off x="2672280" y="344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2370600" y="344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7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4"/>
              <p:cNvSpPr txBox="1"/>
              <p:nvPr/>
            </p:nvSpPr>
            <p:spPr>
              <a:xfrm>
                <a:off x="3708360" y="2060640"/>
                <a:ext cx="3743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Rectangle 7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6"/>
              <p:cNvSpPr txBox="1"/>
              <p:nvPr/>
            </p:nvSpPr>
            <p:spPr>
              <a:xfrm>
                <a:off x="1042920" y="4005360"/>
                <a:ext cx="26654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Rectangle 79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8"/>
              <p:cNvSpPr txBox="1"/>
              <p:nvPr/>
            </p:nvSpPr>
            <p:spPr>
              <a:xfrm>
                <a:off x="3851280" y="3933720"/>
                <a:ext cx="2305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81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0"/>
              <p:cNvSpPr txBox="1"/>
              <p:nvPr/>
            </p:nvSpPr>
            <p:spPr>
              <a:xfrm>
                <a:off x="1042920" y="4797360"/>
                <a:ext cx="1873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FF10-C053-4F93-8698-BB9F7389D00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EAA64E84-6C88-4C94-8507-5266E8AC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88440" y="89280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deretkan ke dalam deret Mac Laur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68360" y="1341360"/>
                <a:ext cx="1439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AutoShape 8"/>
          <p:cNvSpPr/>
          <p:nvPr/>
        </p:nvSpPr>
        <p:spPr>
          <a:xfrm>
            <a:off x="5861160" y="907920"/>
            <a:ext cx="2743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084720" y="1341360"/>
            <a:ext cx="1371600" cy="1371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5937120" y="984240"/>
            <a:ext cx="2379960" cy="1981080"/>
            <a:chOff x="5937120" y="984240"/>
            <a:chExt cx="2379960" cy="1981080"/>
          </a:xfrm>
        </p:grpSpPr>
        <p:sp>
          <p:nvSpPr>
            <p:cNvPr id="162" name="Line 10"/>
            <p:cNvSpPr/>
            <p:nvPr/>
          </p:nvSpPr>
          <p:spPr>
            <a:xfrm>
              <a:off x="6775560" y="98424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5937120" y="205092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7689960" y="205092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6156360" y="98424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08720" y="18986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7232760" y="2050920"/>
              <a:ext cx="3636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6"/>
          <p:cNvSpPr/>
          <p:nvPr/>
        </p:nvSpPr>
        <p:spPr>
          <a:xfrm>
            <a:off x="7740720" y="981000"/>
            <a:ext cx="1079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| z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17"/>
          <p:cNvCxnSpPr>
            <a:stCxn id="168" idx="1"/>
            <a:endCxn id="160" idx="7"/>
          </p:cNvCxnSpPr>
          <p:nvPr/>
        </p:nvCxnSpPr>
        <p:spPr>
          <a:xfrm flipV="1" rot="10800000">
            <a:off x="7254000" y="1170360"/>
            <a:ext cx="486720" cy="3582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 Box 20"/>
          <p:cNvSpPr/>
          <p:nvPr/>
        </p:nvSpPr>
        <p:spPr>
          <a:xfrm>
            <a:off x="2031840" y="1406520"/>
            <a:ext cx="29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388600" y="18795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23"/>
          <p:cNvCxnSpPr>
            <a:stCxn id="171" idx="3"/>
          </p:cNvCxnSpPr>
          <p:nvPr/>
        </p:nvCxnSpPr>
        <p:spPr>
          <a:xfrm flipV="1">
            <a:off x="4932000" y="1844280"/>
            <a:ext cx="864360" cy="234000"/>
          </a:xfrm>
          <a:prstGeom prst="bentConnector3">
            <a:avLst>
              <a:gd name="adj1" fmla="val 50000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73" name="Rectangle 25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4122720" y="3141720"/>
                <a:ext cx="4697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\( 0 \) }  over  {2!} } z rSup { size 8{2} } + {  {f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7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6"/>
              <p:cNvSpPr txBox="1"/>
              <p:nvPr/>
            </p:nvSpPr>
            <p:spPr>
              <a:xfrm>
                <a:off x="4788000" y="3716280"/>
                <a:ext cx="36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8"/>
              <p:cNvSpPr txBox="1"/>
              <p:nvPr/>
            </p:nvSpPr>
            <p:spPr>
              <a:xfrm>
                <a:off x="4788000" y="4437000"/>
                <a:ext cx="2879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31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0"/>
              <p:cNvSpPr txBox="1"/>
              <p:nvPr/>
            </p:nvSpPr>
            <p:spPr>
              <a:xfrm>
                <a:off x="4788000" y="5084640"/>
                <a:ext cx="25923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3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2"/>
              <p:cNvSpPr txBox="1"/>
              <p:nvPr/>
            </p:nvSpPr>
            <p:spPr>
              <a:xfrm>
                <a:off x="480960" y="2492280"/>
                <a:ext cx="1515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34"/>
          <p:cNvSpPr/>
          <p:nvPr/>
        </p:nvSpPr>
        <p:spPr>
          <a:xfrm>
            <a:off x="2192040" y="25779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‘ (0) =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394200" y="2023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6"/>
              <p:cNvSpPr txBox="1"/>
              <p:nvPr/>
            </p:nvSpPr>
            <p:spPr>
              <a:xfrm>
                <a:off x="468360" y="3133800"/>
                <a:ext cx="15285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\) = {  {2}  over  { \( 1 - z \)  rSup { size 8{3} } 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Text Box 38"/>
          <p:cNvSpPr/>
          <p:nvPr/>
        </p:nvSpPr>
        <p:spPr>
          <a:xfrm>
            <a:off x="2212560" y="32050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“ (0) =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2212560" y="3854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‘” (0) =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0"/>
              <p:cNvSpPr txBox="1"/>
              <p:nvPr/>
            </p:nvSpPr>
            <p:spPr>
              <a:xfrm>
                <a:off x="490680" y="3787920"/>
                <a:ext cx="157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2"/>
              <p:cNvSpPr txBox="1"/>
              <p:nvPr/>
            </p:nvSpPr>
            <p:spPr>
              <a:xfrm>
                <a:off x="539640" y="5383080"/>
                <a:ext cx="352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0 \) }  over  {2!} } z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eft ( \lline z \lline &lt;1 right )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4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4"/>
              <p:cNvSpPr txBox="1"/>
              <p:nvPr/>
            </p:nvSpPr>
            <p:spPr>
              <a:xfrm>
                <a:off x="485640" y="4429080"/>
                <a:ext cx="2141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4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7218-F5E2-46DF-910C-376AD8D9945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5718C7AB-6171-4DAC-B7EB-7DE5FC95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ret Mac Laurin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44080" y="169920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31840" y="857160"/>
            <a:ext cx="866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Untuk perderetan fungsi rasional yang lain diselesaikan dengan menggunakan hasil di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324000" y="2205000"/>
                <a:ext cx="1439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Text Box 8"/>
          <p:cNvSpPr/>
          <p:nvPr/>
        </p:nvSpPr>
        <p:spPr>
          <a:xfrm>
            <a:off x="1738440" y="223992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5724360" y="1700280"/>
            <a:ext cx="2448000" cy="1981080"/>
            <a:chOff x="5724360" y="1700280"/>
            <a:chExt cx="2448000" cy="1981080"/>
          </a:xfrm>
        </p:grpSpPr>
        <p:sp>
          <p:nvSpPr>
            <p:cNvPr id="205" name="Line 10"/>
            <p:cNvSpPr/>
            <p:nvPr/>
          </p:nvSpPr>
          <p:spPr>
            <a:xfrm>
              <a:off x="6630840" y="170028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5792760" y="276696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7545240" y="276696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6012000" y="170028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4"/>
            <p:cNvSpPr/>
            <p:nvPr/>
          </p:nvSpPr>
          <p:spPr>
            <a:xfrm>
              <a:off x="5796000" y="256536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5"/>
            <p:cNvSpPr/>
            <p:nvPr/>
          </p:nvSpPr>
          <p:spPr>
            <a:xfrm>
              <a:off x="5724360" y="2781360"/>
              <a:ext cx="574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Oval 17"/>
          <p:cNvSpPr/>
          <p:nvPr/>
        </p:nvSpPr>
        <p:spPr>
          <a:xfrm>
            <a:off x="5940360" y="2057400"/>
            <a:ext cx="1371600" cy="1371600"/>
          </a:xfrm>
          <a:prstGeom prst="ellipse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2031480" y="263052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20"/>
          <p:cNvCxnSpPr>
            <a:stCxn id="212" idx="3"/>
          </p:cNvCxnSpPr>
          <p:nvPr/>
        </p:nvCxnSpPr>
        <p:spPr>
          <a:xfrm flipV="1">
            <a:off x="4575240" y="2491560"/>
            <a:ext cx="1077120" cy="337320"/>
          </a:xfrm>
          <a:prstGeom prst="bentConnector3">
            <a:avLst>
              <a:gd name="adj1" fmla="val 4998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4" name="AutoShape 21"/>
          <p:cNvSpPr/>
          <p:nvPr/>
        </p:nvSpPr>
        <p:spPr>
          <a:xfrm>
            <a:off x="7164360" y="1773360"/>
            <a:ext cx="1295280" cy="431640"/>
          </a:xfrm>
          <a:prstGeom prst="wedgeRoundRectCallout">
            <a:avLst>
              <a:gd name="adj1" fmla="val -39337"/>
              <a:gd name="adj2" fmla="val 1261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z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425520" y="3135240"/>
            <a:ext cx="23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-z | &lt; 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 z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4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3203640" y="3141720"/>
                <a:ext cx="2303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5"/>
              <p:cNvSpPr txBox="1"/>
              <p:nvPr/>
            </p:nvSpPr>
            <p:spPr>
              <a:xfrm>
                <a:off x="765000" y="3789360"/>
                <a:ext cx="2511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0" name="AutoShape 27"/>
          <p:cNvCxnSpPr/>
          <p:nvPr/>
        </p:nvCxnSpPr>
        <p:spPr>
          <a:xfrm flipH="1" flipV="1" rot="10800000">
            <a:off x="322920" y="2442960"/>
            <a:ext cx="441720" cy="1659600"/>
          </a:xfrm>
          <a:prstGeom prst="bentConnector3">
            <a:avLst>
              <a:gd name="adj1" fmla="val -51794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21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8"/>
              <p:cNvSpPr txBox="1"/>
              <p:nvPr/>
            </p:nvSpPr>
            <p:spPr>
              <a:xfrm>
                <a:off x="765000" y="4437000"/>
                <a:ext cx="1284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Rectangle 3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0"/>
              <p:cNvSpPr txBox="1"/>
              <p:nvPr/>
            </p:nvSpPr>
            <p:spPr>
              <a:xfrm>
                <a:off x="2921040" y="4414680"/>
                <a:ext cx="2584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4D88-9221-4EC5-80D8-5A30E721C68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C7622B4C-32D8-4666-9794-D9330E70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95280" y="1341360"/>
                <a:ext cx="1512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6"/>
          <p:cNvSpPr/>
          <p:nvPr/>
        </p:nvSpPr>
        <p:spPr>
          <a:xfrm>
            <a:off x="296280" y="90324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7"/>
          <p:cNvGrpSpPr/>
          <p:nvPr/>
        </p:nvGrpSpPr>
        <p:grpSpPr>
          <a:xfrm>
            <a:off x="5564160" y="3549600"/>
            <a:ext cx="2448000" cy="1981080"/>
            <a:chOff x="5564160" y="3549600"/>
            <a:chExt cx="2448000" cy="1981080"/>
          </a:xfrm>
        </p:grpSpPr>
        <p:sp>
          <p:nvSpPr>
            <p:cNvPr id="233" name="Line 8"/>
            <p:cNvSpPr/>
            <p:nvPr/>
          </p:nvSpPr>
          <p:spPr>
            <a:xfrm>
              <a:off x="6470640" y="3549600"/>
              <a:ext cx="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5632560" y="46162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0"/>
            <p:cNvSpPr/>
            <p:nvPr/>
          </p:nvSpPr>
          <p:spPr>
            <a:xfrm>
              <a:off x="7385040" y="4616280"/>
              <a:ext cx="6271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5851800" y="3549600"/>
              <a:ext cx="625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5635800" y="4414680"/>
              <a:ext cx="304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5564160" y="4630680"/>
              <a:ext cx="574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4160" y="441288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7075440" y="4628880"/>
              <a:ext cx="289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16"/>
          <p:cNvSpPr/>
          <p:nvPr/>
        </p:nvSpPr>
        <p:spPr>
          <a:xfrm>
            <a:off x="5780160" y="3908520"/>
            <a:ext cx="1371600" cy="137160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80280" y="14065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1 dan z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2247480" y="183996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AutoShape 20"/>
          <p:cNvCxnSpPr>
            <a:stCxn id="243" idx="3"/>
            <a:endCxn id="238" idx="1"/>
          </p:cNvCxnSpPr>
          <p:nvPr/>
        </p:nvCxnSpPr>
        <p:spPr>
          <a:xfrm>
            <a:off x="4790880" y="2038320"/>
            <a:ext cx="773640" cy="2774160"/>
          </a:xfrm>
          <a:prstGeom prst="bentConnector3">
            <a:avLst>
              <a:gd name="adj1" fmla="val 4986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5" name="AutoShape 21"/>
          <p:cNvSpPr/>
          <p:nvPr/>
        </p:nvSpPr>
        <p:spPr>
          <a:xfrm>
            <a:off x="7077240" y="3429000"/>
            <a:ext cx="1152360" cy="368280"/>
          </a:xfrm>
          <a:prstGeom prst="borderCallout2">
            <a:avLst>
              <a:gd name="adj1" fmla="val 18750"/>
              <a:gd name="adj2" fmla="val -8333"/>
              <a:gd name="adj3" fmla="val 28916"/>
              <a:gd name="adj4" fmla="val -24791"/>
              <a:gd name="adj5" fmla="val 135347"/>
              <a:gd name="adj6" fmla="val -4365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 | &lt;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4"/>
              <p:cNvSpPr txBox="1"/>
              <p:nvPr/>
            </p:nvSpPr>
            <p:spPr>
              <a:xfrm>
                <a:off x="971640" y="2139840"/>
                <a:ext cx="1079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6"/>
              <p:cNvSpPr txBox="1"/>
              <p:nvPr/>
            </p:nvSpPr>
            <p:spPr>
              <a:xfrm>
                <a:off x="974880" y="2924280"/>
                <a:ext cx="1436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Rectangle 2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8"/>
              <p:cNvSpPr txBox="1"/>
              <p:nvPr/>
            </p:nvSpPr>
            <p:spPr>
              <a:xfrm>
                <a:off x="2484360" y="2924280"/>
                <a:ext cx="122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Rectangle 3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0"/>
              <p:cNvSpPr txBox="1"/>
              <p:nvPr/>
            </p:nvSpPr>
            <p:spPr>
              <a:xfrm>
                <a:off x="971640" y="3860640"/>
                <a:ext cx="2347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Text Box 32"/>
          <p:cNvSpPr/>
          <p:nvPr/>
        </p:nvSpPr>
        <p:spPr>
          <a:xfrm>
            <a:off x="6774480" y="54878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33"/>
          <p:cNvCxnSpPr>
            <a:stCxn id="245" idx="0"/>
            <a:endCxn id="255" idx="3"/>
          </p:cNvCxnSpPr>
          <p:nvPr/>
        </p:nvCxnSpPr>
        <p:spPr>
          <a:xfrm flipH="1">
            <a:off x="7873560" y="3627360"/>
            <a:ext cx="370800" cy="2059920"/>
          </a:xfrm>
          <a:prstGeom prst="bentConnector3">
            <a:avLst>
              <a:gd name="adj1" fmla="val -34693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9D7-F0BB-42A2-87C4-24BBD5E3A57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/ </a:t>
            </a:r>
            <a:fld id="{684CA884-4340-4D76-A278-E98449F9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44080" y="90324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deretkan ke dalam deret Mac Laur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24000" y="1413000"/>
                <a:ext cx="1511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Text Box 7"/>
          <p:cNvSpPr/>
          <p:nvPr/>
        </p:nvSpPr>
        <p:spPr>
          <a:xfrm>
            <a:off x="2139120" y="153684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8"/>
          <p:cNvGrpSpPr/>
          <p:nvPr/>
        </p:nvGrpSpPr>
        <p:grpSpPr>
          <a:xfrm>
            <a:off x="2771640" y="3608280"/>
            <a:ext cx="2379600" cy="1981440"/>
            <a:chOff x="2771640" y="3608280"/>
            <a:chExt cx="2379600" cy="1981440"/>
          </a:xfrm>
        </p:grpSpPr>
        <p:sp>
          <p:nvSpPr>
            <p:cNvPr id="269" name="Line 9"/>
            <p:cNvSpPr/>
            <p:nvPr/>
          </p:nvSpPr>
          <p:spPr>
            <a:xfrm>
              <a:off x="3609720" y="36082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0"/>
            <p:cNvSpPr/>
            <p:nvPr/>
          </p:nvSpPr>
          <p:spPr>
            <a:xfrm>
              <a:off x="2771640" y="4675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4524120" y="4675320"/>
              <a:ext cx="6271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>
              <a:off x="2990880" y="3608280"/>
              <a:ext cx="6253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4143240" y="4471920"/>
              <a:ext cx="304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214520" y="4687920"/>
              <a:ext cx="28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Oval 17"/>
          <p:cNvSpPr/>
          <p:nvPr/>
        </p:nvSpPr>
        <p:spPr>
          <a:xfrm>
            <a:off x="2919240" y="3967200"/>
            <a:ext cx="1371600" cy="137160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501640" y="196848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erah Keanalitikan,  | z | &lt;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20"/>
          <p:cNvCxnSpPr>
            <a:stCxn id="276" idx="3"/>
            <a:endCxn id="275" idx="7"/>
          </p:cNvCxnSpPr>
          <p:nvPr/>
        </p:nvCxnSpPr>
        <p:spPr>
          <a:xfrm flipH="1">
            <a:off x="4088520" y="2166480"/>
            <a:ext cx="1996200" cy="1987920"/>
          </a:xfrm>
          <a:prstGeom prst="curvedConnector5">
            <a:avLst>
              <a:gd name="adj1" fmla="val -11435"/>
              <a:gd name="adj2" fmla="val 33870"/>
              <a:gd name="adj3" fmla="val -11435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78" name="Rectangle 2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1"/>
              <p:cNvSpPr txBox="1"/>
              <p:nvPr/>
            </p:nvSpPr>
            <p:spPr>
              <a:xfrm>
                <a:off x="836640" y="2595600"/>
                <a:ext cx="1289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Rectangle 2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2141640" y="2595600"/>
                <a:ext cx="1493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3557520" y="2595600"/>
                <a:ext cx="2166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6:25Z</dcterms:modified>
  <cp:revision>87</cp:revision>
  <dc:subject/>
  <dc:title>Slide 1</dc:title>
</cp:coreProperties>
</file>