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2D9-A335-4886-855C-2EE4AE7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401-94A4-4D4C-931F-47E79B1E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4D9-E6DA-43F1-8D19-6B9B5295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1D7-BDE3-4EDC-8337-91618A8B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026-6C7D-4E86-9119-CAA5BAF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BC8-7137-4232-A356-8F73C6C7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19E-6F2E-46C9-9739-C46FFE1B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F07-08F5-47A7-A97A-EF522EF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95D-9426-473F-991C-A520FEC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813-0D3B-42E0-A8A4-02A67496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2F8-A4A4-4257-B715-73B5032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3C8-C9E4-474F-9DCA-5A3B05A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707-32DE-49E3-B70D-93F4D48857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gif"/><Relationship Id="rId4" Type="http://schemas.openxmlformats.org/officeDocument/2006/relationships/image" Target="../media/image68.gi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484280"/>
            <a:ext cx="7200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Fotos extrañas!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              </a:t>
            </a: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Camill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4105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1262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7278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6840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52675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8533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5759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64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81400" y="189000"/>
            <a:ext cx="39909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741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534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59770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12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538200"/>
            <a:ext cx="4768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59040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66840"/>
            <a:ext cx="9144000" cy="612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76280"/>
            <a:ext cx="8028000" cy="602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46320" y="0"/>
            <a:ext cx="4851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0"/>
            <a:ext cx="43862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5614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4400" y="0"/>
            <a:ext cx="55134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3440" y="0"/>
            <a:ext cx="46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5440"/>
            <a:ext cx="9144000" cy="620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2960" y="0"/>
            <a:ext cx="7858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0"/>
            <a:ext cx="4752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4520" y="0"/>
            <a:ext cx="7913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7120"/>
            <a:ext cx="9144000" cy="614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00360" y="287280"/>
            <a:ext cx="38545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6280"/>
            <a:ext cx="7848360" cy="588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14640" y="260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17600" y="765000"/>
            <a:ext cx="63500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3360"/>
            <a:ext cx="8172720" cy="612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765000"/>
            <a:ext cx="7561080" cy="555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5610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0"/>
            <a:ext cx="50292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99880"/>
            <a:ext cx="9144000" cy="625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6280"/>
            <a:ext cx="8028000" cy="602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65200"/>
            <a:ext cx="9144000" cy="572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406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41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63912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3560" y="0"/>
            <a:ext cx="707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604872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9480" y="0"/>
            <a:ext cx="4503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765000"/>
            <a:ext cx="7093080" cy="531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0560" y="0"/>
            <a:ext cx="6967440" cy="680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2560" y="5950080"/>
            <a:ext cx="210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Buen dia…</a:t>
            </a:r>
            <a:br>
              <a:rPr sz="1800"/>
            </a:b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camilleskaff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47640" y="558972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6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60"/>
                            </p:stCondLst>
                            <p:childTnLst>
                              <p:par>
                                <p:cTn id="2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5596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8000" y="404640"/>
            <a:ext cx="5481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777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1:08:58Z</dcterms:created>
  <dc:creator>Rromero</dc:creator>
  <dc:description/>
  <dc:language>en-US</dc:language>
  <cp:lastModifiedBy>Smets</cp:lastModifiedBy>
  <dcterms:modified xsi:type="dcterms:W3CDTF">2008-09-01T19:16:44Z</dcterms:modified>
  <cp:revision>7</cp:revision>
  <dc:subject/>
  <dc:title>Diapositiva 1</dc:title>
</cp:coreProperties>
</file>