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3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3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3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6CD-3E7B-4ED9-9B69-338DB9F93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3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9003-6118-41A3-8B09-30DDFEC5992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F20-0BE8-4E99-9F5A-6B0DABED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7AD0-69BE-4314-BD69-60C601A52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3C90-A15C-4BB7-9D12-56AADE20EC2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6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36E-108A-495D-8230-AD5A0551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CAA-2D77-4DF0-9474-205A8D99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3AAA-B5B6-481B-9B47-16568A7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203FB-A095-4C31-BBF5-0D0F668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7F4B-318A-4289-B553-3F2B96C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36209-6680-4E72-9CA5-2A1732B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0EA7-8F3E-4D4A-B86F-38A767C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75B5C-71BE-4547-B2F5-E49F0A9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94F2-CE3F-4A0A-B1FD-39AB40D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BD726-EB9C-412F-9F24-50724EE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78E6-3851-4D99-BEC6-25279767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019D9-46D7-4932-98BA-27404926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14F-8920-4A01-9E36-1A011B27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45C1A-3FCE-484B-ADF5-B549D65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302E1-B74D-4997-B394-C292514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CEA44-ACC4-42A7-89A5-9B1F140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9D60-B7EE-4468-8AF6-06FD250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7EF45-47A6-414E-A6FA-7C45D7B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46F70-2750-459F-9D6D-E57A174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DE6BD-705B-430F-9127-F71A5F1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E1492-8EC4-400A-9647-D83AA3F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EA6BB-1238-4FFA-9CB7-02421B3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97F9B-0F86-4109-87B2-630C2686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20A-E8D3-4F97-928B-D47CB49B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A5871-A1C2-4877-A6EA-09AF0741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36E7-0A8D-44F4-9057-E65274B8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26C6-8B16-4CD9-8609-C9E523E0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C4D1-F7B3-4E75-8CEB-7B44CC6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AEDC-40F4-4D27-BD8D-CE9AB12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E37-1CBD-4EEF-B0FB-64CA771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5D85-151A-49C6-94FD-3CDF100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CB35-D34D-4579-96D1-420D7BD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A58-FDE8-4BAF-A8A8-349CB70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BAF-1FBA-43FC-8DA9-D0E576AA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F3E-61F8-4DE7-8372-C979FCD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200-536F-49FD-AC3A-4B7BE04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A100-291C-4D43-A515-EEA78A1B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FAE-5678-4EFB-A46B-175A7F99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ADDA-3CB0-4D17-AA03-93630598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0D1E-F840-42BD-8350-ED98DBB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7678-40C7-43F0-ABAF-F803A0A0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F8D8-9628-4CC1-B748-973BF09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99D8-EB00-4A87-B3D8-2D3BC82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820-0CE4-45AB-8269-00A0FB5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D6C6-D1D2-4499-A2E2-3EE3823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A76D-9206-4CC9-B607-C920D78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7BE5-629D-4EDE-B63A-5382309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2208-966D-4477-A1D7-72B6C77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EC90-6D72-44DD-B540-35FCD70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E0D2-7CA5-44D6-B3A9-B641071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4F34-AA9C-450B-972F-56069CC7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A30C8-FB21-4B1C-B6A5-5EE6918A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4E76-C5BA-4C3B-8C99-CEAD763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D9C0-94ED-43F3-8E3E-7259FEA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436-0E71-41CC-8E24-7C817B52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4814-3A4F-417A-A914-7287CDD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2058-D53A-405D-817A-4B2DADF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067A-442E-4EF1-8FC0-D49A38C0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35C5-F2AB-4319-ADCC-037D951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3932-2FD0-44BF-857D-0CBB4DB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0C2A-FB61-4134-8093-E35EE2E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C91A-29E4-41DD-AC18-93F7F4AF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E53A-7EF6-40E7-A277-8C1885FB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CFF2-55D1-4F6B-AE8E-2405055B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F10C-D6BF-4CCB-9FC6-BEE2D78C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82C-5C4A-445D-BC09-1AB6F44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DF92-77EB-4A39-8F13-407BA01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C9C6-761D-4970-814A-D43CA95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29F4-CF25-4774-87AC-07CF02C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4A30-C87B-4EC0-90D8-9F3CA08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04F3-9490-437B-8153-2D6C507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46FC0-0855-4AF6-8AEF-A85AB86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18F0-ED4D-43E0-965D-E490AED8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454B-F77E-4BD2-8C9F-577D6F9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3F1D0-1585-4A55-A71B-DF4123B2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60DB-8493-445C-A929-B82A0151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4E9-190D-423D-836D-CED49B1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7D32-3B71-4E35-AAE5-1F585B8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3059-FDF0-4CBC-9814-37AD8175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8D35-2064-4BC0-BF7F-11151AD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C2B2-AC93-4A9E-AF58-554D368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908C-2B04-493D-B2AD-83F4304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CA33-7F97-4C8C-9466-E45BEE5E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14915-3BAC-4E5A-A774-2DB7522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19BE-9105-4D1A-AB81-6BDBE81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4DBA-DF5E-4922-864D-21831A9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26ECC-FB63-47A3-AD6C-F4DA824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F52-B236-4678-B488-3DB81F5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DC8F3-2A3A-46F2-85CF-A0128628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042CC-3EE8-41C9-9837-CD5EF601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6FCD-8B24-477E-9D44-07103D45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3690-51AB-42F7-8897-2024BABE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F836-D6F9-440F-B7C6-F75EF989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1021-CCB4-4E6B-8D12-9B67173D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5B88E-A72F-4F60-A85A-36CCB66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4D17-2BF0-4927-B252-2B78596E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1A6E-E936-4298-87EF-F5F86464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D47F-ED07-4517-9D77-F08D334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F0B-A2EA-427B-91FC-39234C6B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936E-7A01-4D3E-B452-8D19090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BCD6-523F-4A2F-A64C-9EC8E6A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38A48-37DD-4C7C-A8D0-AF75882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9571-AB92-49C5-92BC-2C0D5374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176E1-7A3B-4BC0-9B21-68C369BF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7C33-229B-4199-8E10-57E2A799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9685-627B-46F9-A661-D302C7B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5F33-2FF0-4D12-AF40-CFA73F1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3A7CF-FC91-494E-8F27-1204A66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F390-3767-4B3F-A99F-4D1B616F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AC8-6C99-46B6-B1D7-13F7ED1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6ED72-6CA3-41CD-8577-A509705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967B-E395-43AD-92B2-8384C090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7470-1E22-408E-B948-57B2AEB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540B3-B6FD-4868-B7D5-5A32811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F426-A786-48B8-86A6-4399BC2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0BE39-E42F-4A1F-8EC4-1BEFD8F0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39F7-C392-4A6F-B8E0-F96800C2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19BE9-4B75-42AF-96BC-9275ACC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32CA-79CF-4589-9E29-A28A927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5918D-0BB4-43D3-9364-D4F6678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Ing. Ronald Ponguillo Intri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0C83-372A-41B4-83F4-863CDFF0FBE4}" type="slidenum"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14840" y="637704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596520" y="6366960"/>
            <a:ext cx="1981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3899-4245-49C6-AC78-D67F76ED3D85}" type="slidenum">
              <a:rPr b="0" lang="es-EC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ponguil@espol.edu.e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ponguil@espol.edu.ec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485640" y="123660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92144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SEÑO DE SISTEMA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GITALE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EYAG1007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00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FACULTAD DE INGENIERIA EN ELECTRICIDAD Y COMPUTAC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MPLEMENTACIÓN DE SISTEMAS SOFT PROCESSOR</a:t>
            </a: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ULTINÚCLE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46F-6FA7-497A-8596-FF50BB44F9E6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013D-F24C-44F6-AF14-CF9925E9B7FF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Imagen 5" descr=""/>
          <p:cNvPicPr/>
          <p:nvPr/>
        </p:nvPicPr>
        <p:blipFill>
          <a:blip r:embed="rId1"/>
          <a:stretch/>
        </p:blipFill>
        <p:spPr>
          <a:xfrm>
            <a:off x="738360" y="0"/>
            <a:ext cx="76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MPLEMENTACIÓN DE SISTEMAS SOFT PROCESSOR</a:t>
            </a: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NONÚCLE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4" name="Marcador de contenido 1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8183520" cy="3206880"/>
          </a:xfrm>
          <a:prstGeom prst="rect">
            <a:avLst/>
          </a:prstGeom>
          <a:ln w="0">
            <a:noFill/>
          </a:ln>
        </p:spPr>
      </p:pic>
      <p:sp>
        <p:nvSpPr>
          <p:cNvPr id="49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DB2C-3C26-46FB-A8F0-DF561B942D6A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B6C6-EF5A-4D83-BC61-0ED5AD3BEABD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Imagen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906-18EE-4F82-B97D-F996B7E84C5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Imagen 5" descr=""/>
          <p:cNvPicPr/>
          <p:nvPr/>
        </p:nvPicPr>
        <p:blipFill>
          <a:blip r:embed="rId1"/>
          <a:stretch/>
        </p:blipFill>
        <p:spPr>
          <a:xfrm>
            <a:off x="419040" y="1335240"/>
            <a:ext cx="83059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8" name="Marcador de contenido 5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  <p:sp>
        <p:nvSpPr>
          <p:cNvPr id="50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347-E1A7-4581-8E25-E82D5DA10C9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02B-7770-45D6-97A6-31D66CE7F0C9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n 5" descr=""/>
          <p:cNvPicPr/>
          <p:nvPr/>
        </p:nvPicPr>
        <p:blipFill>
          <a:blip r:embed="rId1"/>
          <a:stretch/>
        </p:blipFill>
        <p:spPr>
          <a:xfrm>
            <a:off x="523800" y="747720"/>
            <a:ext cx="8096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53E5-471B-4D61-A1A1-1B57AA0413B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n 5" descr=""/>
          <p:cNvPicPr/>
          <p:nvPr/>
        </p:nvPicPr>
        <p:blipFill>
          <a:blip r:embed="rId1"/>
          <a:stretch/>
        </p:blipFill>
        <p:spPr>
          <a:xfrm>
            <a:off x="1374840" y="907920"/>
            <a:ext cx="630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F7E-E5C5-4289-BC3E-8E0915D36EB7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agen 5" descr=""/>
          <p:cNvPicPr/>
          <p:nvPr/>
        </p:nvPicPr>
        <p:blipFill>
          <a:blip r:embed="rId1"/>
          <a:stretch/>
        </p:blipFill>
        <p:spPr>
          <a:xfrm>
            <a:off x="938160" y="476280"/>
            <a:ext cx="7566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9AE-B773-4BFF-92C7-471C8DEF4198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Imagen 5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UNIDAD 9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4653"/>
                </a:solidFill>
                <a:latin typeface="Bookman Old Style"/>
              </a:rPr>
              <a:t>INTRODUCCIÓN A LOS SISTEMAS EMBEBI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4653"/>
                </a:solidFill>
                <a:latin typeface="Bookman Old Style"/>
              </a:rPr>
              <a:t>SOBRE FPG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STEMAS OPERATIVOS DE TIEMPO REAL PARA</a:t>
            </a: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STEMAS EMBEBIDOS EN FPG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0DB-E666-4DBF-9B9B-964BAB36A57D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CONFIGURACIÓN PARC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2A62-4BE7-454C-9066-9B54E9D8FD40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mas a tratar… 6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152360"/>
            <a:ext cx="82296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EMBEBIDOS EN FPGA: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VERSUS HARD PROCESSO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MPLEMENTACIÓN DE SISTEMAS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ONONÚCLE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MPLEMENTACIÓN DE SISTEMAS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ULTINÚCLE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OPERATIVOS DE TIEMPO REAL PARA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EMBEBIDOS EN FPGA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ECONFIGURACIÓN PARCIA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4 Marcador de pie de página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611280" y="63770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9F1-6680-4015-ADEF-B75EE3BB0685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ISTEMAS EMBEBIDOS EN FPGA: SOFT PROCESSOR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VERSUS HARD PROCESSOR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B5E6-085F-45B1-AFFC-24372D68883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5" descr=""/>
          <p:cNvPicPr/>
          <p:nvPr/>
        </p:nvPicPr>
        <p:blipFill>
          <a:blip r:embed="rId1"/>
          <a:stretch/>
        </p:blipFill>
        <p:spPr>
          <a:xfrm>
            <a:off x="0" y="1162080"/>
            <a:ext cx="4537080" cy="3608280"/>
          </a:xfrm>
          <a:prstGeom prst="rect">
            <a:avLst/>
          </a:prstGeom>
          <a:ln w="0">
            <a:noFill/>
          </a:ln>
        </p:spPr>
      </p:pic>
      <p:pic>
        <p:nvPicPr>
          <p:cNvPr id="459" name="Imagen 10" descr=""/>
          <p:cNvPicPr/>
          <p:nvPr/>
        </p:nvPicPr>
        <p:blipFill>
          <a:blip r:embed="rId2"/>
          <a:stretch/>
        </p:blipFill>
        <p:spPr>
          <a:xfrm>
            <a:off x="4211640" y="251784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C7A-0DC7-4C4A-9FAA-2A708C2BB224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n 5" descr=""/>
          <p:cNvPicPr/>
          <p:nvPr/>
        </p:nvPicPr>
        <p:blipFill>
          <a:blip r:embed="rId1"/>
          <a:stretch/>
        </p:blipFill>
        <p:spPr>
          <a:xfrm>
            <a:off x="1547640" y="419040"/>
            <a:ext cx="523584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51BA-2D0C-4849-8939-A9BE40D504E3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Imagen 5" descr=""/>
          <p:cNvPicPr/>
          <p:nvPr/>
        </p:nvPicPr>
        <p:blipFill>
          <a:blip r:embed="rId1"/>
          <a:stretch/>
        </p:blipFill>
        <p:spPr>
          <a:xfrm>
            <a:off x="304920" y="395280"/>
            <a:ext cx="85341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Marcador de contenido 6" descr=""/>
          <p:cNvPicPr/>
          <p:nvPr/>
        </p:nvPicPr>
        <p:blipFill>
          <a:blip r:embed="rId1"/>
          <a:stretch/>
        </p:blipFill>
        <p:spPr>
          <a:xfrm>
            <a:off x="1793880" y="4392720"/>
            <a:ext cx="5715000" cy="1857240"/>
          </a:xfrm>
          <a:prstGeom prst="rect">
            <a:avLst/>
          </a:prstGeom>
          <a:ln w="0">
            <a:noFill/>
          </a:ln>
        </p:spPr>
      </p:pic>
      <p:sp>
        <p:nvSpPr>
          <p:cNvPr id="47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243-C037-4776-A698-95DD72E7ABC7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Imagen 5" descr=""/>
          <p:cNvPicPr/>
          <p:nvPr/>
        </p:nvPicPr>
        <p:blipFill>
          <a:blip r:embed="rId2"/>
          <a:stretch/>
        </p:blipFill>
        <p:spPr>
          <a:xfrm>
            <a:off x="31680" y="0"/>
            <a:ext cx="4619520" cy="4287960"/>
          </a:xfrm>
          <a:prstGeom prst="rect">
            <a:avLst/>
          </a:prstGeom>
          <a:ln w="0">
            <a:noFill/>
          </a:ln>
        </p:spPr>
      </p:pic>
      <p:pic>
        <p:nvPicPr>
          <p:cNvPr id="474" name="Imagen 7" descr=""/>
          <p:cNvPicPr/>
          <p:nvPr/>
        </p:nvPicPr>
        <p:blipFill>
          <a:blip r:embed="rId3"/>
          <a:srcRect l="11935" t="0" r="20859" b="0"/>
          <a:stretch/>
        </p:blipFill>
        <p:spPr>
          <a:xfrm>
            <a:off x="4932360" y="743040"/>
            <a:ext cx="4097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6" name="Marcador de contenido 5" descr=""/>
          <p:cNvPicPr/>
          <p:nvPr/>
        </p:nvPicPr>
        <p:blipFill>
          <a:blip r:embed="rId1"/>
          <a:stretch/>
        </p:blipFill>
        <p:spPr>
          <a:xfrm>
            <a:off x="457200" y="1373040"/>
            <a:ext cx="8229600" cy="4629240"/>
          </a:xfrm>
          <a:prstGeom prst="rect">
            <a:avLst/>
          </a:prstGeom>
          <a:ln w="0">
            <a:noFill/>
          </a:ln>
        </p:spPr>
      </p:pic>
      <p:sp>
        <p:nvSpPr>
          <p:cNvPr id="47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D31-112F-4BA5-B8C5-D0FB0B3D5F7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0D83-DDA6-4975-BA54-6AC7EBB31CD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en 5" descr=""/>
          <p:cNvPicPr/>
          <p:nvPr/>
        </p:nvPicPr>
        <p:blipFill>
          <a:blip r:embed="rId1"/>
          <a:stretch/>
        </p:blipFill>
        <p:spPr>
          <a:xfrm>
            <a:off x="579600" y="1414440"/>
            <a:ext cx="80247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3:13:01Z</dcterms:created>
  <dc:creator>Ronald</dc:creator>
  <dc:description/>
  <dc:language>en-US</dc:language>
  <cp:lastModifiedBy>Ronald Alberto Ponguillo Intriago</cp:lastModifiedBy>
  <dcterms:modified xsi:type="dcterms:W3CDTF">2017-08-04T05:45:04Z</dcterms:modified>
  <cp:revision>268</cp:revision>
  <dc:subject/>
  <dc:title>Introducción a los Sistemas Digitales</dc:title>
</cp:coreProperties>
</file>