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3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ftr" idx="3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 type="sldNum" idx="3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B074-1079-4984-A96F-D57BEA64A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3 Marcador de encabezado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4 Marcador de fecha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5BE4-A6EC-4231-96EF-DA162AF775BE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5 Marcador de pie de página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6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D447-DDAF-4AF1-A494-C33C3B464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28D0-158F-4920-BF9D-74AE51CCB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4 Marcador de fecha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591B-0256-431A-A462-BD18955A3A9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5 Marcador de pie de página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g. Ronald Ponguillo Intria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6 Marcador de encabezado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NDAMENTOS DE ROBOTI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B68-65C7-4AE6-A1E7-A4F87C9E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DD3-E28D-432D-A719-34C30BDA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E178E-7306-4D88-A456-A91430C8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490EC-3F33-4223-B5F6-E3164292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F9614-421D-4EC7-86E2-CC9D9389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6D3F0-B7E0-4DBB-AE1D-6736D2F1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04FAB-B5A7-4CF8-AC88-2DF5A646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10C22-DDA2-4FD6-A7DB-C4F8466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604F1-E2A6-4D1A-9399-C44F6AF4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AD029-A969-4FAF-BB88-564E7BAC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F805E-E7AE-44D8-BF28-FAE870C6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487D7-B503-41A4-96ED-0810004A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8E5-06EF-4E0B-8B59-33A008D1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CAD7B-B33E-484C-9C4F-02978EE3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05BE0-E677-425F-995B-09FBF46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43ACC-2307-4265-BA64-904FE3E8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7FEF5-7570-4061-8819-6111AD37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6D32C-044E-4E9C-A238-D1643130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F5E7C-CE6D-4B7B-85C0-E540AAD1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922FC-814B-424A-B835-30B0D5A1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1C941-7C12-4DF0-ABDF-6856E3C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54C42-F435-4E1E-90AD-D0193621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DCC2E-DE3F-4EBA-9CFF-8769D6B7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835-79F9-40EA-8595-14E53A52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8AB52-6982-46C6-A3FB-657CDB1E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A47A-F19B-480B-B37C-BA4B81D3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1C98-A9D9-4FF1-ADD5-8EA50D94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77DC-ADCE-45DE-8C6E-FF3C9CA1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D815-2E25-4289-AEEF-84D17B7D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D3AE-9983-4CCB-AEAC-9881F525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CBFC-9215-4937-9546-1F3AC894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5F27-4848-4C07-B956-2C499E08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413-E2C1-4926-9736-0E28CB9C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3285-02C7-4220-BD9B-EC2F2B3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7603-D115-4360-8412-4784A968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1E24-6023-4ED0-A9A9-F34ECE88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2173-D1EF-4001-96C2-1D1738F2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9B25-993C-412A-BDD9-BA0E313B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6BB5-033A-4C67-87D0-58612DB5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44C5-7504-4ED5-B90D-5BFDD7C5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D8CE-A44B-4782-9314-FC7DC64A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66F8-1AF7-4710-ABAF-B16FE2B9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8F56-BEE2-4249-A0D2-4E4F728A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A63-4A0B-4469-A719-4E7961E7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F9678-B4BD-4412-8FC6-E0847AFD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1CBEE-7F55-47EF-9797-4B98E4C0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B59F2-DE72-41BE-96B6-7427B71F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C348-E434-427A-A56C-0863CECB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9EF1-0862-4A8C-AF1E-E4FA4F73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E5FA-9E5E-412C-9830-C63E96F2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42AE-DB05-4C80-9997-4590B0C3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5A00-8A90-43A3-88D4-E856CF99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E714-9934-46A9-AB35-2E6DB0BF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53081-78FC-427D-8383-51B4DABD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BD1-7819-4235-9EDB-AE66B5AD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E3587-B66D-4E79-9F33-FF210019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F9195-9641-41C8-87C9-B7B0FAA3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9E47-AE2B-488C-A16B-3302A76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F668-C174-491B-9BA9-31F8F74F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252F-F8CB-4AB7-99A4-4D910926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2BD1F-F5D7-415C-999A-1E85C6B9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1FCA-F39E-4CDD-8B3C-EB73AE60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669E-6FEA-4E35-B279-A846C2F9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2BE6A-C607-43A2-A81A-E40A7240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5CE0F-1148-459D-A4F7-F419F91C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398-E096-45F7-8D09-17354AA7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28D6A-EFF8-479B-978B-F4633578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F0E23-C87E-47DC-A5EC-633968D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428B6-4DA4-43E3-97ED-664BEE5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E63D3-3E1A-4E12-9037-1309CAD1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5D57B-D61A-472C-9C1C-70B4F9A9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FFB6F-4CFC-4F5E-BEB5-F236F8D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5656D-D82E-40E7-8A43-C9300DC8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29B03-BBDB-4A4A-BD56-CF5D66E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302E3-3EF6-4A34-BDA6-028C2619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7D2A-CBB1-4FA0-BD0D-AF5FCBE2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622-8DA5-4D4B-B75D-97E9B319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61249-B193-4056-AD27-12516D44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ADD9C-98FE-4E21-BC94-5ADB07E0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B98B-687E-48B3-AD3B-7FFC3B20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EF8D6-70A5-4D91-A2E8-A0293966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6EF8B-4DE1-4E2D-9FDE-6C2084A3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B8089-9ECE-4CE2-BCDB-C6D56F35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AFDA-3782-48CF-BA1F-25D5496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D400A-4731-4921-9543-EDDB8135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5A25-D7F9-47B7-908A-57954EDE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7BE00-DC35-46AB-BA55-BE7B098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A7E-7B1F-47C6-84DB-75B53DD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1AC6B-E4BB-4BA9-9D95-1E1E6BCD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4DD8B-3249-4A20-9C41-B331E695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051E5-3572-48B0-84C7-903FA816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EC89B-EC0F-4011-8738-880F30FD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F77CA-F8BA-4579-A7C8-1C8714C4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FDD40-F788-4DDD-8B91-D53E10E4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87339-CCD5-41BB-AE7F-5CA6C129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1868F-BC53-4F71-A1D2-CC6AA89C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575CD-4EE5-4628-B955-65472AED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CDC2B-8884-4424-9DC2-9499286C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24A-3326-4861-B8FE-183CC3BA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4D2CE-B2C6-4318-B404-614C618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4F611-6DDB-415D-8EAC-87B6F09F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1DCE7-DBBB-4EB6-A7BC-85A95F47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3BC62-D33A-4DE4-9EC7-1246989C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28A02-816E-45D2-9B7D-3B0578E4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F7645-048D-4372-A8D6-7EE6863E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9928C-6262-4160-9F8A-F5769406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585E9-0AC1-4AA6-AC4D-A3FCC9C3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A9B9F-A616-4EA5-8E64-636C8F49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FBDEE-3837-4600-9845-6CEA9B6C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EB8-160E-4A74-B8F9-61C07DD8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D170F-55A9-4884-A4AD-78628DF1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85EDD-11F6-4898-9C02-55C4690B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2E6FA-0E34-46AD-AD2C-FB49951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CF861-AAE1-4B4A-85B7-D0EE94EA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DC19C-7FC0-49E9-94BC-527810CE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7587E-B07D-4EF9-AFC3-53192550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79B27-2499-443C-A579-921E4712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C51AE-E9C7-4D54-8A89-33575D5C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98D84-66D7-4019-A491-D31F7EC6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3DD37-F345-411F-B863-BCC936E8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Times New Roman"/>
              </a:rPr>
              <a:t>Ing. Ronald Ponguillo Intri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63A-26E3-4FBB-A173-979C050DE22B}" type="slidenum">
              <a:rPr b="0" lang="es-EC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414840" y="637704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596520" y="6366960"/>
            <a:ext cx="1981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5C15-D811-4FD6-B41F-07F5ED5193DB}" type="slidenum">
              <a:rPr b="0" lang="es-EC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64653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e9ec"/>
                </a:solidFill>
                <a:latin typeface="Times New Roman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ponguil@espol.edu.e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rponguil@espol.edu.ec" TargetMode="External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485640" y="123660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92144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DISEÑO DE SISTEMAS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DIGITALES 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EYAG1007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42640" y="3643200"/>
            <a:ext cx="7000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FACULTAD DE INGENIERIA EN ELECTRICIDAD Y COMPUTAC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1143000" y="5068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. Ronald Ponguillo Intri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b292ca"/>
                </a:solidFill>
                <a:uFillTx/>
                <a:latin typeface="Arial"/>
                <a:hlinkClick r:id="rId2"/>
              </a:rPr>
              <a:t>rponguil@espol.edu.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MPLEMENTACIÓN DE SISTEMAS SOFT PROCESSOR</a:t>
            </a: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ULTINÚCLE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7889-E18F-4A31-95FB-868AF20B8D52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AA26-2002-4FFD-9075-158EA2CFFBC9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Imagen 5" descr=""/>
          <p:cNvPicPr/>
          <p:nvPr/>
        </p:nvPicPr>
        <p:blipFill>
          <a:blip r:embed="rId1"/>
          <a:stretch/>
        </p:blipFill>
        <p:spPr>
          <a:xfrm>
            <a:off x="738360" y="0"/>
            <a:ext cx="76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MPLEMENTACIÓN DE SISTEMAS SOFT PROCESSOR</a:t>
            </a: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ONONÚCLE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4" name="Marcador de contenido 1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8183520" cy="3206880"/>
          </a:xfrm>
          <a:prstGeom prst="rect">
            <a:avLst/>
          </a:prstGeom>
          <a:ln w="0">
            <a:noFill/>
          </a:ln>
        </p:spPr>
      </p:pic>
      <p:sp>
        <p:nvSpPr>
          <p:cNvPr id="495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D951-97CD-49AC-9990-FF021AF7BCFF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5AF3-60AA-43A7-A539-FCD4ECF3066C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Imagen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3CC9-7E3B-4F6B-AA97-F913CC4FA953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Imagen 5" descr=""/>
          <p:cNvPicPr/>
          <p:nvPr/>
        </p:nvPicPr>
        <p:blipFill>
          <a:blip r:embed="rId1"/>
          <a:stretch/>
        </p:blipFill>
        <p:spPr>
          <a:xfrm>
            <a:off x="419040" y="1335240"/>
            <a:ext cx="83059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8" name="Marcador de contenido 5" descr=""/>
          <p:cNvPicPr/>
          <p:nvPr/>
        </p:nvPicPr>
        <p:blipFill>
          <a:blip r:embed="rId1"/>
          <a:stretch/>
        </p:blipFill>
        <p:spPr>
          <a:xfrm>
            <a:off x="1281240" y="1219320"/>
            <a:ext cx="6581520" cy="4937040"/>
          </a:xfrm>
          <a:prstGeom prst="rect">
            <a:avLst/>
          </a:prstGeom>
          <a:ln w="0">
            <a:noFill/>
          </a:ln>
        </p:spPr>
      </p:pic>
      <p:sp>
        <p:nvSpPr>
          <p:cNvPr id="509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CEDE-F66F-4794-8ACB-58C348AA170A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8378-528E-4D76-B063-911E9765D6E1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Imagen 5" descr=""/>
          <p:cNvPicPr/>
          <p:nvPr/>
        </p:nvPicPr>
        <p:blipFill>
          <a:blip r:embed="rId1"/>
          <a:stretch/>
        </p:blipFill>
        <p:spPr>
          <a:xfrm>
            <a:off x="523800" y="747720"/>
            <a:ext cx="80964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4700-32D6-42C9-9C26-3FFB2787E6FA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Imagen 5" descr=""/>
          <p:cNvPicPr/>
          <p:nvPr/>
        </p:nvPicPr>
        <p:blipFill>
          <a:blip r:embed="rId1"/>
          <a:stretch/>
        </p:blipFill>
        <p:spPr>
          <a:xfrm>
            <a:off x="1374840" y="907920"/>
            <a:ext cx="6305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272C-C37F-4A53-9CDD-E3BDEEAF55FD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Imagen 5" descr=""/>
          <p:cNvPicPr/>
          <p:nvPr/>
        </p:nvPicPr>
        <p:blipFill>
          <a:blip r:embed="rId1"/>
          <a:stretch/>
        </p:blipFill>
        <p:spPr>
          <a:xfrm>
            <a:off x="938160" y="476280"/>
            <a:ext cx="756612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8DBB-7B1C-4F24-9E97-D912BE71F82B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Imagen 5" descr=""/>
          <p:cNvPicPr/>
          <p:nvPr/>
        </p:nvPicPr>
        <p:blipFill>
          <a:blip r:embed="rId1"/>
          <a:stretch/>
        </p:blipFill>
        <p:spPr>
          <a:xfrm>
            <a:off x="0" y="1366920"/>
            <a:ext cx="91440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4240" y="12139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Bookman Old Style"/>
              </a:rPr>
              <a:t>UNIDAD 9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1142640" y="3643200"/>
            <a:ext cx="70722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4653"/>
                </a:solidFill>
                <a:latin typeface="Bookman Old Style"/>
              </a:rPr>
              <a:t>INTRODUCCIÓN A LOS SISTEMAS EMBEBID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64653"/>
                </a:solidFill>
                <a:latin typeface="Bookman Old Style"/>
              </a:rPr>
              <a:t>SOBRE FPG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1143000" y="50688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. Ronald Ponguillo Intri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rponguil@espol.edu.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ISTEMAS OPERATIVOS DE TIEMPO REAL PARA</a:t>
            </a:r>
            <a:r>
              <a:rPr b="0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ISTEMAS EMBEBIDOS EN FPGA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BA15-0B14-412A-B53D-907E468517BA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ECONFIGURACIÓN PARCI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836C-25E2-4CCE-B246-BE87C8A65B11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emas a tratar… 6h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152360"/>
            <a:ext cx="82296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SISTEMAS EMBEBIDOS EN FPGA: SOFT PROCESSOR</a:t>
            </a:r>
            <a:r>
              <a:rPr b="0" lang="es-E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VERSUS HARD PROCESSOR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IMPLEMENTACIÓN DE SISTEMAS SOFT PROCESSOR</a:t>
            </a:r>
            <a:r>
              <a:rPr b="0" lang="es-E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ONONÚCLE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IMPLEMENTACIÓN DE SISTEMAS SOFT PROCESSOR</a:t>
            </a:r>
            <a:r>
              <a:rPr b="0" lang="es-E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MULTINÚCLEO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SISTEMAS OPERATIVOS DE TIEMPO REAL PARA</a:t>
            </a:r>
            <a:r>
              <a:rPr b="0" lang="es-ES" sz="2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SISTEMAS EMBEBIDOS EN FPGA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RECONFIGURACIÓN PARCIA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4 Marcador de pie de página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4 Marcador de número de diapositiva"/>
          <p:cNvSpPr/>
          <p:nvPr/>
        </p:nvSpPr>
        <p:spPr>
          <a:xfrm>
            <a:off x="611280" y="63770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4B7A-668A-42E4-B696-6B68FDBA4764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ISTEMAS EMBEBIDOS EN FPGA: SOFT PROCESSOR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VERSUS HARD PROCESSOR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6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393D-3B0A-4D15-8AAD-B4C1BC132539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Imagen 5" descr=""/>
          <p:cNvPicPr/>
          <p:nvPr/>
        </p:nvPicPr>
        <p:blipFill>
          <a:blip r:embed="rId1"/>
          <a:stretch/>
        </p:blipFill>
        <p:spPr>
          <a:xfrm>
            <a:off x="0" y="1162080"/>
            <a:ext cx="4537080" cy="3608280"/>
          </a:xfrm>
          <a:prstGeom prst="rect">
            <a:avLst/>
          </a:prstGeom>
          <a:ln w="0">
            <a:noFill/>
          </a:ln>
        </p:spPr>
      </p:pic>
      <p:pic>
        <p:nvPicPr>
          <p:cNvPr id="459" name="Imagen 10" descr=""/>
          <p:cNvPicPr/>
          <p:nvPr/>
        </p:nvPicPr>
        <p:blipFill>
          <a:blip r:embed="rId2"/>
          <a:stretch/>
        </p:blipFill>
        <p:spPr>
          <a:xfrm>
            <a:off x="4211640" y="2517840"/>
            <a:ext cx="476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CF52-FA06-4475-A879-FEF2617DC653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Imagen 5" descr=""/>
          <p:cNvPicPr/>
          <p:nvPr/>
        </p:nvPicPr>
        <p:blipFill>
          <a:blip r:embed="rId1"/>
          <a:stretch/>
        </p:blipFill>
        <p:spPr>
          <a:xfrm>
            <a:off x="1547640" y="419040"/>
            <a:ext cx="523584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FD3D-20F9-4B68-8922-39FEBB304A89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Imagen 5" descr=""/>
          <p:cNvPicPr/>
          <p:nvPr/>
        </p:nvPicPr>
        <p:blipFill>
          <a:blip r:embed="rId1"/>
          <a:stretch/>
        </p:blipFill>
        <p:spPr>
          <a:xfrm>
            <a:off x="304920" y="395280"/>
            <a:ext cx="853416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Marcador de contenido 6" descr=""/>
          <p:cNvPicPr/>
          <p:nvPr/>
        </p:nvPicPr>
        <p:blipFill>
          <a:blip r:embed="rId1"/>
          <a:stretch/>
        </p:blipFill>
        <p:spPr>
          <a:xfrm>
            <a:off x="1793880" y="4392720"/>
            <a:ext cx="5715000" cy="1857240"/>
          </a:xfrm>
          <a:prstGeom prst="rect">
            <a:avLst/>
          </a:prstGeom>
          <a:ln w="0">
            <a:noFill/>
          </a:ln>
        </p:spPr>
      </p:pic>
      <p:sp>
        <p:nvSpPr>
          <p:cNvPr id="471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185A-E692-4941-9BB6-7A380E232221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Imagen 5" descr=""/>
          <p:cNvPicPr/>
          <p:nvPr/>
        </p:nvPicPr>
        <p:blipFill>
          <a:blip r:embed="rId2"/>
          <a:stretch/>
        </p:blipFill>
        <p:spPr>
          <a:xfrm>
            <a:off x="31680" y="0"/>
            <a:ext cx="4619520" cy="4287960"/>
          </a:xfrm>
          <a:prstGeom prst="rect">
            <a:avLst/>
          </a:prstGeom>
          <a:ln w="0">
            <a:noFill/>
          </a:ln>
        </p:spPr>
      </p:pic>
      <p:pic>
        <p:nvPicPr>
          <p:cNvPr id="474" name="Imagen 7" descr=""/>
          <p:cNvPicPr/>
          <p:nvPr/>
        </p:nvPicPr>
        <p:blipFill>
          <a:blip r:embed="rId3"/>
          <a:srcRect l="11935" t="0" r="20859" b="0"/>
          <a:stretch/>
        </p:blipFill>
        <p:spPr>
          <a:xfrm>
            <a:off x="4932360" y="743040"/>
            <a:ext cx="4097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76" name="Marcador de contenido 5" descr=""/>
          <p:cNvPicPr/>
          <p:nvPr/>
        </p:nvPicPr>
        <p:blipFill>
          <a:blip r:embed="rId1"/>
          <a:stretch/>
        </p:blipFill>
        <p:spPr>
          <a:xfrm>
            <a:off x="457200" y="1373040"/>
            <a:ext cx="8229600" cy="4629240"/>
          </a:xfrm>
          <a:prstGeom prst="rect">
            <a:avLst/>
          </a:prstGeom>
          <a:ln w="0">
            <a:noFill/>
          </a:ln>
        </p:spPr>
      </p:pic>
      <p:sp>
        <p:nvSpPr>
          <p:cNvPr id="477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78EA-E379-439D-B792-9739E6642B84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Marcador de pie de página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Ing. Ronald Ponguillo Intri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Marcador de número de diapositiva 4"/>
          <p:cNvSpPr/>
          <p:nvPr/>
        </p:nvSpPr>
        <p:spPr>
          <a:xfrm>
            <a:off x="596880" y="6367320"/>
            <a:ext cx="19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2AE-7066-46EF-BD97-ACA0E92FFE6E}" type="slidenum">
              <a:rPr b="0" lang="es-EC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en 5" descr=""/>
          <p:cNvPicPr/>
          <p:nvPr/>
        </p:nvPicPr>
        <p:blipFill>
          <a:blip r:embed="rId1"/>
          <a:stretch/>
        </p:blipFill>
        <p:spPr>
          <a:xfrm>
            <a:off x="579600" y="1414440"/>
            <a:ext cx="80247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23:13:01Z</dcterms:created>
  <dc:creator>Ronald</dc:creator>
  <dc:description/>
  <dc:language>en-US</dc:language>
  <cp:lastModifiedBy>Ronald Alberto Ponguillo Intriago</cp:lastModifiedBy>
  <dcterms:modified xsi:type="dcterms:W3CDTF">2017-08-04T05:45:04Z</dcterms:modified>
  <cp:revision>268</cp:revision>
  <dc:subject/>
  <dc:title>Introducción a los Sistemas Digitales</dc:title>
</cp:coreProperties>
</file>