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70102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8440" y="3828600"/>
            <a:ext cx="70102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20520" y="159984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8440" y="382860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20520" y="382860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225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9040" y="1599840"/>
            <a:ext cx="225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69280" y="1599840"/>
            <a:ext cx="225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8440" y="3828600"/>
            <a:ext cx="225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9040" y="3828600"/>
            <a:ext cx="225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69280" y="3828600"/>
            <a:ext cx="225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8440" y="15998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3420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20520" y="1599840"/>
            <a:ext cx="3420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81080" y="1522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20520" y="1599840"/>
            <a:ext cx="3420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8440" y="382860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3420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20520" y="159984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20520" y="382860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20520" y="159984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8440" y="3828600"/>
            <a:ext cx="70102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383160" y="6134040"/>
            <a:ext cx="2756160" cy="7239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828440" y="15998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6019920"/>
          <a:ext cx="1752480" cy="56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6019920"/>
                    <a:ext cx="17524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875360" y="63244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5549-37CB-4167-B395-CBE3B2033D07}" type="slidenum">
              <a:rPr b="0" lang="en-US" sz="2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R.I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èmes et Réseaux Informa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filière SRI prépare l'ingénieur à la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conduite de proje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ans le domaine des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systèmes et des réseaux informatiqu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incipaux secteurs d’activité concerné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frastructure réseaux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frastructure des systèmes d’information d’entrepris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s réparti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cès distant aux données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via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réseaux informatiques, Internet et Intran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écurisation et administration des systèmes et des réseau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seignement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grammation des applications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seaux informatiques, Sécurité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lgorithmique et systèmes répart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16765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I : Enseignements spécif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623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88"/>
              </a:spcBef>
              <a:buClr>
                <a:srgbClr val="9933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Programmation des application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utils et technologies pour la programmation d'applications réparties au dessus des protocoles Internet : sockets, RPC, Java RMI, J2EE, CORBA... Technologies du we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88"/>
              </a:spcBef>
              <a:buClr>
                <a:srgbClr val="9933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Réseaux Inform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rchitectures des réseaux et des protocoles. Normalisation, modèle OSI. Réseaux locaux, interconnexions, réseaux sans fil. Protocoles de la famille Internet. Télécommunication et réseaux longue distance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88"/>
              </a:spcBef>
              <a:buClr>
                <a:srgbClr val="9933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lgorithmes et Systèmes Répart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ondements des systèmes répartis (ordonnancement d'actions, sauvegardes distribuées, exploration de réseaux, élection, terminaison, partage de ressources...), applications (données réparties, protocoles, synchronisation...), outils de développement (en atelier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88"/>
              </a:spcBef>
              <a:buClr>
                <a:srgbClr val="9933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écurité, Systèmes et Rése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rchitecture, déploiement, administration et sécurisation des systèmes informatiques: Linux, serveurs d'application, interconnexion de système,  ATM, backbones, routeurs, pare-feux, cryptographie, législation de la sécurité, méthodologies pour la sécurité, vulnérabilités, détection et analyse d'intrusion... Cours, conférences et ateliers par des spécialistes universitaires et industri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te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ravaux encadrés, projets sur la grappe de 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 algn="just">
              <a:lnSpc>
                <a:spcPct val="90000"/>
              </a:lnSpc>
              <a:spcBef>
                <a:spcPts val="300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ermet diverses configurations de réseaux et de systè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 algn="just">
              <a:lnSpc>
                <a:spcPct val="90000"/>
              </a:lnSpc>
              <a:spcBef>
                <a:spcPts val="300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s ateliers permettent d'introduire les principales technologies du doma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 algn="just">
              <a:lnSpc>
                <a:spcPct val="90000"/>
              </a:lnSpc>
              <a:spcBef>
                <a:spcPts val="300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'accent est mis sur le travail en équ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I : Conseil Pédag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rtenaires industr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Groupe CEGETEL, EDF, IBM, ITeam, Team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seil pédago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UTC 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. Bouabdallah, B. Ducourthial, J.M. Picard, M. Vayss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ntreprises 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h. Balladur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oupe CEGE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J.L. Bernaudin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N. Stampf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eam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. Heuret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nseignement supérieur 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. Hébuterne (I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0:28:50Z</dcterms:created>
  <dc:creator>Patrice Simard</dc:creator>
  <dc:description/>
  <dc:language>en-US</dc:language>
  <cp:lastModifiedBy>Abdelmadjid BOUABDALLAH</cp:lastModifiedBy>
  <dcterms:modified xsi:type="dcterms:W3CDTF">2005-06-19T17:10:06Z</dcterms:modified>
  <cp:revision>117</cp:revision>
  <dc:subject/>
  <dc:title>Student exchange Inatel-GI</dc:title>
</cp:coreProperties>
</file>