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Faith%20No%20More%20-%20I'm%20Easy%20(1993).wav" ContentType="audio/x-wav"/>
  <Override PartName="/ppt/media/image10.jpeg" ContentType="image/jpeg"/>
  <Override PartName="/ppt/media/image8.jpeg" ContentType="image/jpeg"/>
  <Override PartName="/ppt/media/image5.png" ContentType="image/png"/>
  <Override PartName="/ppt/media/image2.gif" ContentType="image/gif"/>
  <Override PartName="/ppt/media/image25.gif" ContentType="image/gif"/>
  <Override PartName="/ppt/media/image7.png" ContentType="image/png"/>
  <Override PartName="/ppt/media/image22.jpeg" ContentType="image/jpeg"/>
  <Override PartName="/ppt/media/image4.png" ContentType="image/png"/>
  <Override PartName="/ppt/media/image24.gif" ContentType="image/gif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6.png" ContentType="image/png"/>
  <Override PartName="/ppt/media/image1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DD62-30B8-4767-8873-BD12B59B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E7DE-28C6-4CF7-B29B-1566C05F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5867-CD7F-4412-8E9D-A0FE22F9D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8BCF-1179-4501-818A-4C1D1B33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1758-9A6F-432A-B78A-5BBC8481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53D0-8BFA-4212-B7B4-E1F11A0F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72B5-3204-48C0-909B-72F2A84C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AC5F-B3E2-4A14-9D48-B6D95267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8CD2-8C52-4BDE-BF97-61B06742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1441-78A8-4591-890F-65E8F084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5CB3-C219-4F29-895A-C1144EB7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E9FD-4EB1-4DF5-947D-CDAE73E2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Times New Roman"/>
                <a:ea typeface="Angsana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D657-2096-4234-AAF2-A04128446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audio" Target="../media/Faith%20No%20More%20-%20I&apos;m%20Easy%20(1993)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image" Target="../media/image25.gif"/><Relationship Id="rId7" Type="http://schemas.openxmlformats.org/officeDocument/2006/relationships/image" Target="../media/image25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71800" y="0"/>
            <a:ext cx="3249720" cy="46832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63640" y="602136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34040" y="6041880"/>
            <a:ext cx="42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ith No More - I'm Easy (199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619280" y="4724280"/>
            <a:ext cx="6019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die ogen ..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5000">
    <p:zoom dir="out"/>
    <p:sndAc>
      <p:stSnd>
        <p:snd r:embed="rId3" name="Faith%20No%20More%20-%20I'm%20Easy%20(1993)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5999040" cy="800100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39880" y="-838080"/>
            <a:ext cx="5108760" cy="769608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685800" y="-304920"/>
            <a:ext cx="11887200" cy="864720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458200" cy="807552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845820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7750440" cy="807732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1324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71600" y="-1219320"/>
            <a:ext cx="6269040" cy="807732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244440"/>
            <a:ext cx="9144000" cy="636732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66680" y="7920"/>
            <a:ext cx="7010640" cy="684216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4292640" cy="585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600200" y="5486400"/>
            <a:ext cx="6019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...die mond ..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5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22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ff"/>
                </a:solidFill>
                <a:latin typeface="Arial Black"/>
              </a:rPr>
              <a:t>… </a:t>
            </a:r>
            <a:r>
              <a:rPr b="0" lang="fr-FR" sz="3200" spc="-1" strike="noStrike">
                <a:solidFill>
                  <a:srgbClr val="ffccff"/>
                </a:solidFill>
                <a:latin typeface="Arial Black"/>
              </a:rPr>
              <a:t>en enkele mooie meisjes voor de man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3353040" cy="2651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724360" y="907920"/>
            <a:ext cx="2819520" cy="2667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059280" y="2492280"/>
            <a:ext cx="3132000" cy="3306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1629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0066"/>
                </a:solidFill>
                <a:latin typeface="Times New Roman"/>
              </a:rPr>
              <a:t>N °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350532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0066"/>
                </a:solidFill>
                <a:latin typeface="Times New Roman"/>
              </a:rPr>
              <a:t>N °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86200" y="3200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0066"/>
                </a:solidFill>
                <a:latin typeface="Times New Roman"/>
              </a:rPr>
              <a:t>N °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51280" y="1268280"/>
            <a:ext cx="1523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ff"/>
                </a:solidFill>
                <a:latin typeface="Arial Black"/>
              </a:rPr>
              <a:t>T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ff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advTm="5000"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50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5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500"/>
                            </p:stCondLst>
                            <p:childTnLst>
                              <p:par>
                                <p:cTn id="53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500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25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2701800" cy="5064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600200" y="5486400"/>
            <a:ext cx="6019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... die armen ..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5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468680" cy="4546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600200" y="5486400"/>
            <a:ext cx="6019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... die borstkast ..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5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2536560" cy="4410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600200" y="5486400"/>
            <a:ext cx="6019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... die dijen ..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5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14600" y="0"/>
            <a:ext cx="3902040" cy="3541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116000" y="3645000"/>
            <a:ext cx="6335640" cy="10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En dan wat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wij in huis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hebben 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25200" cy="813600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-19080"/>
            <a:ext cx="8381880" cy="774396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548480" cy="800100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5T21:58:24Z</dcterms:created>
  <dc:creator>www.free-powerpoints.goedbegin.be</dc:creator>
  <dc:description/>
  <dc:language>en-US</dc:language>
  <cp:lastModifiedBy>Smets</cp:lastModifiedBy>
  <dcterms:modified xsi:type="dcterms:W3CDTF">2010-01-21T19:49:23Z</dcterms:modified>
  <cp:revision>16</cp:revision>
  <dc:subject/>
  <dc:title>Dia 1</dc:title>
</cp:coreProperties>
</file>