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02C-5805-4664-8104-58028176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0B8-2477-41E5-98AA-B11E498A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2DF-B19B-4AE8-AB3C-114EDA5C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8F5-E41A-4B2D-A14B-1A1590C7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D0E-C9F1-43EE-8323-CF6D0DA4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1B5-2AD7-4A71-8F02-26833E7A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F7B-AF6B-4B2D-8140-CE8B0CDC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5E6-D25E-4F1F-A518-98A905FB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8E4-428B-4CBF-A30A-0DA7E364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8CE-AEDA-44C2-AB34-BC68FCF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E3A0-CE4D-445D-AE4C-4D5E2523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37E-7992-4A84-BA87-67EA5AB7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9B42-2D89-4C09-B920-1347BBFDA8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554" t="5382" r="2554" b="5497"/>
          <a:stretch/>
        </p:blipFill>
        <p:spPr>
          <a:xfrm>
            <a:off x="0" y="144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5950080"/>
            <a:ext cx="74268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486900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PLAN DE APADRINAMIENT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UELA DE FORMACIÓN PREAD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84360" y="404640"/>
            <a:ext cx="40449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JOGRAMAS DE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17800" y="1914480"/>
            <a:ext cx="115092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89080" y="2490840"/>
            <a:ext cx="1079640" cy="360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44720" y="3067200"/>
            <a:ext cx="1440000" cy="431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03640" y="3643200"/>
            <a:ext cx="865080" cy="43200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9080" y="4290840"/>
            <a:ext cx="1150920" cy="433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6360" y="4940280"/>
            <a:ext cx="576360" cy="57636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1773360"/>
            <a:ext cx="39610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tra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ceso predetermin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inuación del diagrama en otra h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816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TIL PARA LA ELABORACIÓN DE PROCED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S DE ENTRAD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SAL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8686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29080" y="2779560"/>
            <a:ext cx="208908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al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33440" y="28875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33440" y="32241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32000" y="35607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32000" y="38973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2520" y="2708280"/>
            <a:ext cx="18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Productos quím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6280" y="306864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Agua tra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6080" y="342756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0560" y="377208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Combus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61080" y="28875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61080" y="322272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59280" y="355932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59280" y="38955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05600" y="270828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6640" y="3710160"/>
            <a:ext cx="154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Contaminació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al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al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al su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03080" y="30607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Ru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04520" y="3405240"/>
            <a:ext cx="6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Verdana"/>
              </a:rPr>
              <a:t>C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028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ICACIÓN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TRADAS Y SAL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66100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do de Cecode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198900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2997360"/>
            <a:ext cx="1800360" cy="1871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4869000"/>
            <a:ext cx="0" cy="576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637000"/>
            <a:ext cx="1944360" cy="1655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2"/>
          </p:cNvCxnSpPr>
          <p:nvPr/>
        </p:nvCxnSpPr>
        <p:spPr>
          <a:xfrm flipH="1" rot="16200000">
            <a:off x="1519920" y="4084920"/>
            <a:ext cx="561240" cy="1007280"/>
          </a:xfrm>
          <a:prstGeom prst="bentConnector2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6300720" y="5445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O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58136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408120" y="2620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08480" y="29692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33440" y="28875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280" y="270828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Productos quím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33440" y="32241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32000" y="35607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32000" y="38973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54800" y="306864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Agua tra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60160" y="34275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94760" y="37720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Combus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61080" y="288756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61080" y="3222720"/>
            <a:ext cx="122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59280" y="355932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59280" y="389556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60320" y="270828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Vap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00000" y="3710160"/>
            <a:ext cx="123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Contaminació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al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al a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al su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55640" y="30607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Ru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50960" y="34052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 Narrow"/>
              </a:rPr>
              <a:t>Ca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4760" y="32821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Kw-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2800" y="3616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30200" y="26344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50360" y="29948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45320" y="3329640"/>
            <a:ext cx="5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0200" y="40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EDICIÓN -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465300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. Cecode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013360"/>
            <a:ext cx="54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registro y análisis de indicadores permite verificar la eficiencia del proceso, para identificar oportunidades de mejo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CIÓN DE ASPECTOS E IMPA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ONES ISO 14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ECTO AMBIENT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mento de las actividades, producto o servicios  de la organización que pueden generar un impacto en el  medio ambiente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O AMBIENTAL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io en el medio ambiente como resultado del aspecto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76720" y="2924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Generación de bas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26828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2133720"/>
            <a:ext cx="7272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o de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o de energía eléct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o de vap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ción de residuos No peligr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ción de residuos Peligr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isión de vapores  (M. Primas o P. termi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ble derrame (M. Primas o P. termi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59280" y="646128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Comic Sans MS"/>
              </a:rPr>
              <a:t>Ing. L.C.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ASPE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2421000"/>
            <a:ext cx="78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Elaborar el diagrama de flujo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924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386064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4720" y="558792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479592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8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Identificar las entradas y salidas que son aspecto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422100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Elaborar el listado de aspecto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132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Para cada aspecto identificar los impactos e incluirlos en el li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580536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ahoma"/>
              </a:rPr>
              <a:t>Priorizar los aspectos e impa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40464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SOS A SEGUIR PARA LA IDENTIFICACIÒN DE ASPE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ÁLISIS DE ENTRADAS 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IDAS Vs IDENTIFICACIÓN DE ASPE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7920000" cy="3699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8360" y="2205000"/>
            <a:ext cx="4174920" cy="36828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205000"/>
            <a:ext cx="3816360" cy="36828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A            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ORIZACIÓN DE ASPECTOS AMBIENTALES SIGNIFIC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spectos e impactos identificados son priorizados mediante un MATRIZ DE EVALUACIÓN DE IMPACTOS DE LEOP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= S x F x L x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: Severidad (Daño reversible o irrever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: Frecuencia (Diaria, mensual, an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: Requisitos Legales (Existencia de normatividad vi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: Partes interesadas (Afectación a comunidad, proveedore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APADRI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omisos de empresas PADRINO frente al apadrina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los documentos elaborados por la empresa apadrinada como resultado de los compromisos de las sesiones de formación, excepto la 7 y la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r la experiencia de la empresa respecto al tema que se elija del programa de capaci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inistrar las memorias de la presentación realizada y los documentos adicionales que se consideren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yar la consolidación del informe de postulación de la empresa apadri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stir al 90% de los tall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r los documentos solicitados como compromiso durante las capacit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ucturar un preinforme de postulación, con el fin de postularse al PREAD el año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r con la empresa padrino el desarrollo de reuniones periódicas para desarrollar el apadri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MPROMISO DE EMPRESAS APADRIN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DIRECTORIO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diante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ublic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l ECODIRECTORIO EMPRESARIAL, se busca proporcionar un documento guía que permita a los consumidores y a las mismas empresas, diferenciar aquellas que se destacan por su responsabilidad ambien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DIRECTORIO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empresas no deben tener medidas preventivas de suspensión de actividades o procesos sancionatorios vigentes con la S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plir con la normatividad ambiental vi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er implementado durante un año como mínimo, tres o más de  los siguientes aspec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ERIOS DE SE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72904"/>
          <a:stretch/>
        </p:blipFill>
        <p:spPr>
          <a:xfrm>
            <a:off x="0" y="1843200"/>
            <a:ext cx="91440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554" t="5382" r="2554" b="5497"/>
          <a:stretch/>
        </p:blipFill>
        <p:spPr>
          <a:xfrm>
            <a:off x="0" y="144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5950080"/>
            <a:ext cx="742680" cy="790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486900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ASPECTOS AMBIENTALES SIGNIFICATIV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UELA DE FORMACIÓN PREAD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484360" y="404640"/>
            <a:ext cx="40449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CLO DE VIDA D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29600" cy="45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35280" y="10526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O 14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628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L ES EL LIMITE DE SISTEM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A DE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60436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estra la secuencia de pasos (Procesos y Subprocesos) y ciclos para obtener un resul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agrama de Bloq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agrama de Flujo del Proces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342900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42900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6" idx="3"/>
            <a:endCxn id="69" idx="1"/>
          </p:cNvCxnSpPr>
          <p:nvPr/>
        </p:nvCxnSpPr>
        <p:spPr>
          <a:xfrm>
            <a:off x="2266560" y="375264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9" idx="3"/>
            <a:endCxn id="67" idx="1"/>
          </p:cNvCxnSpPr>
          <p:nvPr/>
        </p:nvCxnSpPr>
        <p:spPr>
          <a:xfrm>
            <a:off x="4067280" y="375264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3"/>
            <a:endCxn id="68" idx="1"/>
          </p:cNvCxnSpPr>
          <p:nvPr/>
        </p:nvCxnSpPr>
        <p:spPr>
          <a:xfrm>
            <a:off x="5796000" y="375264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1042920" y="558972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58972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558972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558972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2268000" y="594792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6" idx="3"/>
            <a:endCxn id="74" idx="1"/>
          </p:cNvCxnSpPr>
          <p:nvPr/>
        </p:nvCxnSpPr>
        <p:spPr>
          <a:xfrm>
            <a:off x="4067280" y="5913000"/>
            <a:ext cx="505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4" idx="3"/>
            <a:endCxn id="75" idx="1"/>
          </p:cNvCxnSpPr>
          <p:nvPr/>
        </p:nvCxnSpPr>
        <p:spPr>
          <a:xfrm>
            <a:off x="5796000" y="5913000"/>
            <a:ext cx="505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11280" y="573264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594828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609300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5600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200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229360"/>
            <a:ext cx="0" cy="3585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573264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594828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609300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5732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594828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609300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3080" y="5732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594828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53080" y="609300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80360" y="5732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94828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609300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44720" y="5732640"/>
            <a:ext cx="43200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4720" y="5948280"/>
            <a:ext cx="43200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4720" y="6093000"/>
            <a:ext cx="43200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5080" y="573264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594828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5080" y="609300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73264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94828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6093000"/>
            <a:ext cx="431640" cy="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22:01:47Z</dcterms:created>
  <dc:creator>selcomp</dc:creator>
  <dc:description/>
  <dc:language>en-US</dc:language>
  <cp:lastModifiedBy>selcomp</cp:lastModifiedBy>
  <dcterms:modified xsi:type="dcterms:W3CDTF">2008-03-26T21:02:01Z</dcterms:modified>
  <cp:revision>3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2617085</vt:r8>
  </property>
  <property fmtid="{D5CDD505-2E9C-101B-9397-08002B2CF9AE}" pid="3" name="_AuthorEmail">
    <vt:lpwstr>NADROJ@dominio.local</vt:lpwstr>
  </property>
  <property fmtid="{D5CDD505-2E9C-101B-9397-08002B2CF9AE}" pid="4" name="_AuthorEmailDisplayName">
    <vt:lpwstr>NADIA YADINE ROJAS</vt:lpwstr>
  </property>
  <property fmtid="{D5CDD505-2E9C-101B-9397-08002B2CF9AE}" pid="5" name="_EmailSubject">
    <vt:lpwstr>WEB PREAD</vt:lpwstr>
  </property>
</Properties>
</file>