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EF7-8B88-4666-AB9E-3330877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C22-E042-4C6B-AEEC-CEE7828E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A11-C2F1-4694-9FB7-378051A5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223-135C-4660-AA12-2DB3C249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6A2-24CD-4F87-8DCE-95FE5EF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412-B0CD-42D6-A2AB-BA70A32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FDE-EE3B-4546-8CFA-1B01E7A8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7EA-CED1-4BF0-ABCD-FCE8B94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528-5495-4ADC-81CA-BB458B91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D57-93AE-4A17-83C4-0BB73B8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721-F333-4F6A-8330-B2C1DA3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EEF-BE51-4D64-A69B-8C24364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5AE-3C15-4AB5-8777-8867BECCE4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554" t="5382" r="2554" b="5497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74268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486900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PLAN DE APADRINA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UELA DE FORMACIÓN PREA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84360" y="404640"/>
            <a:ext cx="4044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JOGRAMAS DE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7800" y="1914480"/>
            <a:ext cx="115092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89080" y="2490840"/>
            <a:ext cx="1079640" cy="360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44720" y="3067200"/>
            <a:ext cx="1440000" cy="431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03640" y="3643200"/>
            <a:ext cx="865080" cy="4320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9080" y="4290840"/>
            <a:ext cx="1150920" cy="433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6360" y="4940280"/>
            <a:ext cx="576360" cy="5763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773360"/>
            <a:ext cx="3961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ra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o predetermin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ación del diagrama en otra h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816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TIL PARA LA ELABORACIÓN DE PROCED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S DE ENTRAD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SA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9080" y="2779560"/>
            <a:ext cx="208908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l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33440" y="2887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33440" y="32241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32000" y="35607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2000" y="38973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2520" y="270828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Productos quím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6280" y="306864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gua tra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6080" y="342756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0560" y="37720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ombus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61080" y="28875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61080" y="322272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55932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895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05600" y="27082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6640" y="3710160"/>
            <a:ext cx="154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ontaminació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su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03080" y="30607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R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04520" y="3405240"/>
            <a:ext cx="6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02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ICACIÓ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RADAS Y SA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661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do de Cecode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1989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2997360"/>
            <a:ext cx="1800360" cy="1871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4869000"/>
            <a:ext cx="0" cy="576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637000"/>
            <a:ext cx="194436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2"/>
          </p:cNvCxnSpPr>
          <p:nvPr/>
        </p:nvCxnSpPr>
        <p:spPr>
          <a:xfrm flipH="1" rot="16200000">
            <a:off x="1519920" y="4084920"/>
            <a:ext cx="561240" cy="100728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6300720" y="544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O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581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408120" y="2620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08480" y="29692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3440" y="2887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280" y="270828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Productos quím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33440" y="32241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32000" y="35607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32000" y="38973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4800" y="30686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gua tra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60160" y="34275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4760" y="3772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ombus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61080" y="28875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61080" y="322272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59280" y="355932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59280" y="3895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60320" y="270828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00000" y="3710160"/>
            <a:ext cx="123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ontaminació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su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5640" y="30607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R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50960" y="34052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4760" y="3282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w-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2800" y="3616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0200" y="2634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50360" y="2994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33296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0200" y="40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DICIÓN -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653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. Cecode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01336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registro y análisis de indicadores permite verificar la eficiencia del proceso, para identificar oportunidades de mejo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CIÓN DE ASPECTOS E IMPA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ONES ISO 14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 AMBIENT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o de las actividades, producto o servicios  de la organización que pueden generar un impacto en el  medio ambient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O AMBIENT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o en el medio ambiente como resultado del aspecto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76720" y="2924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Generación de bas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133720"/>
            <a:ext cx="7272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energía eléc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vap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residuos No peligr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residuos Peligr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sión de vapores  (M. Primas o P. termi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derrame (M. Primas o P. termi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59280" y="646128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Comic Sans MS"/>
              </a:rPr>
              <a:t>Ing. L.C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2421000"/>
            <a:ext cx="78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Elaborar el diagrama de flujo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92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3860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5587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4795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Identificar las entradas y salidas que son aspecto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2210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Elaborar el listado de aspecto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132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Para cada aspecto identificar los impactos e incluirlos en el li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58053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Priorizar los aspectos e im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40464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OS A SEGUIR PARA LA IDENTIFICACIÒN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ÁLISIS DE ENTRADAS 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IDAS Vs IDENTIFICACIÓN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20000" cy="369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2205000"/>
            <a:ext cx="4174920" cy="3682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205000"/>
            <a:ext cx="3816360" cy="3682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           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IZACIÓN DE ASPECTOS AMBIENTALE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e impactos identificados son priorizados mediante un MATRIZ DE EVALUACIÓN DE IMPACTOS DE LEOP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= S x F x L x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: Severidad (Daño reversible o ir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: Frecuencia (Diaria, mensual, an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: Requisitos Legales (Existencia de normatividad v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: Partes interesadas (Afectación a comunidad, proveedore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PADRI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os de empresas PADRINO frente al apadrin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los documentos elaborados por la empresa apadrinada como resultado de los compromisos de las sesiones de formación, excepto la 7 y la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r la experiencia de la empresa respecto al tema que se elija del programa de capac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inistrar las memorias de la presentación realizada y los documentos adicionales que se consideren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yar la consolidación del informe de postulación de la empresa apadr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stir al 90% de los tall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r los documentos solicitados como compromiso durante las capaci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ucturar un preinforme de postulación, con el fin de postularse al PREAD el año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r con la empresa padrino el desarrollo de reuniones periódicas para desarrollar el apadri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MPROMISO DE EMPRESAS APADRIN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DIRECTORI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blic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l ECODIRECTORIO EMPRESARIAL, se busca proporcionar un documento guía que permita a los consumidores y a las mismas empresas, diferenciar aquellas que se destacan por su responsabilidad ambien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DIRECTORI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mpresas no deben tener medidas preventivas de suspensión de actividades o procesos sancionatorios vigentes con la S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plir con la normatividad ambiental vi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er implementado durante un año como mínimo, tres o más de  los siguientes asp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DE SE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72904"/>
          <a:stretch/>
        </p:blipFill>
        <p:spPr>
          <a:xfrm>
            <a:off x="0" y="1843200"/>
            <a:ext cx="9144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554" t="5382" r="2554" b="5497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742680" cy="790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486900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ASPECTOS AMBIENTALES SIGNIFICATIV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UELA DE FORMACIÓN PREA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84360" y="404640"/>
            <a:ext cx="4044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5280" y="10526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14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 ES EL LIMITE DE SISTEM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A DE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604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estra la secuencia de pasos (Procesos y Subprocesos) y ciclos para obtener un resul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agrama de Blo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agrama de Flujo del Proces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3"/>
            <a:endCxn id="69" idx="1"/>
          </p:cNvCxnSpPr>
          <p:nvPr/>
        </p:nvCxnSpPr>
        <p:spPr>
          <a:xfrm>
            <a:off x="2266560" y="375264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3"/>
            <a:endCxn id="67" idx="1"/>
          </p:cNvCxnSpPr>
          <p:nvPr/>
        </p:nvCxnSpPr>
        <p:spPr>
          <a:xfrm>
            <a:off x="4067280" y="3752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3"/>
            <a:endCxn id="68" idx="1"/>
          </p:cNvCxnSpPr>
          <p:nvPr/>
        </p:nvCxnSpPr>
        <p:spPr>
          <a:xfrm>
            <a:off x="5796000" y="3752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04292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2268000" y="59479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6" idx="3"/>
            <a:endCxn id="74" idx="1"/>
          </p:cNvCxnSpPr>
          <p:nvPr/>
        </p:nvCxnSpPr>
        <p:spPr>
          <a:xfrm>
            <a:off x="4067280" y="591300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4" idx="3"/>
            <a:endCxn id="75" idx="1"/>
          </p:cNvCxnSpPr>
          <p:nvPr/>
        </p:nvCxnSpPr>
        <p:spPr>
          <a:xfrm>
            <a:off x="5796000" y="591300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1128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6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2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573264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5948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609300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308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4720" y="573264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4720" y="594828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4720" y="609300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508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508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2:01:47Z</dcterms:created>
  <dc:creator>selcomp</dc:creator>
  <dc:description/>
  <dc:language>en-US</dc:language>
  <cp:lastModifiedBy>selcomp</cp:lastModifiedBy>
  <dcterms:modified xsi:type="dcterms:W3CDTF">2008-03-26T21:02:01Z</dcterms:modified>
  <cp:revision>3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2617085</vt:r8>
  </property>
  <property fmtid="{D5CDD505-2E9C-101B-9397-08002B2CF9AE}" pid="3" name="_AuthorEmail">
    <vt:lpwstr>NADROJ@dominio.local</vt:lpwstr>
  </property>
  <property fmtid="{D5CDD505-2E9C-101B-9397-08002B2CF9AE}" pid="4" name="_AuthorEmailDisplayName">
    <vt:lpwstr>NADIA YADINE ROJAS</vt:lpwstr>
  </property>
  <property fmtid="{D5CDD505-2E9C-101B-9397-08002B2CF9AE}" pid="5" name="_EmailSubject">
    <vt:lpwstr>WEB PREAD</vt:lpwstr>
  </property>
</Properties>
</file>