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6.png" ContentType="image/png"/>
  <Override PartName="/ppt/media/image30.jpeg" ContentType="image/jpeg"/>
  <Override PartName="/ppt/media/image4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8.gif" ContentType="image/gif"/>
  <Override PartName="/ppt/media/image7.jpeg" ContentType="image/jpeg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0A9-0D2C-45DA-A9F6-E9D79A5A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71E1-428B-47B8-835E-CB42C7FA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5B5F-2455-4AB3-AD49-51A67839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6B0-3A9C-4EAE-8C64-BEF322E3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4631-6533-4D82-AB64-309C9020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35CB-250F-4081-A165-614C7B9D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E2B-EDFE-4032-984C-8D3DBF17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9D01-A7B0-4506-A7D3-CB665DA5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D56-4D8C-4E3A-841E-3CC5E934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0EB2-1941-4C69-ADA7-4205ADDD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2208-3698-41EC-8632-EE257435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6AB1-4BBE-4E49-B037-021F26FB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EF74-A628-4364-B62F-BA99855CF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gif"/><Relationship Id="rId3" Type="http://schemas.openxmlformats.org/officeDocument/2006/relationships/image" Target="../media/image4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143000"/>
            <a:ext cx="914400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FifthAve"/>
              </a:rPr>
              <a:t>SHUTTLE PROCESS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FifthAve"/>
              </a:rPr>
              <a:t>(Before Flight Activities Rarely Seen           By The General Publ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1911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FifthAve"/>
              </a:rPr>
              <a:t>DISCOVER --- DISCOVE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17622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ting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906560"/>
            <a:ext cx="20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id R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9150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2050920"/>
            <a:ext cx="1979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tach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5867280"/>
            <a:ext cx="8209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s Are Attached To The Shuttle In The Shuttle Processin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2498" t="0" r="500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14600" y="62406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In Sling Ready For Lift In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09480"/>
            <a:ext cx="277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Has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ved To VAB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Will Be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External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5661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 Arrives by Barge from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4665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is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969840"/>
            <a:ext cx="234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Preparation Room (P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40360" y="2276640"/>
            <a:ext cx="3671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go Package For 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195640" y="3213000"/>
            <a:ext cx="3671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Module For 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4593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77080" y="969840"/>
            <a:ext cx="22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Ready To Be Moved to The Launch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4593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538200"/>
            <a:ext cx="22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Carrier Leaves P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18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92360" y="5146560"/>
            <a:ext cx="4248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Being Moved To Launch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825480"/>
            <a:ext cx="21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ting Payload   Into Position For  Insertion Into  Discovery When  It Arrives At The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76360" y="61545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Discovery Leaves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5529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82548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&amp; Craw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49092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unch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371628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2338560"/>
            <a:ext cx="21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ngth--- 3 ½ 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-- 6-8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56516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tical Assembl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46418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95640" y="39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awl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82548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OVERY ARRIVES        AT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4356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9280" y="6825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DY FOR   LA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297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Have Lift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96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340000" y="602136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30200"/>
            <a:ext cx="23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64422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 Enters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440" y="404640"/>
            <a:ext cx="9145440" cy="6078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63640" y="61545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 in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6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68360" y="59389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paring to Lift the Tank to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5:20:35Z</dcterms:created>
  <dc:creator>zxmulassy050</dc:creator>
  <dc:description/>
  <dc:language>en-US</dc:language>
  <cp:lastModifiedBy>Smets</cp:lastModifiedBy>
  <dcterms:modified xsi:type="dcterms:W3CDTF">2009-01-16T19:08:11Z</dcterms:modified>
  <cp:revision>30</cp:revision>
  <dc:subject/>
  <dc:title>Diapositive 1</dc:title>
</cp:coreProperties>
</file>