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7.png" ContentType="image/png"/>
  <Override PartName="/ppt/media/image33.jpeg" ContentType="image/jpeg"/>
  <Override PartName="/ppt/media/image24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15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1967-757D-4082-9B88-1ED27AD4B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DE32-CBE6-412F-B121-A93D65AC3B8C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maller-sized file version lacks the photographic reviews of fungal diversity and only has the “main”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C5DB-29FD-4F8B-808F-E35805619706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probic fungi absorb nutrients from nonliv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sitic fungi absorb nutrients from the cells of living h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arasitic fungi, including some that infect humans and plants, are pathogen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ualistic fungi also absorb nutrients from a host organism, but they reciprocate with functions that benefit their partner in som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6467-09B9-40E1-8581-7DCD594C2194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tudies indicate that animals, not plants, are the closest relatives of fung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Animals and Fungi are related most closely to a group of Protists known as the choanoflagellates (collar flagella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dom began in ocean during Precambrian (Late Proterozoic e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100,000 species of fungi are known and mycologists estimate that there are actually about 1.5 million species worldw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DA3E-6710-4C0C-8EDD-EB451FCD5714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a of fungi are determ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otility of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ature of sexua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 moved onto land with the plants in the Early Paleozo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evolution of fungi was in conjunction with the evolution of plants and plant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when roots evolved, fungi were there and helped (mycorrhiz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od evolved, fungi evolved to take advantage of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volutionary changes related to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84EC-5DB8-494B-A64D-45DBEAA741F4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in CMR as true fungi (because of their molecular relationshi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 of the phyla are almost exclusively terrestrial (a  few molds on wet plant materi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66CD-D1D3-4591-B2D0-D2EC9DCDABF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600 zygomycote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ygote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re terrestrial, living in soil or on decaying plant and animal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 in sporan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zygomycote group for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ycorrhiza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mutualistic associations with the roots of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B973-2301-4C78-A501-64EC5D32521C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ologists have described over 60,000 species of ascomycetes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c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comycota tend to grow from spore to spore in one year and relate well to living 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diverse form in the growth and fruiting structures – yeasts to morels, many intermediate (and sm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 by conidia (externally produced, not in sporang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Ascomycota form lichens (evolved 8 or more times in different orders) but not all lichens are Ascomyc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BD57-18E1-49F7-B800-3D2043966648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gins the first of several photographic reviews of fungal diversity.  Enjoy the pictures and try and get a feeling of some of the different forms these fungi take and their roles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7EE6-6FAF-4328-8629-CD271D520DD7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spores coni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logically important on wood as decomposers and para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the mushrooms form mycorrhi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B393-0F8F-43C5-8C87-226511F8BB8C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follows a photographic review of Basidiomycote d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artistic diversion, try Taylor Lockwood’s web site.  I recommend that you sample Myco-Myst.  Click on the underlined text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FFE4-EDE4-4F18-9B9D-43CF36D4D39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ts are Basidiomycote plant parasites with, often, very complex life cycles that alternate between two different plant hosts.  They can produce up to 5 different types of spores and cause considerable damage, particularly to economically important plant hosts that are non-nat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02CF-FECE-4372-A8A5-ED19046E3DE5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and wine yeast, the budding yeast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accharomy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ly cultured.  For a time, this was the most important organism for studying the molecular genetics of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accharomy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rguably the most important organism known to 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andid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uses diseases of humans, usually experiencing chemical imbalance or immun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89A5-6980-4A1B-89A6-8D8C9DFE2506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east is isolated from palm wine (fermented sap of the oil palm in West Afr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it is forming 8-spored asci (“octospora”) – an indication that it is an Ascomyc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56A2-4D4A-4C4D-BF16-B74E88FCA6B4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rapidly growing, asexually reproducing fung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lia of these fungi grow as saprobes or parasites on a variety of subst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used in foods (Blue cheese, Tempeh) and in industrial production of 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life, a mold, a term that applies properly only to the asexual stage, produces asexual sp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, the same fungu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produce sexually, producing zygosporangia, ascocarps, or basidioca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ds go through a “fake sex” 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ECDB-AAA0-4792-8240-1729AD469BBF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mushroom-forming fungi (basidiomycota) form mycorrhizas with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think that the spongy tissue in roots evolved as a place where fungi could invade to form early links with plants that helped them survive the harsh life on early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24DA-7858-4681-895C-8810C57BFD25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f the regions where mycorrhizas are found are circ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“ecto” because the hyphae remain outside the root cells (though they extend inside the ro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C514-D136-422F-8A3C-4D23249A0C97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lus is a plant-like body that doesn’t have roots, stems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llus doesn’t look like either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nature of thalli was not fully understood until early 190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us gives the name to the lichen (by agre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us usually, but not always, an Ascomycote (in 8+ independent ord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 green.  If bluegreen bacteria present, lichens fix nitrogen (turn atmospheric nitrogen into amino acid nitrogen in protei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4A94-21DE-4ECF-AB46-7CDD3654465C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lichen symbiosis is may also be described as mutual exploitation instead of mutual benef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chens live in environments where neither fungi nor algae could live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fungi do not not grow alone in the wild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but not all) lichen algae occur as free-liv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ultured separately, the fungi do not produce lichen compounds and the algae do not “leak” carbohydrate from thei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lichens, the fungus invades algal cells with haustoria and kills some of them, but not as fast as the algae replenish its numbers by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obaria orega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efers old-growth conifer canopies in forests with clean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87E5-E981-4615-8154-EEBA83771C0D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for sulfur and heavy metals in resistant species shows levels relative to levels in the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989A-0E23-4570-8D85-59AEC1F96A31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tin is the same material used by Arthropods (Insects, crabs, etc.) in their exoskeleton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of fungi are hard to see without s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3E0A-AC21-4F02-A636-9B7FC22E8C6B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nzyme release (and absorption) at t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s and other materials synthesized by the entire mycelium are channeled by cytoplasmic streaming to the tips of the extending hypha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739F-178C-4BB1-9442-F7ADBD4BD225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 reproduce by releasing spores that are produced either sexually or asex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put of spores from one reproductive structure is enormous, with the number reaching into the trill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ed widely by wind or water, spores germinate to produce mycelia if they land in a moist place where there is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2550-6BDD-49AB-A38E-43072EC7C91A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al mycelia can be huge, but they usually escape notice because they are subterran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iant individual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rmillar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stoya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Oregon is 3.4 miles in diameter and covers 2,200 acres of fores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t least 2,400 years old, and weighs hundreds of 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tually noone has seen this of this extent – but cultures have been taken from soil over that area and all isolates have been found to be the same individu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 cubic centimeters of rich organic soil may have fungal hyphae with a surface area of over 300 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dd4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247"/>
                </a:solidFill>
                <a:latin typeface="Times New Roman"/>
              </a:rPr>
              <a:t>Kingdom Fungi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4190760"/>
            <a:ext cx="3048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247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247"/>
                </a:solidFill>
                <a:latin typeface="Times New Roman"/>
              </a:rPr>
              <a:t>The characteristics of fungi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247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247"/>
                </a:solidFill>
                <a:latin typeface="Times New Roman"/>
              </a:rPr>
              <a:t>The evolution of the fungi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247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247"/>
                </a:solidFill>
                <a:latin typeface="Times New Roman"/>
              </a:rPr>
              <a:t>Fungal classificatio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247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247"/>
                </a:solidFill>
                <a:latin typeface="Times New Roman"/>
              </a:rPr>
              <a:t>Fungal life styl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416400" y="6553080"/>
            <a:ext cx="57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247"/>
                </a:solidFill>
                <a:latin typeface="Times New Roman"/>
              </a:rPr>
              <a:t>All photographsin this presentation </a:t>
            </a:r>
            <a:r>
              <a:rPr b="0" lang="en-US" sz="1400" spc="-1" strike="noStrike">
                <a:solidFill>
                  <a:srgbClr val="ffc247"/>
                </a:solidFill>
                <a:latin typeface="Times New Roman"/>
                <a:ea typeface="Times New Roman"/>
              </a:rPr>
              <a:t>© Pearson Education or Fred M. Rhoades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Fungal Ecology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aprob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Decomposer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ostly of plants, some animal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arasit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Harm host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ostly on plants, some animal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utualist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Lichen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ycorrhiza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hoanoflagellate Sphaeroeca"/>
          <p:cNvPicPr/>
          <p:nvPr/>
        </p:nvPicPr>
        <p:blipFill>
          <a:blip r:embed="rId2"/>
          <a:stretch/>
        </p:blipFill>
        <p:spPr>
          <a:xfrm>
            <a:off x="7620120" y="3657600"/>
            <a:ext cx="1247760" cy="1447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7697520" y="60958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g 28.8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066680" y="47242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imes New Roman"/>
              </a:rPr>
              <a:t>Evolution of the fungi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7620120" y="0"/>
            <a:ext cx="533160" cy="533520"/>
          </a:xfrm>
          <a:prstGeom prst="pie">
            <a:avLst/>
          </a:prstGeom>
          <a:solidFill>
            <a:srgbClr val="ff0000"/>
          </a:solidFill>
          <a:ln w="349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6019920" y="51055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</a:rPr>
              <a:t>Classification &amp; Phylogeny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09480" y="5181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tile spor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133720" y="43434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zygosporang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105520" y="3809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sci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477120" y="4038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basid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6615000" y="6213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g 31.4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Chytridiomycota – “chytrids”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imple fung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Produce motile spor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ostly saprobes and parasites in aquatic habitat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ould just as well be Protist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9" name="Picture 7" descr="31-05A-CHYTRID Rot"/>
          <p:cNvPicPr/>
          <p:nvPr/>
        </p:nvPicPr>
        <p:blipFill>
          <a:blip r:embed="rId1"/>
          <a:stretch/>
        </p:blipFill>
        <p:spPr>
          <a:xfrm>
            <a:off x="5105520" y="1219320"/>
            <a:ext cx="3562200" cy="4800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4714200" y="6172200"/>
            <a:ext cx="42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ig 31.5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 Chytridium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growing on spor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Zygomycota – “zygote fungi”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41911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x - zygosporangi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sex - commo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Hyphae have no cross wall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Grow rapidly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ycorrhiza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3" name="Picture 4" descr="31-06-Rhizophus"/>
          <p:cNvPicPr/>
          <p:nvPr/>
        </p:nvPicPr>
        <p:blipFill>
          <a:blip r:embed="rId1"/>
          <a:stretch/>
        </p:blipFill>
        <p:spPr>
          <a:xfrm>
            <a:off x="4648320" y="1295280"/>
            <a:ext cx="4190760" cy="2776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867920" y="4191120"/>
            <a:ext cx="36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ig 31.6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Rhizopus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on strawberri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4952880" y="533412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imes New Roman"/>
              </a:rPr>
              <a:t>Fig 31.7 Life cycle of </a:t>
            </a:r>
            <a:r>
              <a:rPr b="0" i="1" lang="en-US" sz="2400" spc="-1" strike="noStrike">
                <a:solidFill>
                  <a:srgbClr val="990099"/>
                </a:solidFill>
                <a:latin typeface="Times New Roman"/>
              </a:rPr>
              <a:t>Rhizopu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You are not responsible for this life cycle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Life cycle is predominantly haploid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28600" y="35053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sexual sporangium with spores insid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Line 6"/>
          <p:cNvSpPr/>
          <p:nvPr/>
        </p:nvSpPr>
        <p:spPr>
          <a:xfrm flipH="1">
            <a:off x="1447920" y="4114800"/>
            <a:ext cx="91440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172200" y="20574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exual zygsporangium with one zygospor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 flipV="1">
            <a:off x="7467480" y="1294920"/>
            <a:ext cx="304920" cy="838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Ascomycota – “sac fungi”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x. – asc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sex. – commo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up fungi, morels, truffl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Important plant parasites &amp; saprob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Yeast -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</a:rPr>
              <a:t> Saccharomyc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ost lichen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2" name="Picture 4" descr="31-10x1b-DevelopingAsci"/>
          <p:cNvPicPr/>
          <p:nvPr/>
        </p:nvPicPr>
        <p:blipFill>
          <a:blip r:embed="rId1"/>
          <a:stretch/>
        </p:blipFill>
        <p:spPr>
          <a:xfrm>
            <a:off x="4648320" y="14479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4339800" y="5638680"/>
            <a:ext cx="44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 cluster of asci with spores insid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46483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Sac fungi diversity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ote general comments about habitats and rol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njoy looking at some amazing organism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s smaller-sized PPT file lacks  diversity slid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6" name="Picture 8" descr="Morel wanted poster Kodach Sep86-36"/>
          <p:cNvPicPr/>
          <p:nvPr/>
        </p:nvPicPr>
        <p:blipFill>
          <a:blip r:embed="rId1"/>
          <a:stretch/>
        </p:blipFill>
        <p:spPr>
          <a:xfrm>
            <a:off x="4800600" y="304920"/>
            <a:ext cx="41734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Basidiomycota – “club fungi”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x – basidi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sex – not so commo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Long-lived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dikaryotic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myceli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Rusts &amp; smuts – primitive plant parasit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ushrooms, polypores, puffball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nzymes decompose wood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ycorrhiza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49" name="Picture 4" descr="hymenium7"/>
          <p:cNvPicPr/>
          <p:nvPr/>
        </p:nvPicPr>
        <p:blipFill>
          <a:blip r:embed="rId1"/>
          <a:stretch/>
        </p:blipFill>
        <p:spPr>
          <a:xfrm>
            <a:off x="5419800" y="1295280"/>
            <a:ext cx="3724200" cy="4191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5691960" y="571500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M of basidia and spor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71440" y="2514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Mushroom Life Cycle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468920" y="6019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g 31.12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562720" y="4800600"/>
            <a:ext cx="20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ear fusion in basidiu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743200" y="4572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iosi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62520" y="0"/>
            <a:ext cx="20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yphal fusion of haploid mycel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41360" y="574560"/>
            <a:ext cx="153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haploid myceliu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809880" y="603576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young basidia - the only diploid ce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095880" y="11736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ycelium and fruiting body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karyotic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3356640" y="388620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N          2N          N+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Arial"/>
              </a:rPr>
              <a:t>The Characteristics of Fungi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ungi are NOT plant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yphae = tubular units of constructio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eterotrophic by absorptio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eproduce by spor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cologically pivotal role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Club fungi diversity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35053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heck out Taylor Lockwoods, “Treasures from the Kingdom Fungi”!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This smaller-sized PPT file lacks  diversity slid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62" name="Picture 7" descr="Russian mycophiles II"/>
          <p:cNvPicPr/>
          <p:nvPr/>
        </p:nvPicPr>
        <p:blipFill>
          <a:blip r:embed="rId1"/>
          <a:stretch/>
        </p:blipFill>
        <p:spPr>
          <a:xfrm>
            <a:off x="4038480" y="380880"/>
            <a:ext cx="4680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28600" y="3505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247"/>
                </a:solidFill>
                <a:latin typeface="Times New Roman"/>
              </a:rPr>
              <a:t>A rust growing on a currant leaf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247"/>
                </a:solidFill>
                <a:latin typeface="Times New Roman"/>
              </a:rPr>
              <a:t>0.5 c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Line 3"/>
          <p:cNvSpPr/>
          <p:nvPr/>
        </p:nvSpPr>
        <p:spPr>
          <a:xfrm>
            <a:off x="685800" y="5105520"/>
            <a:ext cx="1371600" cy="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Yeast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old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ycorrhiza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Lichen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Yeast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ingle celled fungi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dapted to liquid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lant sap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Water film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oist animal tissu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68" name="Picture 4" descr="Candida Albicans"/>
          <p:cNvPicPr/>
          <p:nvPr/>
        </p:nvPicPr>
        <p:blipFill>
          <a:blip r:embed="rId1"/>
          <a:stretch/>
        </p:blipFill>
        <p:spPr>
          <a:xfrm>
            <a:off x="5638680" y="1143000"/>
            <a:ext cx="3011760" cy="487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YEASTSEM"/>
          <p:cNvPicPr/>
          <p:nvPr/>
        </p:nvPicPr>
        <p:blipFill>
          <a:blip r:embed="rId2"/>
          <a:stretch/>
        </p:blipFill>
        <p:spPr>
          <a:xfrm>
            <a:off x="838080" y="403848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6630480" y="60199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Candid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1203480" y="621360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Saccharomyc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280" y="152280"/>
            <a:ext cx="317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Schizosaccharomyces octospor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– fermenter of Palm Win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6553080" y="6095880"/>
            <a:ext cx="685800" cy="0"/>
          </a:xfrm>
          <a:prstGeom prst="line">
            <a:avLst/>
          </a:prstGeom>
          <a:ln w="22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400800" y="5562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0 </a:t>
            </a:r>
            <a:r>
              <a:rPr b="0" lang="el-G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μ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Molds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apidly growth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sexual spor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any human importanc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ood spoilag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ood product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Antibiotics, etc.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7" name="Picture 6" descr="31-20x1-Botrytis"/>
          <p:cNvPicPr/>
          <p:nvPr/>
        </p:nvPicPr>
        <p:blipFill>
          <a:blip r:embed="rId1"/>
          <a:stretch/>
        </p:blipFill>
        <p:spPr>
          <a:xfrm>
            <a:off x="609480" y="3657600"/>
            <a:ext cx="3581640" cy="2395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31-21-FungalAntibiotic"/>
          <p:cNvPicPr/>
          <p:nvPr/>
        </p:nvPicPr>
        <p:blipFill>
          <a:blip r:embed="rId2"/>
          <a:stretch/>
        </p:blipFill>
        <p:spPr>
          <a:xfrm>
            <a:off x="5105520" y="4038480"/>
            <a:ext cx="3657600" cy="2436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Mold images"/>
          <p:cNvPicPr/>
          <p:nvPr/>
        </p:nvPicPr>
        <p:blipFill>
          <a:blip r:embed="rId3"/>
          <a:stretch/>
        </p:blipFill>
        <p:spPr>
          <a:xfrm>
            <a:off x="5105520" y="228600"/>
            <a:ext cx="3598920" cy="3886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5403960" y="6461280"/>
            <a:ext cx="31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ig  31.21 Antibiotic activity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445400" y="6248520"/>
            <a:ext cx="22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Noble Rot -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Botryti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Mycorrhiza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ungus roots”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Mutualism between: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ungus (nutrient &amp; water uptake for plant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lant (carbohydrate for fungus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veral kind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Zygomycota – hyphae invade root ce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scomycota &amp; Basidiomycota – hyphae invade root but don’t penetrate ce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Extremely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important ecological role of fungi!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Ecto”mycorrhiza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85" name="Picture 19" descr="Russula brevipes Hemlock Mycorrhizas OC78B-13"/>
          <p:cNvPicPr/>
          <p:nvPr/>
        </p:nvPicPr>
        <p:blipFill>
          <a:blip r:embed="rId1"/>
          <a:stretch/>
        </p:blipFill>
        <p:spPr>
          <a:xfrm>
            <a:off x="0" y="1066680"/>
            <a:ext cx="3997440" cy="5791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Tshe mycorrhiza XS 100X Kodach Apr84-26"/>
          <p:cNvPicPr/>
          <p:nvPr/>
        </p:nvPicPr>
        <p:blipFill>
          <a:blip r:embed="rId2"/>
          <a:stretch/>
        </p:blipFill>
        <p:spPr>
          <a:xfrm>
            <a:off x="5486400" y="838080"/>
            <a:ext cx="3657600" cy="2810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4114800" y="2209680"/>
            <a:ext cx="1905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Russula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mushroom mycorrhizas on Western Hemlock root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914400" y="4952880"/>
            <a:ext cx="1447920" cy="15242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9" name="Picture 23" descr="Tshe mycorrhiza XS 400X Kodach Apr84-30"/>
          <p:cNvPicPr/>
          <p:nvPr/>
        </p:nvPicPr>
        <p:blipFill>
          <a:blip r:embed="rId3"/>
          <a:stretch/>
        </p:blipFill>
        <p:spPr>
          <a:xfrm>
            <a:off x="5537160" y="4245120"/>
            <a:ext cx="3606840" cy="2612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3"/>
          <p:cNvSpPr/>
          <p:nvPr/>
        </p:nvSpPr>
        <p:spPr>
          <a:xfrm>
            <a:off x="3962520" y="560376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ungal hyphae around root and between cell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1" name="Line 14"/>
          <p:cNvSpPr/>
          <p:nvPr/>
        </p:nvSpPr>
        <p:spPr>
          <a:xfrm flipV="1">
            <a:off x="5181480" y="4800600"/>
            <a:ext cx="990720" cy="129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2" name="Line 15"/>
          <p:cNvSpPr/>
          <p:nvPr/>
        </p:nvSpPr>
        <p:spPr>
          <a:xfrm flipV="1">
            <a:off x="5791320" y="5790960"/>
            <a:ext cx="152388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5938200" y="3672000"/>
            <a:ext cx="28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ycorrhiza cross section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4" name="Oval 26"/>
          <p:cNvSpPr/>
          <p:nvPr/>
        </p:nvSpPr>
        <p:spPr>
          <a:xfrm>
            <a:off x="2438280" y="2666880"/>
            <a:ext cx="1219320" cy="12193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Oval 27"/>
          <p:cNvSpPr/>
          <p:nvPr/>
        </p:nvSpPr>
        <p:spPr>
          <a:xfrm>
            <a:off x="2743200" y="4419720"/>
            <a:ext cx="1371600" cy="13716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6" name="Oval 28"/>
          <p:cNvSpPr/>
          <p:nvPr/>
        </p:nvSpPr>
        <p:spPr>
          <a:xfrm>
            <a:off x="76320" y="2971800"/>
            <a:ext cx="914400" cy="9144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Lichen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267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utualism” betwee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ungus – structur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lga or cyanobacterium – provides food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rm a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thallu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olios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ruticos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rustos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57909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6478560" y="61722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g 31.16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1" descr="Lobaria oregana"/>
          <p:cNvPicPr/>
          <p:nvPr/>
        </p:nvPicPr>
        <p:blipFill>
          <a:blip r:embed="rId1"/>
          <a:stretch/>
        </p:blipFill>
        <p:spPr>
          <a:xfrm>
            <a:off x="3886200" y="3355920"/>
            <a:ext cx="5257800" cy="3502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Lichen internal structure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203" name="Picture 23" descr="31-17-LichenAnatomy-NL"/>
          <p:cNvPicPr/>
          <p:nvPr/>
        </p:nvPicPr>
        <p:blipFill>
          <a:blip r:embed="rId2"/>
          <a:stretch/>
        </p:blipFill>
        <p:spPr>
          <a:xfrm>
            <a:off x="0" y="860400"/>
            <a:ext cx="6629400" cy="28908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5"/>
          <p:cNvSpPr/>
          <p:nvPr/>
        </p:nvSpPr>
        <p:spPr>
          <a:xfrm>
            <a:off x="2116080" y="8380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ig 31.17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Text Box 26"/>
          <p:cNvSpPr/>
          <p:nvPr/>
        </p:nvSpPr>
        <p:spPr>
          <a:xfrm>
            <a:off x="7392960" y="56386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Lobar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Lichens as biomonitor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Thalli act like spong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ome species more sensitiv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Which species are present can indicate air quality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(Most resistant species can also be analyzed for pollutants)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Northwest Air Net Project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pecies char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able of sensitiviti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Hyphae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52" name="Picture 4" descr="hyphae"/>
          <p:cNvPicPr/>
          <p:nvPr/>
        </p:nvPicPr>
        <p:blipFill>
          <a:blip r:embed="rId1"/>
          <a:stretch/>
        </p:blipFill>
        <p:spPr>
          <a:xfrm>
            <a:off x="4800600" y="609480"/>
            <a:ext cx="3917880" cy="5492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ubular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ard wall of chiti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rosswalls may form compartments (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±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ells)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ultinucleate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Grow at tip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Lichen diversity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209" name="Picture 4" descr="Acarospora chlophana Xanthoria elegans Kodach May81-12"/>
          <p:cNvPicPr/>
          <p:nvPr/>
        </p:nvPicPr>
        <p:blipFill>
          <a:blip r:embed="rId1"/>
          <a:stretch/>
        </p:blipFill>
        <p:spPr>
          <a:xfrm>
            <a:off x="4648320" y="304920"/>
            <a:ext cx="4194000" cy="6248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3657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heck out my 3-D cryptogam site!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ore pictures of: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Lichen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ushroom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Bryophyt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lime mold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s smaller-sized PPT file lacks  diversity slid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j0298897"/>
          <p:cNvPicPr/>
          <p:nvPr/>
        </p:nvPicPr>
        <p:blipFill>
          <a:blip r:embed="rId1"/>
          <a:stretch/>
        </p:blipFill>
        <p:spPr>
          <a:xfrm>
            <a:off x="6324480" y="4419720"/>
            <a:ext cx="1806840" cy="1577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Heterotrophic by Absorption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010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ungi get carbon from organic sourc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Hyphal tips release enzym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Enzymatic breakdown of substrat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Products diffuse back into hyphae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0" y="5181480"/>
            <a:ext cx="5029200" cy="60984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 flipV="1">
            <a:off x="4648320" y="4495320"/>
            <a:ext cx="60948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" name="Line 11"/>
          <p:cNvSpPr/>
          <p:nvPr/>
        </p:nvSpPr>
        <p:spPr>
          <a:xfrm flipV="1">
            <a:off x="4800600" y="4876560"/>
            <a:ext cx="99072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Line 12"/>
          <p:cNvSpPr/>
          <p:nvPr/>
        </p:nvSpPr>
        <p:spPr>
          <a:xfrm flipV="1">
            <a:off x="4952880" y="5257440"/>
            <a:ext cx="106704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4876920" y="5562720"/>
            <a:ext cx="106668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Line 14"/>
          <p:cNvSpPr/>
          <p:nvPr/>
        </p:nvSpPr>
        <p:spPr>
          <a:xfrm>
            <a:off x="4648320" y="5638680"/>
            <a:ext cx="9144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 rot="4890600">
            <a:off x="4614840" y="5138640"/>
            <a:ext cx="144756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Enzym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Line 16"/>
          <p:cNvSpPr/>
          <p:nvPr/>
        </p:nvSpPr>
        <p:spPr>
          <a:xfrm flipV="1">
            <a:off x="5105520" y="3733560"/>
            <a:ext cx="685800" cy="9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5638680" y="4419360"/>
            <a:ext cx="99072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Line 18"/>
          <p:cNvSpPr/>
          <p:nvPr/>
        </p:nvSpPr>
        <p:spPr>
          <a:xfrm flipV="1">
            <a:off x="5715000" y="5105160"/>
            <a:ext cx="121932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5638680" y="5791320"/>
            <a:ext cx="12193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Line 20"/>
          <p:cNvSpPr/>
          <p:nvPr/>
        </p:nvSpPr>
        <p:spPr>
          <a:xfrm>
            <a:off x="5257800" y="6095880"/>
            <a:ext cx="106668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AutoShape 21"/>
          <p:cNvSpPr/>
          <p:nvPr/>
        </p:nvSpPr>
        <p:spPr>
          <a:xfrm>
            <a:off x="6553080" y="4648320"/>
            <a:ext cx="914400" cy="914400"/>
          </a:xfrm>
          <a:prstGeom prst="irregularSeal1">
            <a:avLst/>
          </a:prstGeom>
          <a:noFill/>
          <a:ln w="414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WordArt 22"/>
          <p:cNvSpPr txBox="1"/>
          <p:nvPr/>
        </p:nvSpPr>
        <p:spPr>
          <a:xfrm rot="5128800">
            <a:off x="6036840" y="4000320"/>
            <a:ext cx="3085920" cy="20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518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Enzymatic breakdown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71" name="Line 25"/>
          <p:cNvSpPr/>
          <p:nvPr/>
        </p:nvSpPr>
        <p:spPr>
          <a:xfrm flipH="1" flipV="1">
            <a:off x="6933960" y="3885840"/>
            <a:ext cx="75960" cy="114300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7162920" y="5181480"/>
            <a:ext cx="990360" cy="68580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Line 27"/>
          <p:cNvSpPr/>
          <p:nvPr/>
        </p:nvSpPr>
        <p:spPr>
          <a:xfrm flipH="1" flipV="1">
            <a:off x="6019920" y="4495680"/>
            <a:ext cx="761760" cy="45720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Line 28"/>
          <p:cNvSpPr/>
          <p:nvPr/>
        </p:nvSpPr>
        <p:spPr>
          <a:xfrm flipH="1">
            <a:off x="5715000" y="5181480"/>
            <a:ext cx="990720" cy="15264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5" name="Line 29"/>
          <p:cNvSpPr/>
          <p:nvPr/>
        </p:nvSpPr>
        <p:spPr>
          <a:xfrm flipH="1">
            <a:off x="6171840" y="5257800"/>
            <a:ext cx="762120" cy="76212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6" name="Line 30"/>
          <p:cNvSpPr/>
          <p:nvPr/>
        </p:nvSpPr>
        <p:spPr>
          <a:xfrm flipV="1">
            <a:off x="7086600" y="4114800"/>
            <a:ext cx="533520" cy="99072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7086600" y="5181480"/>
            <a:ext cx="152280" cy="121932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7315200" y="5105520"/>
            <a:ext cx="91440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WordArt 33"/>
          <p:cNvSpPr txBox="1"/>
          <p:nvPr/>
        </p:nvSpPr>
        <p:spPr>
          <a:xfrm rot="18453600">
            <a:off x="5624280" y="4509720"/>
            <a:ext cx="140976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Times New Roman"/>
              </a:rPr>
              <a:t>Product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 flipH="1">
            <a:off x="4800600" y="5257800"/>
            <a:ext cx="1295280" cy="228600"/>
          </a:xfrm>
          <a:prstGeom prst="line">
            <a:avLst/>
          </a:prstGeom>
          <a:ln w="28440">
            <a:solidFill>
              <a:srgbClr val="0000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Text Box 35"/>
          <p:cNvSpPr/>
          <p:nvPr/>
        </p:nvSpPr>
        <p:spPr>
          <a:xfrm>
            <a:off x="2742480" y="586728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roduct diffuses back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into hypha and is used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2" name="Oval 36"/>
          <p:cNvSpPr/>
          <p:nvPr/>
        </p:nvSpPr>
        <p:spPr>
          <a:xfrm>
            <a:off x="1600200" y="5334120"/>
            <a:ext cx="380880" cy="2286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Text Box 37"/>
          <p:cNvSpPr/>
          <p:nvPr/>
        </p:nvSpPr>
        <p:spPr>
          <a:xfrm>
            <a:off x="1123920" y="4433760"/>
            <a:ext cx="22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Nucleus hangs back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and “directs”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31-02-CharacFungalHyphae-L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Arial"/>
              </a:rPr>
              <a:t>Modifications of hyphae</a:t>
            </a:r>
            <a:endParaRPr b="1" lang="en-US" sz="40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089680" y="126036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Fig 30.2 (don’t worry about the terms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Hyphal growth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yphae grow from their tips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ycelium = extensive, feeding web of hyphae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ycelia are the ecologically active bodies of fungi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0" y="5181480"/>
            <a:ext cx="4495680" cy="6858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0" y="5181480"/>
            <a:ext cx="5029200" cy="6858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5181480"/>
            <a:ext cx="6019920" cy="6858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0" y="5181480"/>
            <a:ext cx="7010280" cy="685800"/>
          </a:xfrm>
          <a:prstGeom prst="flowChartDelay">
            <a:avLst/>
          </a:prstGeom>
          <a:solidFill>
            <a:srgbClr val="c0c0c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911880" y="44956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This wall is rigid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878280" y="4495680"/>
            <a:ext cx="42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Only the tip wall is plastic and stretch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Line 11"/>
          <p:cNvSpPr/>
          <p:nvPr/>
        </p:nvSpPr>
        <p:spPr>
          <a:xfrm flipH="1">
            <a:off x="1371600" y="4800600"/>
            <a:ext cx="380880" cy="304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Line 12"/>
          <p:cNvSpPr/>
          <p:nvPr/>
        </p:nvSpPr>
        <p:spPr>
          <a:xfrm flipH="1">
            <a:off x="4800600" y="4876920"/>
            <a:ext cx="457200" cy="304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895480" y="617220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Video of time lapse growth in a Zygomycote, </a:t>
            </a: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Phycomyc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1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Reproduce by spores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6095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pores are reproductive cell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xua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sexua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Formed: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irectly on hypha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Inside sporangi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ruiting bodi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0" name="Picture 4" descr="31-14b-Penicillium"/>
          <p:cNvPicPr/>
          <p:nvPr/>
        </p:nvPicPr>
        <p:blipFill>
          <a:blip r:embed="rId1"/>
          <a:stretch/>
        </p:blipFill>
        <p:spPr>
          <a:xfrm>
            <a:off x="6248520" y="1828800"/>
            <a:ext cx="2732040" cy="3505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31-11x5-Amanita"/>
          <p:cNvPicPr/>
          <p:nvPr/>
        </p:nvPicPr>
        <p:blipFill>
          <a:blip r:embed="rId2"/>
          <a:stretch/>
        </p:blipFill>
        <p:spPr>
          <a:xfrm>
            <a:off x="0" y="3855960"/>
            <a:ext cx="3657600" cy="259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31-08-Pilobolus"/>
          <p:cNvPicPr/>
          <p:nvPr/>
        </p:nvPicPr>
        <p:blipFill>
          <a:blip r:embed="rId3"/>
          <a:stretch/>
        </p:blipFill>
        <p:spPr>
          <a:xfrm>
            <a:off x="3733920" y="251460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832680" y="646128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Amanita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fruiting body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958200" y="6019920"/>
            <a:ext cx="22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Pilobolus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sporangi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626160" y="5410080"/>
            <a:ext cx="21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Times New Roman"/>
              </a:rPr>
              <a:t>Penicillium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hypha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Hyphal growth from spore</a:t>
            </a:r>
            <a:endParaRPr b="1" lang="en-US" sz="4400" spc="-1" strike="noStrike">
              <a:solidFill>
                <a:srgbClr val="990099"/>
              </a:solidFill>
              <a:latin typeface="Arial"/>
            </a:endParaRPr>
          </a:p>
        </p:txBody>
      </p:sp>
      <p:pic>
        <p:nvPicPr>
          <p:cNvPr id="107" name="Picture 4" descr="myceliumg"/>
          <p:cNvPicPr/>
          <p:nvPr/>
        </p:nvPicPr>
        <p:blipFill>
          <a:blip r:embed="rId1"/>
          <a:stretch/>
        </p:blipFill>
        <p:spPr>
          <a:xfrm>
            <a:off x="685800" y="1905120"/>
            <a:ext cx="8124840" cy="3084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6552000" y="50292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mycelium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03480" y="411480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germinating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por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56386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ycelia have a huge surface area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442800" y="1173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g 31.1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895480" y="5943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ycelium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057400" y="6094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ruiting bodie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971800" y="297180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both are composed of hypha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9:19:01Z</dcterms:created>
  <dc:creator>Fred M. Rhoades</dc:creator>
  <dc:description/>
  <dc:language>en-US</dc:language>
  <cp:lastModifiedBy>Joni Kusnadi</cp:lastModifiedBy>
  <cp:lastPrinted>2001-01-06T03:20:03Z</cp:lastPrinted>
  <dcterms:modified xsi:type="dcterms:W3CDTF">2013-03-20T08:37:58Z</dcterms:modified>
  <cp:revision>18</cp:revision>
  <dc:subject/>
  <dc:title>Fungi</dc:title>
</cp:coreProperties>
</file>