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5B1D6-D4FC-4646-A06B-916739023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19BF7-0AF2-475B-B398-FDF18E342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D82D9-A18C-4825-9FCB-8B26F85A3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0DA15-F9B0-4D7B-A9C5-900EB7610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F99C2-821F-4548-B981-44D911655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9F60E-15F7-46C9-AACD-4F7C3699D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C9F47-F30B-4C13-96B7-90A7940DF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E2C26-4812-4AFE-8256-C7E62F8AE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1FDA8-39B8-4501-8E98-F5BAF4060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11BE8-3A5A-4C28-B92D-0D0382B51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98DBE-904B-431C-86B0-647FDAE90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4BAA9-F26E-431F-968D-A07714C88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26A93-51E6-47B9-9EC0-D5BFF7893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03C36-3273-4276-9843-BDCF2FFE8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18C05-78D5-41AA-81FF-FA631F0CD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E8933-EC61-4DC4-AA14-A4C91757E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64D18-9D43-4C68-90FF-75DA16E58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E97CDC-AB9D-4184-9208-E9317A339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7D6C08-959F-49C3-BEA3-5192632EF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6078F3-8F18-4E49-A2C6-153C1FD69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CDB5A7-83A4-47C7-B8C4-4216D363E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F53F9D-D467-4812-865A-3809BAE69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79D34-5649-4F41-B75A-88488D9B8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345F83-0513-433B-A2A3-56BE5B381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A24CC7-F756-431F-858F-92CFB968D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7669A0-9CC8-4342-9C32-3BEDF79C6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3E4FED-597F-4BFB-952D-D94002D4F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7482CA-8347-42D1-892C-970B7DF92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3C51CB-7994-416D-B52F-55D2FD36A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6D34F7-EEE7-4ED4-8974-0925ADB48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0F7D1C-D6E4-4745-A9DB-2B63E42B6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F56D5E-95C2-4ACC-8C7A-EA307A332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2B0F94-103F-4BBB-A26C-3079B0EDF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2240A-7A3D-45D7-9BEA-D6C4A366D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6479DC-CE84-4993-AF70-3AA5CFF17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389E6B-A54B-4CA8-ABCF-D8DD19301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63F0A4-CA0E-4485-AC8E-1794841F0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5024E3-5B55-4837-BFC6-B65577BD6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4982E7-4F59-4264-B1F2-0B485DBC6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8801B0-213E-4C4C-AE55-0C28D1317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84AA58-B69C-4D6F-9F95-2C456A407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F346D6-20FE-4324-8D5A-E69418730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1F4FAE-486C-4452-A9A1-CD10FACCD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87C9D-6D68-4EB4-AF21-6112A58A4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EEDA6-F9C6-40DB-87BC-85D3C9D34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5D48C-80C4-4582-BB78-BE20402E9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A42DA-1573-46C5-97C7-4E45A7E23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BB818-18A9-4E55-9DBB-8E855CCFA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7FEC5-2014-4811-86B3-9662BFB17B09}" type="datetime">
              <a:rPr b="0" lang="en-US" sz="1200" spc="-1" strike="noStrike">
                <a:solidFill>
                  <a:srgbClr val="045c75"/>
                </a:solidFill>
                <a:latin typeface="Constanti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0C6E8-4D8A-498E-96BE-F2C775D622A8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0FBF3-ED9C-4F66-BA44-231D20BE9A77}" type="datetime">
              <a:rPr b="0" lang="en-US" sz="1200" spc="-1" strike="noStrike">
                <a:solidFill>
                  <a:srgbClr val="d1eaee"/>
                </a:solidFill>
                <a:latin typeface="Constanti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C86A1-31D3-4BC2-8D5E-F4663F69DD7D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B3966-F285-48BA-9D29-0CB4FA39423B}" type="datetime">
              <a:rPr b="0" lang="en-US" sz="1200" spc="-1" strike="noStrike">
                <a:solidFill>
                  <a:srgbClr val="d1eaee"/>
                </a:solidFill>
                <a:latin typeface="Constanti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B7F16-0962-4112-954F-72EF9DBB82D2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21607-2648-4F4E-BCDF-09D8614478DA}" type="datetime">
              <a:rPr b="0" lang="en-US" sz="1200" spc="-1" strike="noStrike">
                <a:solidFill>
                  <a:srgbClr val="045c75"/>
                </a:solidFill>
                <a:latin typeface="Constanti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D1E9F-8642-4E1E-9588-E0CC35904581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1" descr=""/>
          <p:cNvPicPr/>
          <p:nvPr/>
        </p:nvPicPr>
        <p:blipFill>
          <a:blip r:embed="rId1"/>
          <a:stretch/>
        </p:blipFill>
        <p:spPr>
          <a:xfrm>
            <a:off x="536400" y="1371600"/>
            <a:ext cx="8302680" cy="232236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Naomi M. Sotto-Nocheseda, MD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Premature Menarch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rar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solated vaginal bleeding in the absence of other secondary sexual characteristic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usually 1-3 episodes onl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enstrual cycles norma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levels of gonadotropins normal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Medicational Precocity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nduction of the appearance of secondary sexual characteristics by a variety of medication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strogens – contraceptive pills, hair creams, breast augmentation cream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estosterone gel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isappearance of precocious changes after cessation of exposure to the drugs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Puberty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22093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10-11 y/o in females as breast bud followed by the appearance of pubic hair 6-12 months later, then menarche 2-2 ½ years later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95% by 12 y/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99% by 13 y/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eak height velocity at breast stage II-III, always preceding menarch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ean age of menarche 12 ¾ y/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Puberty in mal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growth of testes (&gt;3ml in volume or 2.5 cm in longest diameter) &amp; thinning of the scrotum – first sign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llowed by pigmentation of the scrotum, enlargement of the penis, then appearance of pubic hai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xillary hair in mid-pubert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aximal growth acceleration at genital stage IV-V (between 13 and 14 years of age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occurs 2 years later than girls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0" lang="en-US" sz="4000" spc="-1" strike="noStrike">
                <a:solidFill>
                  <a:srgbClr val="04617b"/>
                </a:solidFill>
                <a:latin typeface="Calibri"/>
              </a:rPr>
              <a:t>Factors affecting puberty and growth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Genetic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nvironmen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Nutri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hysical activit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Hormon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iseas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Precocious Puberty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Gonadotropin-dependent (true precocious puberty)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- more common in girls, 90% idiopathic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- sexual development beginning at any ag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- advanced sexual and bone matura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ombined gonadotropin-dependent &amp; gonadotropin-independent precocious pubert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Gonadropin-independent (precocious pseudopuberty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ncomplete (Partial) Precocious Pubert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3352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Incomplete (Partial ) Precocious Puberty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solated manifestations of precocity without development of other signs of pubert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wo most common form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- breast development in girl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- growth of sexual hair in both sex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Premature Thelarch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solated breast development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unilateral or asymmetric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ppears during the first two years of lif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ransient, regresses  after 2 years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usually benig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hormone assays not diagnostic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observation needed to distinguish true precocit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Premature Pubarche (Adrenarche)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ppearance of sexual hair before the age of 8 years in girls or 9 years in boys without other evidence of maturation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arly maturation of adrenal androgen produc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oincides with precocious maturation of zona reticularis,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↓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3B-OH dehydrogenase,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↑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-17,20 lyase activity,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↑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17-OH pregnenolone &amp; DHE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Premature Pubarche (Adrenarche)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ore common in girls, 50% at risk for hyperandrogenism, polycystic ovary syndrome, metabolic syndrom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hair on the mons &amp; labia major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hair on perineal &amp; scrotal area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dult type axillary odo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lowly progressive, usually benig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requires no therap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8T03:54:28Z</dcterms:created>
  <dc:creator>mimi</dc:creator>
  <dc:description/>
  <dc:language>en-US</dc:language>
  <cp:lastModifiedBy>asus</cp:lastModifiedBy>
  <dcterms:modified xsi:type="dcterms:W3CDTF">2011-09-27T08:38:02Z</dcterms:modified>
  <cp:revision>16</cp:revision>
  <dc:subject/>
  <dc:title>Pubertal Disorders</dc:title>
</cp:coreProperties>
</file>