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D71-B3FC-4A29-9995-9B384532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3E7-A9B5-4372-BF48-04B720B0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CC4-6D97-481F-A0D7-E2C29C70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DFA-B3DA-4F10-9908-7825F972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D1C8-FD3F-45F4-B0CB-75400919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655C-9625-4CCE-9D48-D46B6D21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1668-A001-47F0-950B-8C600C3C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D6FE-97C1-4FBE-A1FA-44E01E4A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42CE-7E7B-4060-89D5-9CBB2823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DFCE-C8B2-45E3-A754-387A8223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009D-4575-4D16-9510-EB371DFC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0A6-678F-4578-ABDF-6A9EB813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6F7C-FFCB-4D0B-B0F0-1414CB1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E4DB-35A2-4529-99A7-3E34D1FD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00C4-E124-4C16-BCC0-81FEB0E6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13F0-D04A-473F-8C14-95D0ED2A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CDF8-6674-4EF4-86EF-662F27BD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16E19-1E5B-4F76-B9F0-5126ACBE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8043-15CA-4757-908C-8D614AF3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7F27-1B1E-426D-883C-26C9E17B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45E89-20D0-4AF0-AA33-BD77D118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CF433-8EF8-4BCD-85CA-DDEDE031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39F-A942-46A4-830E-7F620648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1BCA-D30F-465D-9A53-79D0D19E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91715-E1D8-4C17-B4A4-1EED45AD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764D0-150B-465A-811A-2707716E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CD54-7780-4A5C-B99A-87D2FB67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F26CE-271C-4A16-BBDF-6447097E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5CD8F-73F2-4722-93BC-07DD87E6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71310-B7DA-4041-98FB-F5441B72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A7815-FF49-4576-9FDA-785EDAF6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E98CD-5D3A-4598-ACFC-97D19F10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E93A0-7A39-466C-9737-2C590294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A43-D918-4647-9867-77F85710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A4568-3F42-4945-A809-D84D590B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06049-0EC0-4426-B0F7-F4EFFEB0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2DC7C-C56F-4B26-BAAF-BEB7C53B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B423D-839E-48A8-B49C-0A0C071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3E9E2-DCE1-4290-86C1-DA9E0310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E72A3-B763-4287-9B4D-F974CB30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0E37-E29C-4BD8-BA71-39B05CC5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4F874-CFDF-453D-95F3-E4E2FE84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CAAF1-3D10-4DCB-AA39-F4D64B3E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FAE-31A3-4FFD-AEEC-BCB7F58C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F7E-91CE-45BA-B5CF-C8D292B6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B36-0D6C-4B0C-AEF5-A8DCAAA7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8DF-A86E-4E50-B1B7-7B74B962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373-4621-4E46-B30D-F50E6E63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B72F-21FC-4BC3-B73E-2E8A1CF4732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51C2-591A-4710-A622-62572E26BBB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FEDB-6F84-4EA4-A663-4AD0513F6FB0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55A5-BE85-494B-9A64-33E71649098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9FE2-F70D-45D8-A4EF-A4C84FC330AE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48F3-9EEC-46D8-B89B-40B8B58A5D2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9F8D-367E-43D0-B1F5-33BFC7350C6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DF87-9F1E-415A-A2DA-4863012B5B0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omi M. Sotto-Nocheseda, M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mature Menarch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olated vaginal bleeding in the absence of other secondary sexual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ually 1-3 episodes on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strual cycles norm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vels of gonadotropins norma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dicational Precoc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uction of the appearance of secondary sexual characteristics by a variety of med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trogens – contraceptive pills, hair creams, breast augmentation crea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stosterone ge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appearance of precocious changes after cessation of exposure to the drug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uber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-11 y/o in females as breast bud followed by the appearance of pubic hair 6-12 months later, then menarche 2-2 ½ years la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5% by 12 y/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9% by 13 y/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ak height velocity at breast stage II-III, always preceding menarch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n age of menarche 12 ¾ y/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uberty in m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wth of testes (&gt;3ml in volume or 2.5 cm in longest diameter) &amp; thinning of the scrotum – first sig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llowed by pigmentation of the scrotum, enlargement of the penis, then appearance of pubic hai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xillary hair in mid-pub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ximal growth acceleration at genital stage IV-V (between 13 and 14 years of ag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curs 2 years later than girl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Factors affecting puberty and growth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tr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ysical acti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rm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e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cocious Puber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nadotropin-dependent (true precocious puberty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more common in girls, 90% idiopat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exual development beginning at any 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advanced sexual and bone matu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ined gonadotropin-dependent &amp; gonadotropin-independent precocious pub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nadropin-independent (precocious pseudopuber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omplete (Partial) Precocious Pub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complete (Partial ) Precocious Puber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olated manifestations of precocity without development of other signs of pub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o most common for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breast development in gir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rowth of sexual hair in both sex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mature Thelarch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olated breast developm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lateral or asymmetr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ears during the first two years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ient, regresses  after 2 yea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ually ben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rmone assays not diagnost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ation needed to distinguish true precoc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emature Pubarche (Adrenarche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earance of sexual hair before the age of 8 years in girls or 9 years in boys without other evidence of matur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arly maturation of adrenal androgen p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incides with precocious maturation of zona reticularis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B-OH dehydrogenase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-17,20 lyase activity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7-OH pregnenolone &amp; DHE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emature Pubarche (Adrenarche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common in girls, 50% at risk for hyperandrogenism, polycystic ovary syndrome, metabolic syndr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ir on the mons &amp; labia majo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ir on perineal &amp; scrotal ar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type axillary od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lowly progressive, usually ben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 no therap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03:54:28Z</dcterms:created>
  <dc:creator>mimi</dc:creator>
  <dc:description/>
  <dc:language>en-US</dc:language>
  <cp:lastModifiedBy>asus</cp:lastModifiedBy>
  <dcterms:modified xsi:type="dcterms:W3CDTF">2011-09-27T08:38:02Z</dcterms:modified>
  <cp:revision>16</cp:revision>
  <dc:subject/>
  <dc:title>Pubertal Disorders</dc:title>
</cp:coreProperties>
</file>