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70C-FAD8-415E-A7A6-9F996361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891-7D68-486B-9C48-EF4A7301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3DB-5C2F-42ED-9EE9-7A36947D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22D-20A7-4C65-818C-9AEF237D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76E-ED63-42B4-AF30-CED5FB9C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7AC-D3CF-4178-9FB2-4968AC14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6DF-5CCF-48B3-80F2-D1AEB2C0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04A-8FEA-43AD-B3CB-75BF1DF7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A61-D718-4F31-B9BC-43CD4D25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4F1-3D8C-434B-B90A-4F6DB4AC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9B9-A93D-4078-A1D7-96FA95E0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EB5-CBD5-434A-90B3-9BA177F7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E158F-880F-477A-9A15-02E3C22EB8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943DB-1676-459C-8417-D38A383181F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312-1-1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312-1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312-1-3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312-2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312-2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312-2-3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4" descr="312-3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14" descr="312-3-2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Picture 14" descr="312-3-3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09-20T09:30:36Z</dcterms:modified>
  <cp:revision>4</cp:revision>
  <dc:subject/>
  <dc:title>슬라이드 1</dc:title>
</cp:coreProperties>
</file>