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8120-ECEB-4ED8-B988-31B85452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6B4B-391F-492B-AB34-AECA3596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5A45-5A65-40FB-9406-6A0C5861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E179-550C-4531-8AE3-D796476D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1637-CAAA-42FA-8ECD-D066602E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74FE-7469-49D5-B4EF-4FFB466C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210A-523D-4DA0-AEEC-5697107F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28C-6737-4377-B534-14DABC21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BFA-E39D-4C9F-8529-4455339A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7BA-3A62-4A02-8AB7-56AEAF7E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0B10-32C8-4A28-97A8-F09851EE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E1D2-7473-41E3-A758-5959E88D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119413-5257-43FA-9202-270305D6F1C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ACB3D-1011-48F6-8E99-7782C1DB39E0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4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Picture 4" descr="312-1-1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Picture 4" descr="312-1-2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4" descr="312-1-3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1" name="Picture 4" descr="312-2-1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4" descr="312-2-2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Picture 4" descr="312-2-3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1" name="Picture 4" descr="312-3-1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3" name="Picture 6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6" name="Picture 9" descr=""/>
            <p:cNvPicPr/>
            <p:nvPr/>
          </p:nvPicPr>
          <p:blipFill>
            <a:blip r:embed="rId2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9" name="Picture 12" descr=""/>
            <p:cNvPicPr/>
            <p:nvPr/>
          </p:nvPicPr>
          <p:blipFill>
            <a:blip r:embed="rId3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Picture 14" descr="312-3-2 copy"/>
          <p:cNvPicPr/>
          <p:nvPr/>
        </p:nvPicPr>
        <p:blipFill>
          <a:blip r:embed="rId4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3" name="Picture 6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6" name="Picture 9" descr=""/>
            <p:cNvPicPr/>
            <p:nvPr/>
          </p:nvPicPr>
          <p:blipFill>
            <a:blip r:embed="rId2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9" name="Picture 12" descr=""/>
            <p:cNvPicPr/>
            <p:nvPr/>
          </p:nvPicPr>
          <p:blipFill>
            <a:blip r:embed="rId3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1" name="Picture 14" descr="312-3-3 copy"/>
          <p:cNvPicPr/>
          <p:nvPr/>
        </p:nvPicPr>
        <p:blipFill>
          <a:blip r:embed="rId4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7:34:56Z</dcterms:created>
  <dc:creator>최봉수</dc:creator>
  <dc:description/>
  <dc:language>en-US</dc:language>
  <cp:lastModifiedBy>맛있다 군만두</cp:lastModifiedBy>
  <dcterms:modified xsi:type="dcterms:W3CDTF">2024-09-20T09:30:36Z</dcterms:modified>
  <cp:revision>4</cp:revision>
  <dc:subject/>
  <dc:title>슬라이드 1</dc:title>
</cp:coreProperties>
</file>