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CF6D9-F504-4CE9-A9C7-F76118CDD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9B06A-D13E-43A1-8F76-8574A4C1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538D-7EF7-468E-9EBD-BE68A0AC4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2A2BF-C0C4-44C5-A595-0ABE63548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11288-0C69-4569-B432-20FF5D5FA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A721A-74D3-43E7-A8D9-076CC1CAD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0AF6F-C65E-4EC3-87B5-86220BCF6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A90B2-EB44-455D-B48E-F6D82C07C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815C9-B9CA-4CB2-868E-7E342191B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78D1D-51E0-40D5-BDE0-82B799492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8E1B2-77F1-4084-9A05-A13E1B323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7AAA-1143-4EFE-A412-07F1C578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C0F2D-868D-4504-849F-F3C5A6C9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F8CC-BD8D-47E6-A5F5-8121CA58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DC6E1-B021-430F-8B9F-74725752B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91778-3D74-46FF-B1D8-867D14189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7AA34-8AAC-4E0E-B107-BE20231A8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9535-1E1C-400C-A20B-F72A9CA46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A963-7E42-4EB4-94E1-066BBEE30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C6871-E211-4F7F-8106-8C3FE8977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9A76-9AA9-4844-ABAC-073D61FD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519D7-B07C-490A-AAC0-8BA827522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D9AC-D3AF-4654-BC5A-45FD9991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5D20-4BD2-4F97-9BDB-12ABE100D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BA55-B019-41F2-BB33-119230729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B40F-4AA6-4AE1-A0FF-3FDF4F75EA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Writing Essays on Literary Topic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e attic flat is important. Before, in her apartment, Mathilde was dreamy and impractical.  She was delicate, but after losing the necklace, no way. She becomes a worker when in the flat. She gives up her servant, climbs stairs carrying buckets of water, washes greasy pots, throws water around to clean floors, does all the wash by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While she gets stronger, she also gets loud and frumpy- argues with shopkeepers to get the lowest prices.  She stops caring for herself. A reversal here, from incapable and well groomed to coarse but capable. All this change happens in the 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Raise and answer your own ques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explanations are needed for the characters? Which actions, scenes and situations invite interpretation? Wh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ssumptions do the characters and speakers reveal about life and humanity in general? (about themselves, people, work, religion, politics..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ir manners or custo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s of words do they use: formal or informal words, slang or profan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literary conventions and devices have you discovered, and how do these add to the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Use the PLUS-MINUS, PRO-CON, OR EITHER-OR METHOD to put ideas togeth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mon method of discovering ideas is to develop a set of contras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ould Mathilde be “admired” or “condem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Trace Developing Patter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ideas by making a list or scheme for the story or main ide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nflicts appea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ese conflict exist between people, groups or ide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author resolve the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resp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Let your writing help you develop your think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written thought is incomplete though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practice of writing notes about your reactions and any questions that occur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rafting Your Essay..</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ssay is a fully developed and organized set of paragraphs that develop and enlarge a central ide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aragraphs refers to the central idea and demonstrate how selected details from the work relate to it and support 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al idea controls and shapes your essay. Thus, it provides guidance for the rea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successful essay about literature…</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ief but thorough examination of a literary work in light of a particular element, such as character, point of view or symbolis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thesis sente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goal is to establish a number of major topics to support the central idea, and to express them in a thesis sente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 – an organizing sentence that plans or forecasts the major topics you will treat in your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is sharpened, focused expression of thought and stud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egins with the search for something to say – an IDE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ideas are equal, some are better than others, and getting good ideas is an ability that you will develop the more you think and wr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IDEA</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tting of the Necklace reflects Mathilde’s character.</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IC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life apartmen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 surrounding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IS STAT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thilde’s character growth is related to her first apartment, her dream-life mansion room and her 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 of essay – thesis stat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 of each paragraph – topic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e attic flat reflects the coarsening of Mathilde’s charac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should your paragraph consist o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ilde’s rough, heavy housework has a direct effect on her behaviour, appearance and general outloo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nly one topic in each paragrap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u="sng">
                <a:solidFill>
                  <a:srgbClr val="ffffff"/>
                </a:solidFill>
                <a:uFillTx/>
                <a:latin typeface="Arial"/>
              </a:rPr>
              <a:t>The attic flat reflects the coarsening of Mathilde’s character.</a:t>
            </a:r>
            <a:r>
              <a:rPr b="0" i="1" lang="en-US" sz="3200" spc="-1" strike="noStrike">
                <a:solidFill>
                  <a:srgbClr val="ffffff"/>
                </a:solidFill>
                <a:latin typeface="Arial"/>
              </a:rPr>
              <a:t>  Maupassant emphasizes the burdens she endures to save money, such as mopping flo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n outli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tical sentence outl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n introduction, central idea, thesis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Topic sentences in each paragrap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conclu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troduc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idea: Maupassant uses his setting to show Mathilde’s charact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 Her character growth is related to her first apartment, her daydreams about elegant rooms in a mansion and her 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ody – Topic Sentence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s about her first apartment explain her dissatisfaction and depressi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daydreams about mansion rooms are like the apartment because they make her unhapp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tic flat reflects the coarsening of her charac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nclusion – Topic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details in the story, particularly the setting, are focused on the character of Mathil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 be a summary of the body, evaluate the main idea, may briefly suggest further points of discussion, may be a reflection on the details of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to analyze literature and to write about it will also improve your perceptions and increase your critical facul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is a process that begins in uncertainty and hesitation, and that becomes certain and confident only as a result of diligent thought and c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mes to your mind when you read a complete, polished, well-formed piece of wri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Major Stages of THINKING &amp; WRITING</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STAGE – Discovering Ide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pare this with the qualities of ordinary convers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STAGE – Creating an early, rough draft of a critical pap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thought should be less like ordinary conversation and more like classroom discus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baseline="30000">
                <a:solidFill>
                  <a:srgbClr val="ffffff"/>
                </a:solidFill>
                <a:latin typeface="Arial"/>
              </a:rPr>
              <a:t>rd</a:t>
            </a:r>
            <a:r>
              <a:rPr b="0" lang="en-US" sz="3200" spc="-1" strike="noStrike">
                <a:solidFill>
                  <a:srgbClr val="ffffff"/>
                </a:solidFill>
                <a:latin typeface="Arial"/>
              </a:rPr>
              <a:t> STAGE – Preparing a finished ess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thinking must be sharply focused. Your writing must be organized, definite, concise and conn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vering Ideas</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storming / Freewrit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e FIRST step in writing. You are talking to yourself and writing down all your thoughts.  Then, decide which ideas to keep and which to throw 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vering Idea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pecific Topic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subjects you create when taking notes and brainstorming.</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redirecting your mind into specific channels.</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topic and write as much as you can about i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uild on your original no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e your journal notes for relevant topic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rite about the importance of the attic flat where Mathilde and her husband live after they paid for the replacement necklac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04-03T13:35:3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