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058BD-42D4-408C-A9FB-99985E240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F919E-4D72-45E2-BBF4-801FD2E61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EDE52-0AC1-4C14-8B50-199836B1F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4F809-B5B3-4369-9FC0-04FA6B0BC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8AFAE6-239D-4F5A-B84E-5411483EB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444C4-94FC-439F-BD4B-6679E589D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E6D23-B026-483F-AC02-3AEA3E79A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18864-E4AB-4367-AC32-F00F09CCF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842F6-ADA5-4FB4-9EE5-EFEB3CD11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73FB8-D3BB-4472-BDEF-A146AA08C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034F2-1720-4469-ABD5-4549F9343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08862-61CA-4B2B-8531-54FA94D22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84DB1-DA82-46B7-BC4E-0EEB3C480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1EB11-30E6-4C35-A000-FA039DC10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E912F-008D-4A48-A97A-6419D7608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C9B1E-E329-4ABF-A67B-E7C49C41D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339F2-5A94-4D3D-A9D0-791C46849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C3C53-0B13-4A6B-81A8-1E9651C1A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AFA4E-6852-4833-A9AD-FAC5A6130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71C8A-C810-42FA-B985-94CD997D4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90E8F-F82E-4A9F-91B3-3F2171DAE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B30A-87DE-4C39-A430-D40A24D08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39489-EB8A-4D6F-8F81-FB2A74394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5253-CEB1-4A19-8E6A-AEC7A2307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AD7A-76AD-4649-B8DC-302486242B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E1C4-F1E6-4B79-B26B-37995CF613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Writing Essays on Literary Topics</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e attic flat is important. Before, in her apartment, Mathilde was dreamy and impractical.  She was delicate, but after losing the necklace, no way. She becomes a worker when in the flat. She gives up her servant, climbs stairs carrying buckets of water, washes greasy pots, throws water around to clean floors, does all the wash by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While she gets stronger, she also gets loud and frumpy- argues with shopkeepers to get the lowest prices.  She stops caring for herself. A reversal here, from incapable and well groomed to coarse but capable. All this change happens in the attic fl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Raise and answer your own ques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explanations are needed for the characters? Which actions, scenes and situations invite interpretation? Wh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ssumptions do the characters and speakers reveal about life and humanity in general? (about themselves, people, work, religion, politics..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ir manners or custom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s of words do they use: formal or informal words, slang or profan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literary conventions and devices have you discovered, and how do these add to the 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Use the PLUS-MINUS, PRO-CON, OR EITHER-OR METHOD to put ideas togeth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mon method of discovering ideas is to develop a set of contras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hould Mathilde be “admired” or “condem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Trace Developing Patter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ideas by making a list or scheme for the story or main ide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onflicts appea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ese conflict exist between people, groups or ide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e author resolve the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you resp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Let your writing help you develop your think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written thought is incomplete though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 practice of writing notes about your reactions and any questions that occur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rafting Your Essay..</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ssay is a fully developed and organized set of paragraphs that develop and enlarge a central ide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paragraphs refers to the central idea and demonstrate how selected details from the work relate to it and support 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al idea controls and shapes your essay. Thus, it provides guidance for the rea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successful essay about literature…</a:t>
            </a:r>
            <a:endParaRPr b="0" lang="en-US" sz="40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rief but thorough examination of a literary work in light of a particular element, such as character, point of view or symbolis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 thesis sente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goal is to establish a number of major topics to support the central idea, and to express them in a thesis sente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S – an organizing sentence that plans or forecasts the major topics you will treat in your ess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is sharpened, focused expression of thought and stud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begins with the search for something to say – an IDE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ll ideas are equal, some are better than others, and getting good ideas is an ability that you will develop the more you think and wr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IDEA</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tting of the Necklace reflects Mathilde’s character.</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PIC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life apartmen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am surrounding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c fl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IS STATE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thilde’s character growth is related to her first apartment, her dream-life mansion room and her attic fl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ation of essay – thesis stat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ation of each paragraph – topic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e attic flat reflects the coarsening of Mathilde’s charac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should your paragraph consist o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ilde’s rough, heavy housework has a direct effect on her behaviour, appearance and general outloo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nly one topic in each paragrap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u="sng">
                <a:solidFill>
                  <a:srgbClr val="ffffff"/>
                </a:solidFill>
                <a:uFillTx/>
                <a:latin typeface="Arial"/>
              </a:rPr>
              <a:t>The attic flat reflects the coarsening of Mathilde’s character.</a:t>
            </a:r>
            <a:r>
              <a:rPr b="0" i="1" lang="en-US" sz="3200" spc="-1" strike="noStrike">
                <a:solidFill>
                  <a:srgbClr val="ffffff"/>
                </a:solidFill>
                <a:latin typeface="Arial"/>
              </a:rPr>
              <a:t>  Maupassant emphasizes the burdens she endures to save money, such as mopping flo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n outlin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tical sentence outli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n introduction, central idea, thesis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Topic sentences in each paragrap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conclu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Introduc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idea: Maupassant uses his setting to show Mathilde’s charact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S: Her character growth is related to her first apartment, her daydreams about elegant rooms in a mansion and her attic fl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ody – Topic Sentence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s about her first apartment explain her dissatisfaction and depressio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daydreams about mansion rooms are like the apartment because they make her unhapp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tic flat reflects the coarsening of her charac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onclusion – Topic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details in the story, particularly the setting, are focused on the character of Mathil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y be a summary of the body, evaluate the main idea, may briefly suggest further points of discussion, may be a reflection on the details of the bo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to analyze literature and to write about it will also improve your perceptions and increase your critical facul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is a process that begins in uncertainty and hesitation, and that becomes certain and confident only as a result of diligent thought and ca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omes to your mind when you read a complete, polished, well-formed piece of wri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 Major Stages of THINKING &amp; WRITING</a:t>
            </a:r>
            <a:endParaRPr b="0" lang="en-US" sz="40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STAGE – Discovering Ide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pare this with the qualities of ordinary convers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baseline="30000">
                <a:solidFill>
                  <a:srgbClr val="ffffff"/>
                </a:solidFill>
                <a:latin typeface="Arial"/>
              </a:rPr>
              <a:t>nd</a:t>
            </a:r>
            <a:r>
              <a:rPr b="0" lang="en-US" sz="3200" spc="-1" strike="noStrike">
                <a:solidFill>
                  <a:srgbClr val="ffffff"/>
                </a:solidFill>
                <a:latin typeface="Arial"/>
              </a:rPr>
              <a:t> STAGE – Creating an early, rough draft of a critical pap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r thought should be less like ordinary conversation and more like classroom discuss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baseline="30000">
                <a:solidFill>
                  <a:srgbClr val="ffffff"/>
                </a:solidFill>
                <a:latin typeface="Arial"/>
              </a:rPr>
              <a:t>rd</a:t>
            </a:r>
            <a:r>
              <a:rPr b="0" lang="en-US" sz="3200" spc="-1" strike="noStrike">
                <a:solidFill>
                  <a:srgbClr val="ffffff"/>
                </a:solidFill>
                <a:latin typeface="Arial"/>
              </a:rPr>
              <a:t> STAGE – Preparing a finished ess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r thinking must be sharply focused. Your writing must be organized, definite, concise and conn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vering Ideas</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instorming / Freewrit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the FIRST step in writing. You are talking to yourself and writing down all your thoughts.  Then, decide which ideas to keep and which to throw o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vering Ideas..</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Specific Topic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subjects you create when taking notes and brainstorming.</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redirecting your mind into specific channels.</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topic and write as much as you can about i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uild on your original not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e your journal notes for relevant topic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rite about the importance of the attic flat where Mathilde and her husband live after they paid for the replacement necklac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8-04-03T13:35:35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