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A69B-B796-4D71-81FC-1FC64BEA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64F-2351-45D0-8DC0-8549FD51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EAD-07FC-42E6-86E8-41FF7A59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B29-B03D-4D0C-807F-BED321CF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15A-3996-4C8E-AE9A-A719B89D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F217-EDC6-4E52-B81C-D1FE8DA1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8B4-CC9F-4601-9D90-9C5D79F3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FDC-08A0-4580-BCA0-055BEB8F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646-F11C-4C26-974E-C7EF45B1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CBC2-42B0-4EE4-A5F3-72630301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0312-FE9A-4496-A15D-BD2EE90E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C681-6FEB-45A2-98E5-78FBD25C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37C1-ABA1-41D9-911E-DAE4B3269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nfused Root"/>
              </a:rPr>
              <a:t>halle ber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0" y="0"/>
            <a:ext cx="9141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2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79640" y="573408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2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4:58:09Z</dcterms:created>
  <dc:creator>Benz</dc:creator>
  <dc:description/>
  <dc:language>en-US</dc:language>
  <cp:lastModifiedBy>Smets</cp:lastModifiedBy>
  <dcterms:modified xsi:type="dcterms:W3CDTF">2008-09-14T07:25:55Z</dcterms:modified>
  <cp:revision>3</cp:revision>
  <dc:subject/>
  <dc:title>halle berry</dc:title>
</cp:coreProperties>
</file>