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8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B68B-5DEE-460E-8A51-81F0AE6F8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DCD0-83BE-4CA1-BE7B-75503688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5A6C-8DA6-464F-AFE9-7F63280D3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5047-EF5B-40DE-8A3F-44769697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41071-DFB2-48D2-8D78-C4EAB49A6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90A-FC10-477B-B090-55FC1994F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6CE57-6B18-4328-8708-A693F03A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3066-E8DD-42AE-9A83-CAD648E72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C6E0-C9C3-4D43-A125-4D966972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BCB5-BDB6-4DD0-8047-C2ABDFA6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0782-FF81-4832-9BB6-6AF10E2F9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6F1E-E97A-4B15-8DB0-71A854F3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2C786-EE74-46E8-9E25-CE6177FF94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Confused Root"/>
              </a:rPr>
              <a:t>halle ber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0" y="0"/>
            <a:ext cx="91411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979640" y="573408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7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256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5840" y="0"/>
            <a:ext cx="857232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3T04:58:09Z</dcterms:created>
  <dc:creator>Benz</dc:creator>
  <dc:description/>
  <dc:language>en-US</dc:language>
  <cp:lastModifiedBy>Smets</cp:lastModifiedBy>
  <dcterms:modified xsi:type="dcterms:W3CDTF">2008-09-14T07:25:55Z</dcterms:modified>
  <cp:revision>3</cp:revision>
  <dc:subject/>
  <dc:title>halle berry</dc:title>
</cp:coreProperties>
</file>