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D38-83D8-4EC3-A4B8-063713FB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515-476B-4A5B-B117-B00945A4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727-91DF-4D6B-8CE4-A5614D1A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9AD-2DA2-4994-B87C-1C2DDDFF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2723-654C-4DB3-8050-CC50F397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8248-D91E-46E9-96E7-86591147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CEAA-972E-4B11-8A78-2545E6E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114F-FBAB-448C-A231-112C9E5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CA7-6946-4C34-89EB-64BFE7B8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2232-75E8-4BC5-9EB4-1681892B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49D-F69F-4BAA-8FBF-0E351EA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7FF-0216-44C6-B08B-A0F6B91F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7821-EF7D-44E9-97DA-9F99919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835D-B543-4CD7-8461-07D5741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65B5-715A-4DB0-A575-4681BE2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224D-0D1C-4032-B75B-A0E30028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B119-541E-422B-9F80-71B98692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183-3255-4FD1-B16A-1B5712A6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484-EF6A-40D6-BA3B-5DAA6BAB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A73-E797-4ACC-94A9-5B1A711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227-0EA8-4756-A3E4-8C556E30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EFF-8CAC-4432-9536-B87AA5A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06C-CCC7-4FBA-A018-54A94C1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C03-9A13-4A27-BCD1-FAE510A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351F-3970-40C7-80E1-8F43900736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0FEC-05D3-49D6-9087-5A16E97C9F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RGANIZING-part 3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ORDINAS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NTANG MANAJEMEN D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LIMPAHAN/PENDELEGASIAN  WEWENA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LEH 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ARID MA’RUF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TA KULIAH ASME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22D-E568-4C93-84AE-1DC39C2E69D0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Tugas yg di delegasikan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Perencana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Pelaksanaan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Pengawas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Cara Mendelegasikan Wewenang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Garis Lurus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Garis Fungsional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1D6-C5EE-4ED6-9BD8-6342F1919D7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0000"/>
                </a:solidFill>
                <a:latin typeface="Comic Sans MS"/>
              </a:rPr>
              <a:t>Hambatan Dlm Pendelegasian Wewenang (Newman) Dari Sisi Atasan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Atasan menganggap dirinya lebih mampu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Kesulitan mengkomunikasikan rencana / ideny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Kurang kepercayaan pd bawah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Tdk adanya pengawasan yg selektif dari atas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Enggan memberikan kesempat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EC3-07FB-427A-AB21-39C9D4C02B5A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0000"/>
                </a:solidFill>
                <a:latin typeface="Comic Sans MS"/>
              </a:rPr>
              <a:t>Dari sisi bawahan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Mental bawahan yg belum dewasa (enggan menerima tanggung jawab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Takut dikritik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Malas bertanggung jawab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Overload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Kurang Percaya Diri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Insentif yg tidak menarik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68B-C272-4C98-B9E6-0AFCEF55AD0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0000"/>
                </a:solidFill>
                <a:latin typeface="Comic Sans MS"/>
              </a:rPr>
              <a:t>PENDELEGASIAN YG EFEKTIF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Putuskan tugas mana yg dpt didelegasik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Putuskan siapa yg akan mendpt penugasan (kompetensi penerima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Siapkan SD yg memadai untuk melaksanakan tugas tsb (Keuangan, staf pembantu, waktu dll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Delegasikanlah. Beri Informasi yg memadai &amp; gambaran hasil yg diharapkan (bkn metode yg hrs digunaka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Bersiap untuk campur tangan bila perlu (utusan kita menghadapi penolakan dari pihak lai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Tetapkan sistem umpan balik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DF9-3878-4ECF-9713-295FBA202356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pperplate Gothic Bold"/>
              </a:rPr>
              <a:t>Pelimpahan Wewenang (delegation of Authority) / Desentralisasi, 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Copperplate Gothic Bold"/>
              </a:rPr>
              <a:t>punya beberapa keuntung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Desentralisasi mendorong pengembangan manajer yg profesional (kepemimpina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Adanya kompetisi antar departeme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Para manajer mampu melaksanakan otonomi yg lebih banyak (self actualizatio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Proses pengambilan keputusan lebih cepat karena melibatkan beberapa pihak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2276640"/>
            <a:ext cx="1288800" cy="12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B04-E859-480D-9C3A-D36A414C594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iaya/harga” yg hrs dibayar bila suatu organisasi beralih dari sentralisasi ke desentralisasi, yaitu 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Program pelatihan formal ttg Decision Making bagi para manajer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Manajer lama akan terganggu dg sistem ini (timbul “perlawanan”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Untuk merubah Sistem akunting &amp; sistem penilaian hasil karya memerlukan biaya yg sangat mahal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EC7-5773-41E6-A408-58A6691456FB}" type="slidenum">
              <a:t>15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A. </a:t>
            </a:r>
            <a:r>
              <a:rPr b="1" lang="id-ID" sz="3600" spc="-1" strike="noStrike">
                <a:solidFill>
                  <a:srgbClr val="ff00ff"/>
                </a:solidFill>
                <a:latin typeface="Comic Sans MS"/>
              </a:rPr>
              <a:t>KOORDINAS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66"/>
                </a:solidFill>
                <a:latin typeface="Comic Sans MS"/>
              </a:rPr>
              <a:t>Koordinasi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Proses pengintegrasian tujuan2 &amp; Kegiatan2 pd satuan2 yg terpisah (departemen) dri suatu organisasi untuk mencapai tujuan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3 Macam Ketergantungan antara unit2 organisasi  (James D. Thompson)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1. </a:t>
            </a: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Saling ketergantungan yg menyatu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373720"/>
            <a:ext cx="23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visi Produk 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373720"/>
            <a:ext cx="237636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visi Produk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869000"/>
            <a:ext cx="0" cy="5047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4869000"/>
            <a:ext cx="0" cy="5047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4869000"/>
            <a:ext cx="3240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84720" y="4653000"/>
            <a:ext cx="0" cy="21600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AD8-B2ED-4D57-A9AC-C599F0B2BC1C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aeaea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Saling Ketergantungan yg berurutan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aeaea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Saling ketergantungan timbal balik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155736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beli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55736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duk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2349360"/>
            <a:ext cx="100800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422100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elihara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422100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rasio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6237360"/>
            <a:ext cx="335304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580000" y="5660640"/>
            <a:ext cx="0" cy="57636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268360" y="5734080"/>
            <a:ext cx="0" cy="5032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131-624D-464F-B412-5633DD8A4C3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Masalah-masalah Pencapaian Koordinas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yang Efektif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orientasi thd tujuan tertentu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dlm orientasi waktu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dlm orientasi antar pribadi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dlm formalitas struktur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2A6-ECBA-4BB3-91D2-2F4485DF245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B. RENTANG MANAJEM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pan of Control = Span of Authority = Span of Attention = Span of Supervision = Rentang Kendal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erkaitan dg jumlah bawahan yg dpt dikendalikan scr efektif oleh seorang manajer atau atas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BCF-50C1-4E88-BAE3-711080665E4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79898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ungsi Rentang Manajemen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-3438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empengaruhi penggunaan efisiensi dari manajer &amp; pelaksanaan kerja efektif dari bawahan mereka. Terlalu lebar = tdk efisien. Terlalu sempit = Manajer tdk berfungs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-3438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ntang yg sempit = struktur organisasi tall, rentang yang lebar = struktur organisasi fl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erapa jumlah rentang manajemen yg ideal ??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ergantung pd besarnya organisasi, tekhnologi, spesialisasi, kegiatan2 rutin, tingkatan manajemen &amp; sifat2 pekerja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190-5DB0-45A1-92BF-87D6D7E712CD}" type="slidenum">
              <a:t>6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omic Sans MS"/>
              </a:rPr>
              <a:t>C. PENDELEGASIAN WEWENANG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Kekuasaan ( power)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mampuan untuk membuat orang lain terpengaruh atau kemampuan untuk memaksakan kehendaknya kepada orang lain sehingga orang lain mengikutiny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oontz &amp; Donnel mendefinisikan kewenangan (authority)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kuasaan yg sah yg memberika</a:t>
            </a:r>
            <a:r>
              <a:rPr b="0" lang="id-ID" sz="24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hak untuk memerintah orang lain untuk bertindak atau tidak bertindak dlm suatu cara dlm rangka pencapaian tujuan organisasi”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nry L.Silk mendefinisikan Kewenangan 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k untuk bertindak atau mengarahkan tindakan orang lain dlm pencapaian tujuan organisasi”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49A-38AA-4BA4-91C3-3F45CC4001A1}" type="slidenum">
              <a:t>7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Engravers MT"/>
              </a:rPr>
              <a:t>Sumber Kewenangan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Engravers MT"/>
              </a:rPr>
              <a:t> (William H. Newman) :</a:t>
            </a:r>
            <a:br>
              <a:rPr sz="2600"/>
            </a:b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Krn Peraturan Undang2 (Legal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krn Keahlian (Technical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krn hak tertinggi (Ultimate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Operasi (Operational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umber Kewenangan (Koontz &amp; Donnel)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Teori kewenangan Formal (The Formal Authority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Teori Penerimaan (Acceptance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Teori Kemampuan (The Competence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8048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922-A012-4AE3-8859-8F672AC3619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Engravers MT"/>
              </a:rPr>
              <a:t>Proses Pendelegasian Wewenang (W.H. Newmann) 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6630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Menunjuk atau memberikan tugas-tugas tertentu untuk dikelola oleh bawahan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Memberi izin kepada bawahan untuk membuat perjanjian, menggunakan sumber2 yg tersedia &amp; mengambil keputusan atau tindakan tertentu dlm batas tugas yg telah didelegasikan kepadanya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Menciptakan tanggung jawab (responsibility) bagi setiap bawahan yg menerima pendelegasian terhadap atasannya untuk melaksanakan tugas tsb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6000" y="5481720"/>
            <a:ext cx="1655640" cy="13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89B-6D17-4B23-860B-4F33C9B9149D}" type="slidenum">
              <a:t>9</a:t>
            </a:fld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5:42:55Z</dcterms:created>
  <dc:creator>AGUS PRASTYAWAN</dc:creator>
  <dc:description/>
  <dc:language>en-US</dc:language>
  <cp:lastModifiedBy>notebook1 pmpkn</cp:lastModifiedBy>
  <dcterms:modified xsi:type="dcterms:W3CDTF">2009-11-24T03:55:19Z</dcterms:modified>
  <cp:revision>20</cp:revision>
  <dc:subject/>
  <dc:title>PENDELEGASIAN WEWENANG </dc:title>
</cp:coreProperties>
</file>