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E4A-ABB5-43F7-979F-0F70E7AD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182-0132-420C-8CE8-C818A5A8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E1F-A421-4020-AF30-47214BE7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49F-CFEB-491E-8D09-C566CD1B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F526-C3A4-412A-B610-708BAB0D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7EB1-AFBF-40C7-A95A-0A2EB0AC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2D8E-8274-409F-A3E8-D5EC1A7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E52A-519B-496F-9A03-04FEDABE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1109-FFD2-4DEB-82EA-5118A7A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3038-A94F-4677-9DF6-6354DB7F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43DE-F17F-45AE-B421-31DE99A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B9F-3918-401A-8BAC-294D0C2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1C82-5B3B-4D66-8B93-91F1905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C9D6-10DC-443B-83D6-36D09A2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81A1-2957-4297-B217-E5D416D7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A565-AA92-4F82-8C24-80CAF0F0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947-1331-4731-9206-7B9C2CBB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292-5399-4D47-AA4E-E445B5A4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104-AD1B-4DC2-8E43-96C1F4B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516-C9D9-4926-B556-5AE227CF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230-BF3E-4B78-98B0-BF16DBD3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4C3-A6A1-4E5D-9873-5538FDB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A8E-F515-4AC3-A542-4685702A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94C-DC9A-4062-886A-C6D56E1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B78E-FC60-4503-80D2-F6BF578422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C6B-5CB7-46D6-8D41-D3F54C67CBB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ORGANIZING-part 3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ORDINAS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NTANG MANAJEMEN D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LIMPAHAN/PENDELEGASIAN  WEWENA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LEH 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ARID MA’RUF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TA KULIAH ASME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853-7B5B-4E55-984A-EFF19B985DE2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Tugas yg di delegasikan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Perencana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Pelaksanaan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Bidang Pengawas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Cara Mendelegasikan Wewenang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Garis Lurus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Garis Fungsional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071-DFF5-43FB-9EC0-94DC544E046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0000"/>
                </a:solidFill>
                <a:latin typeface="Comic Sans MS"/>
              </a:rPr>
              <a:t>Hambatan Dlm Pendelegasian Wewenang (Newman) Dari Sisi Atasan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Atasan menganggap dirinya lebih mampu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Kesulitan mengkomunikasikan rencana / ideny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Kurang kepercayaan pd bawah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Tdk adanya pengawasan yg selektif dari atas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Enggan memberikan kesempat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917-FE9A-47B3-A4EC-64D1055C58C1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0000"/>
                </a:solidFill>
                <a:latin typeface="Comic Sans MS"/>
              </a:rPr>
              <a:t>Dari sisi bawahan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Mental bawahan yg belum dewasa (enggan menerima tanggung jawab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Takut dikritik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Malas bertanggung jawab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Overload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Kurang Percaya Diri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-365040" algn="just">
              <a:lnSpc>
                <a:spcPct val="12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Insentif yg tidak menarik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65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59E-0A63-4C16-B4C5-A8F9B7273B2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0000"/>
                </a:solidFill>
                <a:latin typeface="Comic Sans MS"/>
              </a:rPr>
              <a:t>PENDELEGASIAN YG EFEKTIF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4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Putuskan tugas mana yg dpt didelegasika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Putuskan siapa yg akan mendpt penugasan (kompetensi penerima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Siapkan SD yg memadai untuk melaksanakan tugas tsb (Keuangan, staf pembantu, waktu dll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Delegasikanlah. Beri Informasi yg memadai &amp; gambaran hasil yg diharapkan (bkn metode yg hrs digunaka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Bersiap untuk campur tangan bila perlu (utusan kita menghadapi penolakan dari pihak lai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441360" indent="-44136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Tetapkan sistem umpan balik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BA7-7500-4938-B10C-D04628D611D8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pperplate Gothic Bold"/>
              </a:rPr>
              <a:t>Pelimpahan Wewenang (delegation of Authority) / Desentralisasi, 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Copperplate Gothic Bold"/>
              </a:rPr>
              <a:t>punya beberapa keuntung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Desentralisasi mendorong pengembangan manajer yg profesional (kepemimpina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Adanya kompetisi antar departemen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Para manajer mampu melaksanakan otonomi yg lebih banyak (self actualization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Proses pengambilan keputusan lebih cepat karena melibatkan beberapa pihak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236000" y="2276640"/>
            <a:ext cx="1288800" cy="12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01F-CEC6-4E40-9E92-4992A68A3F31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iaya/harga” yg hrs dibayar bila suatu organisasi beralih dari sentralisasi ke desentralisasi, yaitu 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Program pelatihan formal ttg Decision Making bagi para manajer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Manajer lama akan terganggu dg sistem ini (timbul “perlawanan”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Untuk merubah Sistem akunting &amp; sistem penilaian hasil karya memerlukan biaya yg sangat mahal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875-125B-448F-A97F-763CEBD2930E}" type="slidenum">
              <a:t>15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omic Sans MS"/>
              </a:rPr>
              <a:t>A. </a:t>
            </a:r>
            <a:r>
              <a:rPr b="1" lang="id-ID" sz="3600" spc="-1" strike="noStrike">
                <a:solidFill>
                  <a:srgbClr val="ff00ff"/>
                </a:solidFill>
                <a:latin typeface="Comic Sans MS"/>
              </a:rPr>
              <a:t>KOORDINAS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66"/>
                </a:solidFill>
                <a:latin typeface="Comic Sans MS"/>
              </a:rPr>
              <a:t>Koordinasi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Proses pengintegrasian tujuan2 &amp; Kegiatan2 pd satuan2 yg terpisah (departemen) dri suatu organisasi untuk mencapai tujuan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3 Macam Ketergantungan antara unit2 organisasi  (James D. Thompson)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eaeaea"/>
                </a:solidFill>
                <a:latin typeface="Comic Sans MS"/>
              </a:rPr>
              <a:t>1. </a:t>
            </a: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Saling ketergantungan yg menyatu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373720"/>
            <a:ext cx="23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visi Produk 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373720"/>
            <a:ext cx="237636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visi Produk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869000"/>
            <a:ext cx="0" cy="5047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4869000"/>
            <a:ext cx="0" cy="5047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4869000"/>
            <a:ext cx="3240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84720" y="4653000"/>
            <a:ext cx="0" cy="21600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6B6-4048-4A8D-81DC-5EF4DD87D4FD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aeaea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Saling Ketergantungan yg berurutan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eaeaea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Saling ketergantungan timbal balik 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155736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beli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55736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duk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2349360"/>
            <a:ext cx="100800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422100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elihara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4221000"/>
            <a:ext cx="22860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parteme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rasion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6237360"/>
            <a:ext cx="335304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580000" y="5660640"/>
            <a:ext cx="0" cy="57636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268360" y="5734080"/>
            <a:ext cx="0" cy="5032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98C-2A8A-474C-9472-9FA79EE6DC9F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Masalah-masalah Pencapaian Koordinas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yang Efektif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orientasi thd tujuan tertentu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dlm orientasi waktu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dlm orientasi antar pribadi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</a:rPr>
              <a:t>Perbedaan dlm formalitas struktur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D30-D1B3-44E9-9085-2C59F34DF9DF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B. RENTANG MANAJEM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pan of Control = Span of Authority = Span of Attention = Span of Supervision = Rentang Kendal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erkaitan dg jumlah bawahan yg dpt dikendalikan scr efektif oleh seorang manajer atau atas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A7B-4A9A-4B68-A526-6D42BBB5147C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79898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ungsi Rentang Manajemen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-3438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empengaruhi penggunaan efisiensi dari manajer &amp; pelaksanaan kerja efektif dari bawahan mereka. Terlalu lebar = tdk efisien. Terlalu sempit = Manajer tdk berfungs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-3438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ntang yg sempit = struktur organisasi tall, rentang yang lebar = struktur organisasi fla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erapa jumlah rentang manajemen yg ideal ??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ergantung pd besarnya organisasi, tekhnologi, spesialisasi, kegiatan2 rutin, tingkatan manajemen &amp; sifat2 pekerja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883-2882-4094-8FFE-EF2C96802DEE}" type="slidenum">
              <a:t>6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omic Sans MS"/>
              </a:rPr>
              <a:t>C. PENDELEGASIAN WEWENANG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Kekuasaan ( power)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mampuan untuk membuat orang lain terpengaruh atau kemampuan untuk memaksakan kehendaknya kepada orang lain sehingga orang lain mengikutiny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oontz &amp; Donnel mendefinisikan kewenangan (authority)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kuasaan yg sah yg memberika</a:t>
            </a:r>
            <a:r>
              <a:rPr b="0" lang="id-ID" sz="2400" spc="-1" strike="noStrike">
                <a:solidFill>
                  <a:srgbClr val="eaeae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hak untuk memerintah orang lain untuk bertindak atau tidak bertindak dlm suatu cara dlm rangka pencapaian tujuan organisasi”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nry L.Silk mendefinisikan Kewenangan 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“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k untuk bertindak atau mengarahkan tindakan orang lain dlm pencapaian tujuan organisasi”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219-8D0A-442D-9036-2D70318A3214}" type="slidenum">
              <a:t>7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Engravers MT"/>
              </a:rPr>
              <a:t>Sumber Kewenangan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Engravers MT"/>
              </a:rPr>
              <a:t> (William H. Newman) :</a:t>
            </a:r>
            <a:br>
              <a:rPr sz="2600"/>
            </a:b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Krn Peraturan Undang2 (Legal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krn Keahlian (Technical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krn hak tertinggi (Ultimate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ewenangan Operasi (Operational Authorit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umber Kewenangan (Koontz &amp; Donnel)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Teori kewenangan Formal (The Formal Authority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Teori Penerimaan (Acceptance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1800" indent="-271800" algn="just">
              <a:lnSpc>
                <a:spcPct val="15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Teori Kemampuan (The Competence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98048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D44-5B4D-4780-8400-1A43E8AD3B2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Engravers MT"/>
              </a:rPr>
              <a:t>Proses Pendelegasian Wewenang (W.H. Newmann) :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6630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Menunjuk atau memberikan tugas-tugas tertentu untuk dikelola oleh bawahan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Memberi izin kepada bawahan untuk membuat perjanjian, menggunakan sumber2 yg tersedia &amp; mengambil keputusan atau tindakan tertentu dlm batas tugas yg telah didelegasikan kepadanya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Menciptakan tanggung jawab (responsibility) bagi setiap bawahan yg menerima pendelegasian terhadap atasannya untuk melaksanakan tugas tsb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6000" y="5481720"/>
            <a:ext cx="1655640" cy="13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03D-37A1-49EE-A043-5ED7142D79DA}" type="slidenum">
              <a:t>9</a:t>
            </a:fld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5:42:55Z</dcterms:created>
  <dc:creator>AGUS PRASTYAWAN</dc:creator>
  <dc:description/>
  <dc:language>en-US</dc:language>
  <cp:lastModifiedBy>notebook1 pmpkn</cp:lastModifiedBy>
  <dcterms:modified xsi:type="dcterms:W3CDTF">2009-11-24T03:55:19Z</dcterms:modified>
  <cp:revision>20</cp:revision>
  <dc:subject/>
  <dc:title>PENDELEGASIAN WEWENANG </dc:title>
</cp:coreProperties>
</file>